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158413" cy="7621588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872-C8E1-4925-8484-EA5CC9CC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607-1717-473D-B811-728F04DD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CFD-4101-45EE-9392-A91BDCD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6E1-0FF7-479D-A6F7-FF418CA3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3C5-3319-469A-9016-1902468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770-A9C6-4471-9BD0-C1CC02FD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FEE-5899-4160-B36B-27356C3F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214-EE24-4864-9FF1-4F132E7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3AA-BF22-4871-AFF0-1A7079FA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A77-1287-43C0-AFA2-E00BFB6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1D8-D41B-4F0E-AB9F-9957CC7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B53-BA4C-4615-9692-CD2A678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E6E-7624-4C0F-932B-F5FEE012E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593040" y="6359400"/>
            <a:ext cx="247788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649920" y="6426360"/>
            <a:ext cx="2355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0/03/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449360" y="3227400"/>
            <a:ext cx="7589880" cy="2414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45840" y="3320640"/>
            <a:ext cx="74041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484280" y="2674800"/>
            <a:ext cx="7615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irección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7525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sistemas de gest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90640" y="1860120"/>
            <a:ext cx="59054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genera resultados utilizando diversas herramientas o sistemas de gest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onjunto de reglas institucionales orientadas a guiar, constreñir y motivar el servicio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ganización y estructura, servicio civil, gestión presupuestaria y financiera, adquisiciones, control de la fun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9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4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ampo de la Gerencia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04960" y="1541160"/>
            <a:ext cx="847080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mpo de estudio orientado a la generación de conocimiento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nális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 que pretende orientar el ejercicio efectivo de la función ejecutiva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pció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egún estándares profesionales), focalizado en cuatro á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eño de organizaciones programátic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on fuerte relación con el diseño organizativo en áreas de política pública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derazgo ejecutivo en el gobier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su impacto en la política pública (Ly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estión de las operaciones gubernament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estión del núcleo “productivo” y su relación con cooperador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olíticas de gestión públ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eglas y rutinas de gestión trasnversales a todo el sector público, y las agencias que las coord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ado en aportes de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varias disciplin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política pública, administración pública, gerencia, derecho, teoría organizac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asado en Barzelay, PMTD, LSE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¿Arte, Ciencia u Ofi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079800" y="2286000"/>
            <a:ext cx="624528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124080" y="23400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nifestación de la actividad humana mediante la cual se expresa una visión personal y desinteresada que interpreta lo real o imag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079800" y="3882960"/>
            <a:ext cx="62452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124080" y="3940200"/>
            <a:ext cx="61516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junto de conocimientos obtenidos mediante la observación y el razonamiento, sistemáticamente estructurados y de los que se deducen principios y leyes general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1152360" y="2127240"/>
            <a:ext cx="1038240" cy="12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3079800" y="5565600"/>
            <a:ext cx="6245280" cy="922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3124080" y="5621400"/>
            <a:ext cx="61516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studio y aplicación, por especialistas, de una o diversas ramas de conocimiento y/o tecnología con el objeto de generar bienes o servicios ú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5"/>
          <a:stretch/>
        </p:blipFill>
        <p:spPr>
          <a:xfrm>
            <a:off x="1311120" y="5407200"/>
            <a:ext cx="1187640" cy="12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6"/>
          <a:stretch/>
        </p:blipFill>
        <p:spPr>
          <a:xfrm>
            <a:off x="993600" y="3882960"/>
            <a:ext cx="1017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64840" y="979200"/>
            <a:ext cx="7189560" cy="65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e concentran en una idea centr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se hacen responsables del conjunto, no de los detalles preci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Optan entre múltiples alternativ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no hay una única solución posible y hay que elegir entre muchas opciones, combinando conocimiento nuevo y antigu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plican su juicio person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veniente de experiencia previa, a problemas que requieren adecuar conocimiento a la situación, mediante “reglas de tanteo” y haciendo supuestos impor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iteran su activida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idea, prototipo y producto..que será modificado sucesivas veces.. Avanzan por tanteo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ntregan un produc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oducen algo dentro de restricciones (de recursos, tiempo y conocimiento), buscando resolver problemas prácticos para algu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6372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nalogía: los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450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58920" y="127080"/>
            <a:ext cx="120780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8116920" y="5248440"/>
            <a:ext cx="17794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65200" y="979560"/>
            <a:ext cx="8710560" cy="63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genieros aplican conocimiento desarrollado por científicos. Utilizan conocimiento científico para resolver problemas prácticos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escriben solu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científicos generan conocimiento que pretende ser verdadero, aunque no necesariamente de utilidad práctica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xplican situ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o muy frecuentemente los ingenieros producen productos efectivos y los científicos explican por qué funcionan sólo después de que existen… no aplican conocimientos científicamente probados, sino que se arriesgan por producir soluciones út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23960" y="260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entíficos e ingen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245280" y="6900840"/>
            <a:ext cx="295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n, R. (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 gerencia pública como campo de cono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311120" y="2200320"/>
            <a:ext cx="3621240" cy="4024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368360" y="2265480"/>
            <a:ext cx="35035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ESCRIB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ómo enfrentar los problemas en la gestión y organiz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cuál es el mejor camino a seguir? ¿Funcionara en la situación plantead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convencer a los tomadores de decisiones sobre una recomend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227560" y="2200320"/>
            <a:ext cx="3705480" cy="4024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289480" y="2265480"/>
            <a:ext cx="358164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I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Por qué se decide enfrentar los problemas de gestión de una form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¿Qué consecuencias tiene una alternativa? ¿Por qué funcion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bjetiv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: explicar la decisión, su ejecución y sus consecu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1311120" y="6445080"/>
            <a:ext cx="3695760" cy="825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1363680" y="6500880"/>
            <a:ext cx="3592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comend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prác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5238720" y="6445080"/>
            <a:ext cx="3683160" cy="793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5284800" y="6500880"/>
            <a:ext cx="35924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eneralizaciones (teorí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izquierda: recomend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960" y="1460160"/>
            <a:ext cx="8299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desempeñar estas funciones de manera eficaz? ¿Cómo lograr resultados positivo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152360" y="2687760"/>
            <a:ext cx="601344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518000" y="5565600"/>
            <a:ext cx="121932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032520" y="5565600"/>
            <a:ext cx="1260360" cy="161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7556400" y="5565600"/>
            <a:ext cx="11224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3840" y="1139400"/>
            <a:ext cx="87915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logran abrirse paso determinadas ideas, ser aprobadas y puestas en práct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ja izquierda: prescrib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4200" y="2819520"/>
            <a:ext cx="671040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od &amp; Jacson ponen énfasis en analizar la relación argumento/aceptación más que diseño/desempeño (“verdad”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efecto de argumento administrativo está en función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ceptabil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necesariamente de su veracidad: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tór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ene un rol central en el desarrollo de ideas administrativ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7397640" y="2762280"/>
            <a:ext cx="2276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83840" y="1380600"/>
            <a:ext cx="905508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práctica los argumentos no triunfan por una consideración de cuál conduce a un desempeño objetivamente superior (veracidad, verificación) sino por los factores que las hacen acep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 basan en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lógica flexi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no en un silogismo riguroso: uso de la metáfora, el ejemplo, la analogía, la selección de argumentos, la ambigüedad y la eliminación de la du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 rotación de ideas no depende de argumentos definitivos emanados de una análisis riguroso de datos, sino de su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der retóric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arte de bien decir para dar al lenguaje eficacia suficiente para deleitar, persuadir o conmove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04960" y="17928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tor de acep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83840" y="1620360"/>
            <a:ext cx="687060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nalista de políticas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ductor de argumento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no demuestra la corrección objetiva de sus conclusiones, sino que produce pruebas persuasivas y argumentos razon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argumento analítico proce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rtesanalm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del dato a la elaboración de información, para construir evidencia (información seleccionada introducida en un punto del argumento) que sustenta una recomend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aboración de políticas: artesan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640640" y="2127240"/>
            <a:ext cx="21398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750960" y="2104920"/>
            <a:ext cx="5018040" cy="400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1080" y="2171880"/>
            <a:ext cx="489600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Reorientando las remesas de los emigrantes hacia el financiamiento del desarrollo local en El Salvador. El Programa Unidos por la solidaridad (PUP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22160" y="1066680"/>
            <a:ext cx="50752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alicemos un c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032520" y="3809880"/>
            <a:ext cx="3387600" cy="282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8434440" y="2444760"/>
            <a:ext cx="1197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44720" y="1860120"/>
            <a:ext cx="831024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Estamos entonces en una selva donde vale cualquier cosa siempre y cuando convenza? ¿O es posible construir un espacio de dialogo seri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bandonada la pretensión de certeza objetiva, el anarquismo metodológico sólo se evita concentrándose en el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oces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de argumentació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glas de argumentación válida (forma y conteni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senso de expertos gracias al seguimient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normas metodológicas del ca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23960" y="339480"/>
            <a:ext cx="8712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criterio: calidad del proceso de argu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4200" y="179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explica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84200" y="1301760"/>
            <a:ext cx="8299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Por qué se desempeñaron estas funciones de la manera en que ocurrió? ¿Por qué se logró un resultado positivo/nega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68480" y="2517840"/>
            <a:ext cx="7462800" cy="33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835680" y="5810400"/>
            <a:ext cx="1133640" cy="168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470560" y="5810400"/>
            <a:ext cx="1198440" cy="168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8191440" y="5810400"/>
            <a:ext cx="1143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400" y="3394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ja derecha: ¿explicar con base a principios o regl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84200" y="2021040"/>
            <a:ext cx="719136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ómo generar conocimiento para la práctica de la gestión públ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de principios prescriptivos destilados (inducidos) a partir de experiencias y situaciones específicas (“buenas prácticas”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princip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idación empírica de proposiciones útiles derivadas (deducidas) de cuerpos teóricos generales (heurística aplicada):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eg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567720" cy="397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66720" y="5724360"/>
            <a:ext cx="8826480" cy="134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728640" y="5786280"/>
            <a:ext cx="8701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 buen gerente público debe ser capaz de aprender, lo que implica que capacidad para aplicar un repertorio de abstracciones (conocimiento teórico) a nuevas situaciones y de redefinir los problemas y tareas según requieran las circunstancias (Lynn, 1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372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a alternativa: ciencia clí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23960" y="2021040"/>
            <a:ext cx="847260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ocimiento orientado a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ráct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simultáneament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basado en evidenci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álisis de situaciones particulares (análisis de cas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boración y prueba de generalizaciones limitadas (“teoría fundad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ción de dichas generalizaciones para fundamentar, ampliar, o corregir las recomendaciones prescriptivas vigentes en el ca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tilizar la experiencia de los gerentes para refinar las generaliz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 problema central: cómo transferir válidamente generalizaciones emanadas de un contexto a otro diferente, siendo que prácticas gerenciales son muy sensibles al contex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cc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376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¿Se puede vincular ambas mirada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33440" y="1809720"/>
            <a:ext cx="4330800" cy="207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93600" y="428616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603760" y="1541520"/>
            <a:ext cx="4311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nálisis del desempeño de las funciones gerenciales y la comprensión de su desarrollo debieran ser fuente de recomendaciones sobre qué debe hacer un gerente público (práctica profesion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l aprendizaje en el campo debiera avanzar con base en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generalizaciones limitad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a partir de la comprensión de situaciones particulares. Tales generalizaciones pueden ser aplicables a otras situaciones (problema de transferencia de un contexto a ot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422280" y="3946680"/>
            <a:ext cx="434880" cy="36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4826160" y="3946680"/>
            <a:ext cx="4348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397320" y="3406680"/>
            <a:ext cx="5937120" cy="325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43400" y="3460680"/>
            <a:ext cx="58370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¿Cómo definir el rol de Ernesto Nosthas?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Directivo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Gerente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Administrador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.. simplemente un ejecutiv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676440" y="1322280"/>
            <a:ext cx="23414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83800" y="1139400"/>
            <a:ext cx="830916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Arial"/>
              </a:rPr>
              <a:t>¿Cuál fue su ro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jerció autoridad pública (estatal), realizó actividades y utilizó recursos públicos: ejerció l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ón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administró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cursos del Es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ovechó la situación para satisfacer demandas/necesidades de los ciudadanos: generó y sacó provecho de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inesperada) para generar alg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io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eño un programa nuevo y lo fue adaptando a los problemas y oportunidades que aparecieron en el camino: diseñó un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ia innovador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fue adaptándola sobre la march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121932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Gerente Público: ejecutivo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03480" y="2739600"/>
            <a:ext cx="5991120" cy="43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la rama ejecutiva del gobierno, los oficiales comparten y ejerce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autoridad ejecutiv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la autoridad para dirigir las acciones de ot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campo de la gerencia pública incluye el rol (desempeño) de los oficiales y organizaciones que comparten (ejercen) autoridad ejecutiva y su impacto colectivo en las políticas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83840" cy="5261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04960" y="745200"/>
            <a:ext cx="854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 algn="ctr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 Rol del Gerente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ovecha oportun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84160" y="2099880"/>
            <a:ext cx="591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aquel que identifica y aprovecha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oportunidad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que incrementan el valor del negocio, corriendo los riesgos consiguientes: espíritu empresarial o emprende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 gerentes públicos debieran incorporar este espíritu empresarial: para eso es necesario que puedan asumi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280280" y="2529000"/>
            <a:ext cx="1736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reador de valor para los ciudad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02880" y="2007720"/>
            <a:ext cx="626436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identifica, genera y aprovecha oportunidades para crear e incrementar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ara los ciudad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público es un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strateg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dado que el núcleo central de toda estrategia es crear el mayor valor po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 el mundo público el valor creado tiene carácter público: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valor pú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470720" y="2286000"/>
            <a:ext cx="21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4960" y="260280"/>
            <a:ext cx="87105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rente Público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able por el proceso de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3800" y="2070000"/>
            <a:ext cx="574380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l gerente es quién se hac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respons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or el desempeño de un sistema: responsable por result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¿Cuál sistema? El desarrollo del proceso de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política pública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el gerente es un actor central en el ciclo de política, a lo largo del cual desempeña distintos roles o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456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4960" y="420840"/>
            <a:ext cx="87105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Una forma de conceptualizar este ro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84160" y="1620720"/>
            <a:ext cx="8299440" cy="15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El rol del gerent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 crear valor a lo largo del proceso de política pública: distintas </a:t>
            </a: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funciones gerencial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ejecutivas) a lo largo del proceso de política públi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39800" y="3565440"/>
            <a:ext cx="72820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uario</cp:lastModifiedBy>
  <dcterms:modified xsi:type="dcterms:W3CDTF">2010-06-04T02:51:05Z</dcterms:modified>
  <cp:revision>7</cp:revision>
  <dc:subject/>
  <dc:title>PowerPoint Presentation</dc:title>
</cp:coreProperties>
</file>