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AC5FE-3949-4ADD-9B7A-B5B6D8629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2E1D-8721-4D00-831D-6480361E4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B6F98-B514-4199-BAA4-437A02F88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C3FF0-54DA-4CCF-8D46-0DB363A05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23041-AC86-42F8-9688-3D8E258C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13180-E1F7-443E-BC5C-701ACFF6F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505BD-35BD-4534-ABBD-6F3A55E8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ADDA-020C-4FFB-9FE9-152E7354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C71DB-9C7E-43CE-88CF-ED4621A55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8A73-C0D0-4168-AEA5-BED6526A0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4FC2D-C1BC-418D-BF9B-5503E06FD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262EC-BD65-49B2-B3EC-F30EC2148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B670-D407-4CBF-A7DA-99DF5BACCCA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Anthony Downs:</a:t>
            </a:r>
            <a:br>
              <a:rPr sz="3200"/>
            </a:br>
            <a:r>
              <a:rPr b="0" lang="es-ES" sz="3200" spc="-1" strike="noStrike">
                <a:solidFill>
                  <a:srgbClr val="c00000"/>
                </a:solidFill>
                <a:latin typeface="Calibri"/>
              </a:rPr>
              <a:t>una teoría económica de la democracia</a:t>
            </a:r>
            <a:br>
              <a:rPr sz="3200"/>
            </a:br>
            <a:r>
              <a:rPr b="0" lang="es-ES" sz="3200" spc="-1" strike="noStrike">
                <a:solidFill>
                  <a:srgbClr val="c00000"/>
                </a:solidFill>
                <a:latin typeface="Calibri"/>
              </a:rPr>
              <a:t>(parte final presentación)</a:t>
            </a:r>
            <a:endParaRPr b="0" lang="en-US" sz="32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El papel de las ideología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ignorancia racional</a:t>
            </a: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s defensores de la democracia tradicionalmente han sostenido que los ciudadanos deberían estar bien informados dado que: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los ciudadanos  saben qué políticas son las mejores para sus intereses, el gobierno se vería forzado a seguir aquellas políticas para evitar su fracas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los beneficios  de estas políticas recaen sobre cada uno de los ciudadanos, independientemente de si han contribuido o no a ponerlas en práctic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dividuo recibe estos beneficios, tanto si está bien informado como si n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36" dur="2000"/>
                                        <p:tgtEl>
                                          <p:spTgt spid="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1" dur="2000"/>
                                        <p:tgtEl>
                                          <p:spTgt spid="5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46" dur="2000"/>
                                        <p:tgtEl>
                                          <p:spTgt spid="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1"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otro lado, cuando nadie está bien informado, el individuo no puede generar estos beneficios informándose bien él mismo, puesto que para lograrlo se requiere un esfuerzo colectiv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í, pues, cuando los beneficios son indivisibles, cada individuo tiene siempre motivos para evadir su participación en el coste de obtene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supone  que el comportamiento de los demás está dado, el que reciba o no beneficios no dependerá de su propio esfuerzo, pero el coste con que contribuye sí que depende de su esfuerzo.</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8" dur="2000"/>
                                        <p:tgtEl>
                                          <p:spTgt spid="5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3" dur="2000"/>
                                        <p:tgtEl>
                                          <p:spTgt spid="5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68"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consiguiente, el comportamiento más racional para él es minimizar este coste, es decir, permanecer políticamente des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esto que todos los individuos razonan del mismo modo, ninguno contribuye al coste, y no se generan benefici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consecuencia, es racional, desde el punto de vista de cada individuo, el minimizar su inversión en información política, a pesar de que la mayoría de los ciudadanos podría beneficiarse sustancialmente si todo el electorado estuviese bien 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75" dur="2000"/>
                                        <p:tgtEl>
                                          <p:spTgt spid="5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0" dur="2000"/>
                                        <p:tgtEl>
                                          <p:spTgt spid="56">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5"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a consecuencia de esto: los sistemas democráticos se ven obligados a operar con una eficiencia menor que la máxim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gobierno no sirve a los intereses de la mayoría tan bien como lo haría si ésta estuviera bien informad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nunca se informará bien, puesto que el hacerlo es colectivamente racional, pero individualmente irracional; y en ausencia de cualquier mecanismo que asegure una acción colectiva (por ejemplo, un agente central coercitivo), prevalece la racionalidad individu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2" dur="2000"/>
                                        <p:tgtEl>
                                          <p:spTgt spid="5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97" dur="2000"/>
                                        <p:tgtEl>
                                          <p:spTgt spid="5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7">
                                            <p:txEl>
                                              <p:pRg st="2" end="2"/>
                                            </p:txEl>
                                          </p:spTgt>
                                        </p:tgtEl>
                                        <p:attrNameLst>
                                          <p:attrName>style.visibility</p:attrName>
                                        </p:attrNameLst>
                                      </p:cBhvr>
                                      <p:to>
                                        <p:strVal val="visible"/>
                                      </p:to>
                                    </p:set>
                                    <p:animEffect filter="fade" transition="in">
                                      <p:cBhvr additive="repl">
                                        <p:cTn id="202"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sumen de 3.1.</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a muchos votantes, el comportamiento racional es mantenerse políticamente poco informados. En lo que se refiere a la votación, cualquier intento de adquirir información, más allá del flujo de datos “gratuitos”, es para el votante un simple despilfarro de recursos. Lo anterior se aleja completamente del concepto tradicional del buen ciudadano. ¿Cómo se explica esto?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209"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499680" y="500040"/>
            <a:ext cx="8186760" cy="562608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espuesta de Downs es que los beneficios que la mayoría de los ciudadanos obtendría si viviese con un electorado bien informado son indivisibles, pero los costes son individuales.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sí, pues, cuando los beneficios son indivisibles, cada individuo tiene un fuerte incentivo para evadir su participación en el coste de obtenerlos (la conducta del </a:t>
            </a:r>
            <a:r>
              <a:rPr b="0" i="1" lang="es-ES" sz="2800" spc="-1" strike="noStrike">
                <a:solidFill>
                  <a:srgbClr val="ffffff"/>
                </a:solidFill>
                <a:latin typeface="Calibri"/>
              </a:rPr>
              <a:t>free rider</a:t>
            </a:r>
            <a:r>
              <a:rPr b="0" lang="es-ES" sz="2800" spc="-1" strike="noStrike">
                <a:solidFill>
                  <a:srgbClr val="ffffff"/>
                </a:solidFill>
                <a:latin typeface="Calibri"/>
              </a:rPr>
              <a:t>). El gobierno no sirve tan bien a los intereses de la mayoría como sí lo haría si ésta estuviera bien informada. Pero la mayoría nunca estará bien informada, puesto que el hacerlo es colectivamente racional, pero individualmente irracion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6" dur="20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1"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2. La formación de grupos de presión</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xplicación del surgimiento de los grupos de presión: surgen como consecuencia de la ignorancia racional del votante individual</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papel: entregan una forma más eficiente de influencia para los ciudadanos y una fuente de información más eficiente para los gobiern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8" dur="2000"/>
                                        <p:tgtEl>
                                          <p:spTgt spid="6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fenómeno permite entender por qué un gobierno tiende a favorecer los intereses de los ciudadanos organizados en grupos de presión, esto es, como productores (específicamente informados en aquellas áreas de la política gubernamental que afectan a las fuentes de sus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n  embargo, los gobiernos tienden a explotar al ciudadano en cuanto consumidor (pues el ciudadano común normalmente permanece desinformado sobre el </a:t>
            </a:r>
            <a:r>
              <a:rPr b="0" lang="en-US" sz="2800" spc="-1" strike="noStrike" u="sng">
                <a:solidFill>
                  <a:srgbClr val="ffffff"/>
                </a:solidFill>
                <a:uFillTx/>
                <a:latin typeface="Calibri"/>
              </a:rPr>
              <a:t>total</a:t>
            </a:r>
            <a:r>
              <a:rPr b="0" lang="en-US" sz="2800" spc="-1" strike="noStrike">
                <a:solidFill>
                  <a:srgbClr val="ffffff"/>
                </a:solidFill>
                <a:latin typeface="Calibri"/>
              </a:rPr>
              <a:t> de aquellas áreas de la política gubernamental que afectan su consumo).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0" dur="2000"/>
                                        <p:tgtEl>
                                          <p:spTgt spid="6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45"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28400" y="356760"/>
            <a:ext cx="8258040" cy="60008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a el ciudadano común, sería irracional actuar de otro modo, pues el coste de la información no sería compensado por el eventual beneficio que reportaría el ahorro en algún producto que consume. Como agente racional, lo sabe y se deja “explotar” como consumidor, focalizando su acción como parte de un grupo de presión en las áreas de la política gubernamental que afectan sus fuentes de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imismo, es también racional la conducta de los gobiernos al ceder frente a las demandas de los grupos de presión (los ciudadanos como “productores”) y perjudicar a los ciudadanos como consumidor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
                                            <p:txEl>
                                              <p:pRg st="0" end="0"/>
                                            </p:txEl>
                                          </p:spTgt>
                                        </p:tgtEl>
                                        <p:attrNameLst>
                                          <p:attrName>style.visibility</p:attrName>
                                        </p:attrNameLst>
                                      </p:cBhvr>
                                      <p:to>
                                        <p:strVal val="visible"/>
                                      </p:to>
                                    </p:set>
                                    <p:animEffect filter="fade" transition="in">
                                      <p:cBhvr additive="repl">
                                        <p:cTn id="252" dur="2000"/>
                                        <p:tgtEl>
                                          <p:spTgt spid="6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5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2. El papel de las ideología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predominio de las ideologías en la política democrática parece desmentir la hipótesis de la teoría:</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partidos políticos formulan sus políticas para ganar elecciones, más que ganar las elecciones para formular política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miembros de un partido escogen una ideología que gane votos, no una en la que crean, ya que su objetivo es llegar al gobierno, no la creación de un gobierno mejo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8400" y="571320"/>
            <a:ext cx="8258040" cy="5554440"/>
          </a:xfrm>
          <a:prstGeom prst="rect">
            <a:avLst/>
          </a:prstGeom>
          <a:noFill/>
          <a:ln w="0">
            <a:noFill/>
          </a:ln>
        </p:spPr>
        <p:txBody>
          <a:bodyPr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 presencia de las ideologías en política  puede “deducirse de la premisa de que los partidos buscan el poder solamente por la renta, la influencia y el prestigio que lo acompañan”  (p. 101)</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s costes de información muy altos en una sociedad compleja.</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estas condiciones, muchos votantes encuentran útiles las ideologías de partido, porque evitan la necesidad de informarse detalladament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28400" y="500040"/>
            <a:ext cx="8258040" cy="562608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votante así puede reducir drásticamente su gasto en información política, informándose únicamente acerca de las ideologías de los partidos o candidatos en competencia, en lugar de un amplio conjunto de cuestione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De esta manera -concluye- la falta de información crea una demanda de ideologías en el electorado. Puesto que los partidos políticos están dispuestos a utilizar cualquier método viable para ganar votos, responderán creando una oferta. Cada partido inventa una ideología para atraer votos de aquellos ciudadanos que desean reducir sus costes votando ideológicamente” (p. 101)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fade" transition="in">
                                      <p:cBhvr additive="repl">
                                        <p:cTn id="29" dur="20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fade" transition="in">
                                      <p:cBhvr additive="repl">
                                        <p:cTn id="34"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clara Downs, que este “razonamiento no significa que los partidos pueden variar sus ideologías como si fuesen disfraces, poniéndose cualquier vestido adecuado a la situac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Una vez que un partido ha colocado su ideología en el “mercado” no puede abandonarla repentinamente o alterarla radicalmente sin provocar desconfianza en los votant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los partidos no pueden adoptar ideologías idénticas, porque deben crear diferencias suficientes para que su producto (la ideología) se distinga del de sus riva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fade" transition="in">
                                      <p:cBhvr additive="repl">
                                        <p:cTn id="5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 La ignorancia racional</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lo que se refiere al ciudadano medio, existen dos decisiones que exigen información:</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 La primera es decidir por qué candidato o partido va a votar (“La decisión de voto”).</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 La segunda es decidir en qué asuntos ejercer la influencia directa sobre las políticas del gobierno (“Cómo formar grupos de presión”)</a:t>
            </a:r>
            <a:endParaRPr b="0" lang="en-US" sz="3200" spc="-1" strike="noStrike">
              <a:solidFill>
                <a:srgbClr val="ffffff"/>
              </a:solidFill>
              <a:latin typeface="Calibri"/>
            </a:endParaRPr>
          </a:p>
        </p:txBody>
      </p:sp>
    </p:spTree>
  </p:cSld>
  <p:transition>
    <p:wipe dir="r"/>
    <p:sndAc>
      <p:stSnd>
        <p:snd r:embed="rId2" name="click.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1" end="1"/>
                                            </p:txEl>
                                          </p:spTgt>
                                        </p:tgtEl>
                                        <p:attrNameLst>
                                          <p:attrName>style.visibility</p:attrName>
                                        </p:attrNameLst>
                                      </p:cBhvr>
                                      <p:to>
                                        <p:strVal val="visible"/>
                                      </p:to>
                                    </p:set>
                                    <p:animEffect filter="fade" transition="in">
                                      <p:cBhvr additive="repl">
                                        <p:cTn id="63" dur="2000"/>
                                        <p:tgtEl>
                                          <p:spTgt spid="4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xEl>
                                              <p:pRg st="2" end="2"/>
                                            </p:txEl>
                                          </p:spTgt>
                                        </p:tgtEl>
                                        <p:attrNameLst>
                                          <p:attrName>style.visibility</p:attrName>
                                        </p:attrNameLst>
                                      </p:cBhvr>
                                      <p:to>
                                        <p:strVal val="visible"/>
                                      </p:to>
                                    </p:set>
                                    <p:animEffect filter="fade" transition="in">
                                      <p:cBhvr additive="repl">
                                        <p:cTn id="68"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1. La decisión de voto</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ormarse para optimizar su voto, ¿es racional?</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iste siempre un flujo de información “gratuit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significancia de cualquier votante particular en un amplio elector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a mayoría de los casos, la probabilidad de que un voto particular sea decisivo es tan ínfima que hace infinitesimal el ingreso como consecuencia de votar “correctam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centivo  para informarse bien es muy baj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0" end="0"/>
                                            </p:txEl>
                                          </p:spTgt>
                                        </p:tgtEl>
                                        <p:attrNameLst>
                                          <p:attrName>style.visibility</p:attrName>
                                        </p:attrNameLst>
                                      </p:cBhvr>
                                      <p:to>
                                        <p:strVal val="visible"/>
                                      </p:to>
                                    </p:set>
                                    <p:animEffect filter="fade" transition="in">
                                      <p:cBhvr additive="repl">
                                        <p:cTn id="75" dur="2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fade" transition="in">
                                      <p:cBhvr additive="repl">
                                        <p:cTn id="80" dur="2000"/>
                                        <p:tgtEl>
                                          <p:spTgt spid="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xEl>
                                              <p:pRg st="2" end="2"/>
                                            </p:txEl>
                                          </p:spTgt>
                                        </p:tgtEl>
                                        <p:attrNameLst>
                                          <p:attrName>style.visibility</p:attrName>
                                        </p:attrNameLst>
                                      </p:cBhvr>
                                      <p:to>
                                        <p:strVal val="visible"/>
                                      </p:to>
                                    </p:set>
                                    <p:animEffect filter="fade" transition="in">
                                      <p:cBhvr additive="repl">
                                        <p:cTn id="85" dur="2000"/>
                                        <p:tgtEl>
                                          <p:spTgt spid="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90" dur="2000"/>
                                        <p:tgtEl>
                                          <p:spTgt spid="5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animEffect filter="fade" transition="in">
                                      <p:cBhvr additive="repl">
                                        <p:cTn id="95"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lo tanto, alcanzamos la sorprendente conclusión de que es irracional que </a:t>
            </a:r>
            <a:r>
              <a:rPr b="0" lang="en-US" sz="2800" spc="-1" strike="noStrike" u="sng">
                <a:solidFill>
                  <a:srgbClr val="ffffff"/>
                </a:solidFill>
                <a:uFillTx/>
                <a:latin typeface="Calibri"/>
              </a:rPr>
              <a:t>la mayoría </a:t>
            </a:r>
            <a:r>
              <a:rPr b="0" lang="en-US" sz="2800" spc="-1" strike="noStrike">
                <a:solidFill>
                  <a:srgbClr val="ffffff"/>
                </a:solidFill>
                <a:latin typeface="Calibri"/>
              </a:rPr>
              <a:t>de los ciudadanos adquieran información política con propósitos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ignorancia en política no es consecuencia de una actitud apática y poco patriótica; es, más bien, una respuesta completamente racional a los hechos de la vida política en una democracia ampli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comportamiento racional para la mayoría de los ciudadanos es permanecer políticamente poco informad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2" dur="20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7" dur="2000"/>
                                        <p:tgtEl>
                                          <p:spTgt spid="5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o que se refiere a la votación, cualquier intento de adquirir información, más allá de la que proporciona el flujo de datos “gratuitos”, es para este votante un simple despilfarro de recurs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ómo podemos explicar la disparidad que existe entre esta conclusión y el concepto tradicional del buen ciudadan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respuesta es que los beneficios que la mayoría de los ciudadanos obtendría si viviese en una sociedad con un electorado bien informado son, por naturaleza, indivisib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4" dur="2000"/>
                                        <p:tgtEl>
                                          <p:spTgt spid="5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9"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36:36Z</dcterms:created>
  <dc:creator>vasco</dc:creator>
  <dc:description/>
  <dc:language>en-US</dc:language>
  <cp:lastModifiedBy>Vasco</cp:lastModifiedBy>
  <dcterms:modified xsi:type="dcterms:W3CDTF">2010-07-02T12:37:08Z</dcterms:modified>
  <cp:revision>25</cp:revision>
  <dc:subject/>
  <dc:title>Anthony Downs: una teoría económica de la democracia</dc:title>
</cp:coreProperties>
</file>