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4147E-CD52-414E-A03E-CD600A10C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F300-F36D-462D-8E96-545A6F770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F2A8-AB4D-4F49-85C5-B3542C848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D39A0-981A-4ACD-9945-4E03F582A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1273-0484-4AC7-9837-1DF56221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8DF7-C761-4AC6-9029-EC6D2E35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1682-16ED-4794-902A-D1BA6FE1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AC72-8A62-4FD3-9730-48F489B7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815D-4026-48FD-BF0A-B4D9F2510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EDA7-42F5-4E8F-AC76-D3E75CC1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7651-286F-41FE-8C93-17E815A7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ABF0-AC87-4209-A1B1-2E8882E3B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6B50-B07B-4A70-AC19-21F4433028D5}"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Arial Black"/>
                <a:ea typeface="Arial Unicode MS"/>
              </a:rPr>
              <a:t>Una Teoría Económica de la Democracia (1957)</a:t>
            </a:r>
            <a:br>
              <a:rPr sz="2800"/>
            </a:br>
            <a:r>
              <a:rPr b="0" lang="es-ES" sz="2800" spc="-1" strike="noStrike">
                <a:solidFill>
                  <a:srgbClr val="c00000"/>
                </a:solidFill>
                <a:latin typeface="Arial Black"/>
                <a:ea typeface="Arial Unicode MS"/>
              </a:rPr>
              <a:t>Anthony Downs </a:t>
            </a:r>
            <a:endParaRPr b="0" lang="en-US" sz="2800" spc="-1" strike="noStrike">
              <a:solidFill>
                <a:srgbClr val="ffffff"/>
              </a:solidFill>
              <a:latin typeface="Calibri"/>
            </a:endParaRPr>
          </a:p>
        </p:txBody>
      </p:sp>
      <p:pic>
        <p:nvPicPr>
          <p:cNvPr id="42" name="4 Marcador de contenido" descr="Downs[1].jpg"/>
          <p:cNvPicPr/>
          <p:nvPr/>
        </p:nvPicPr>
        <p:blipFill>
          <a:blip r:embed="rId1"/>
          <a:stretch/>
        </p:blipFill>
        <p:spPr>
          <a:xfrm>
            <a:off x="950760" y="1600200"/>
            <a:ext cx="3051360" cy="4525920"/>
          </a:xfrm>
          <a:prstGeom prst="rect">
            <a:avLst/>
          </a:prstGeom>
          <a:ln w="0">
            <a:noFill/>
          </a:ln>
        </p:spPr>
      </p:pic>
      <p:pic>
        <p:nvPicPr>
          <p:cNvPr id="43" name="5 Marcador de contenido" descr="0060417501[1].jpg"/>
          <p:cNvPicPr/>
          <p:nvPr/>
        </p:nvPicPr>
        <p:blipFill>
          <a:blip r:embed="rId2"/>
          <a:stretch/>
        </p:blipFill>
        <p:spPr>
          <a:xfrm>
            <a:off x="5200560" y="1600200"/>
            <a:ext cx="293364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500040"/>
            <a:ext cx="8258040" cy="5626080"/>
          </a:xfrm>
          <a:prstGeom prst="rect">
            <a:avLst/>
          </a:prstGeom>
          <a:noFill/>
          <a:ln w="0">
            <a:noFill/>
          </a:ln>
        </p:spPr>
        <p:txBody>
          <a:bodyPr anchor="t">
            <a:normAutofit fontScale="96000"/>
          </a:bodyPr>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De la misma manera, cualquier otro agente realiza su función social en primer lugar como medio para lograr sus propios fines privados: la obtención de una renta, de prestigio o de poder”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Gran parte de la teoría económica consiste en esencia, en probar que los hombres que persiguen sus propios fines pueden, también, realizar sus función social con gran eficiencia, al menos en ciertas condiciones”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Regresemos ahora al final del artículo (p. 110): “Si mi hipótesis es cierta, la finalidad del gobierno es conseguir la renta, el poder y el prestigio que supone gobernar” (pp. 110-111)</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6" dur="2000"/>
                                        <p:tgtEl>
                                          <p:spTgt spid="5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1" dur="2000"/>
                                        <p:tgtEl>
                                          <p:spTgt spid="5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6"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500040"/>
            <a:ext cx="8258040" cy="562608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a hipótesis central del modelo económico de la democracia:</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los partidos políticos formulan su política estrictamente como medio para obtener votos” (p. 96)</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lo tanto, su función social (que consiste en elaborar y realizar políticas mientras se encuentran en el poder) es un subproducto de sus motivaciones privadas (que buscan obtener la renta, el poder y el prestigio que supone gobernar)” (p. 96)</a:t>
            </a:r>
            <a:endParaRPr b="0" lang="en-US" sz="3200" spc="-1" strike="noStrike">
              <a:solidFill>
                <a:srgbClr val="ffffff"/>
              </a:solidFill>
              <a:latin typeface="Calibri"/>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3" dur="2000"/>
                                        <p:tgtEl>
                                          <p:spTgt spid="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8" dur="2000"/>
                                        <p:tgtEl>
                                          <p:spTgt spid="55">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esta hipótesis supone que el gobierno siempre actúa para maximizar su caudal de votos; es un empresario que vende política a cambio de votos en lugar de productos a cambio de dinero. Además debe competir con otros partidos para obtener esos votos, igual que dos o más oligopolios que compiten para vender en un mercado” (p. 96)</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400" y="356760"/>
            <a:ext cx="8258040" cy="5769000"/>
          </a:xfrm>
          <a:prstGeom prst="rect">
            <a:avLst/>
          </a:prstGeom>
          <a:noFill/>
          <a:ln w="0">
            <a:noFill/>
          </a:ln>
        </p:spPr>
        <p:txBody>
          <a:bodyPr anchor="t">
            <a:normAutofit/>
          </a:bodyPr>
          <a:p>
            <a:pPr marL="343080" indent="-343080" algn="ct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Los votantes también actúan racionalmente: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cada uno de ellos considera las elecciones estrictamente como medio para seleccionar el gobierno que más los beneficia. Cada ciudadano estima la utilidad o renta que obtendría de las acciones que espera de cada partido si estuviera en el poder en el siguiente período electivo,  es decir, primero evalúa la utilidad-renta que le proporcionaría el partido A, después la que le proporcionaría el partido B y así sucesivamente. Votará por el que considere que le proporcionará la mayor utilidad con su acción gubernamental” (p. 97)</a:t>
            </a:r>
            <a:endParaRPr b="0" lang="en-US" sz="2800" spc="-1" strike="noStrike">
              <a:solidFill>
                <a:srgbClr val="ffffff"/>
              </a:solidFill>
              <a:latin typeface="Calibri"/>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0" dur="2000"/>
                                        <p:tgtEl>
                                          <p:spTgt spid="5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El enunciado básico del modelo</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el modelo cada agente se comporta racionalmente en todo momento: es decir, persigue sus fines con el mínimo empleo de recursos escasos y sólo emprende acciones en las que el ingreso marginal excede el coste marginal” (p. 96)</a:t>
            </a:r>
            <a:endParaRPr b="0" lang="en-US" sz="3200" spc="-1" strike="noStrike">
              <a:solidFill>
                <a:srgbClr val="ffffff"/>
              </a:solidFill>
              <a:latin typeface="Calibri"/>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2"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00040" y="571680"/>
            <a:ext cx="8229600" cy="5643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modelo de Downs, el enunciado básico es que la conducta social y política deriva en último término de un comportamiento de agentes maximizadores racionales de su propio bie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de este comportamiento se funda en un análisis (previo) de coste-benefici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sí, racional significa aquí:</a:t>
            </a:r>
            <a:endParaRPr b="0" lang="en-US" sz="3200" spc="-1" strike="noStrike">
              <a:solidFill>
                <a:srgbClr val="ffffff"/>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9" dur="2000"/>
                                        <p:tgtEl>
                                          <p:spTgt spid="6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4" dur="2000"/>
                                        <p:tgtEl>
                                          <p:spTgt spid="6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el comportamiento con que se espera  el máximo de los beneficios con el mínimo de los coste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la elección de los medios óptimos para conseguir sus fines (fines son las “preferencias” de los agentes, que pueden ser muy variados y no necesariamente racional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acionalidad se dirige a la elección de los medios, esto es, el empleo más eficiente de los recursos disponibles en función de intentar alcanzar los fines que el agente se ha propuesto (</a:t>
            </a:r>
            <a:r>
              <a:rPr b="0" i="1" lang="es-ES" sz="2800" spc="-1" strike="noStrike">
                <a:solidFill>
                  <a:srgbClr val="ffffff"/>
                </a:solidFill>
                <a:latin typeface="Calibri"/>
              </a:rPr>
              <a:t>rational choice</a:t>
            </a:r>
            <a:r>
              <a:rPr b="0" lang="es-ES" sz="2800" spc="-1" strike="noStrike">
                <a:solidFill>
                  <a:srgbClr val="ffffff"/>
                </a:solidFill>
                <a:latin typeface="Calibri"/>
              </a:rPr>
              <a:t>: elección racional)</a:t>
            </a:r>
            <a:endParaRPr b="0" lang="en-US" sz="2800" spc="-1" strike="noStrike">
              <a:solidFill>
                <a:srgbClr val="ffffff"/>
              </a:solidFill>
              <a:latin typeface="Calibri"/>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20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1" dur="2000"/>
                                        <p:tgtEl>
                                          <p:spTgt spid="6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1">
                                            <p:txEl>
                                              <p:pRg st="3" end="3"/>
                                            </p:txEl>
                                          </p:spTgt>
                                        </p:tgtEl>
                                        <p:attrNameLst>
                                          <p:attrName>style.visibility</p:attrName>
                                        </p:attrNameLst>
                                      </p:cBhvr>
                                      <p:to>
                                        <p:strVal val="visible"/>
                                      </p:to>
                                    </p:set>
                                    <p:animEffect filter="fade" transition="in">
                                      <p:cBhvr additive="repl">
                                        <p:cTn id="186"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resulta de especial interés en un universo donde impera la escasez, esto es, donde las necesidades humanas son ilimitadas y los recursos disponibles para satisfacerlas son esca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último, recordemos la aclaración del propio autor (en nota a pie de página 96):</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El término racional en este artículo es sinónimo de eficiente. Esta definición económica no debe confundirse con la definición lógica ni con la definición psicológica”</a:t>
            </a:r>
            <a:endParaRPr b="0" lang="en-US" sz="2800" spc="-1" strike="noStrike">
              <a:solidFill>
                <a:srgbClr val="ffffff"/>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93" dur="2000"/>
                                        <p:tgtEl>
                                          <p:spTgt spid="6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98" dur="2000"/>
                                        <p:tgtEl>
                                          <p:spTgt spid="6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0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Información y elección racional</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La falta de información completa que fundamente las decisiones es una condición tan básica de la vida humana que influye en la estructura de casi todas las instituciones sociales. Sus efectos son profundos especialmente en política. Por eso dedicaré el resto de mi análisis al impacto del conocimiento imperfecto sobre la acción política en una democracia” (p. 98)</a:t>
            </a:r>
            <a:endParaRPr b="0" lang="en-US" sz="3200" spc="-1" strike="noStrike">
              <a:solidFill>
                <a:srgbClr val="ffffff"/>
              </a:solidFill>
              <a:latin typeface="Calibri"/>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10"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alibri"/>
              </a:rPr>
              <a:t>En una democracia real los agentes políticos deben tomar sus decisiones en un universo en el que el conocimiento es imperfecto y la información costosa</a:t>
            </a:r>
            <a:endParaRPr b="0" lang="en-US" sz="28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el modelo el conocimiento imperfecto significa:</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que los partidos no siempre saben exactamente lo que los ciudadanos desean.</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que los ciudadanos no siempre saben lo que el gobierno o la oposición ha hecho, está haciendo o debería estar haciendo, y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3) que la información necesaria para superar la ignorancia de los partidos y de los ciudadanos es costosa; deben utilizarse recursos escasos para obtenerla y asimilarla.</a:t>
            </a:r>
            <a:endParaRPr b="0" lang="en-US" sz="2800" spc="-1" strike="noStrike">
              <a:solidFill>
                <a:srgbClr val="ffffff"/>
              </a:solidFill>
              <a:latin typeface="Calibri"/>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6">
                                            <p:txEl>
                                              <p:pRg st="0" end="0"/>
                                            </p:txEl>
                                          </p:spTgt>
                                        </p:tgtEl>
                                        <p:attrNameLst>
                                          <p:attrName>style.visibility</p:attrName>
                                        </p:attrNameLst>
                                      </p:cBhvr>
                                      <p:to>
                                        <p:strVal val="visible"/>
                                      </p:to>
                                    </p:set>
                                    <p:animEffect filter="fade" transition="in">
                                      <p:cBhvr additive="repl">
                                        <p:cTn id="217" dur="2000"/>
                                        <p:tgtEl>
                                          <p:spTgt spid="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22" dur="2000"/>
                                        <p:tgtEl>
                                          <p:spTgt spid="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6">
                                            <p:txEl>
                                              <p:pRg st="2" end="2"/>
                                            </p:txEl>
                                          </p:spTgt>
                                        </p:tgtEl>
                                        <p:attrNameLst>
                                          <p:attrName>style.visibility</p:attrName>
                                        </p:attrNameLst>
                                      </p:cBhvr>
                                      <p:to>
                                        <p:strVal val="visible"/>
                                      </p:to>
                                    </p:set>
                                    <p:animEffect filter="fade" transition="in">
                                      <p:cBhvr additive="repl">
                                        <p:cTn id="227" dur="2000"/>
                                        <p:tgtEl>
                                          <p:spTgt spid="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6">
                                            <p:txEl>
                                              <p:pRg st="3" end="3"/>
                                            </p:txEl>
                                          </p:spTgt>
                                        </p:tgtEl>
                                        <p:attrNameLst>
                                          <p:attrName>style.visibility</p:attrName>
                                        </p:attrNameLst>
                                      </p:cBhvr>
                                      <p:to>
                                        <p:strVal val="visible"/>
                                      </p:to>
                                    </p:set>
                                    <p:animEffect filter="fade" transition="in">
                                      <p:cBhvr additive="repl">
                                        <p:cTn id="232"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os propósitos crítico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Crítica a los enfoques normativos de la democra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estos enfoques no ven los aspectos económicos de la acción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politólogos han creado modelos de cómo deberían comportarse los ciudadanos en una democracia sin tener en cuenta la economía de la acción política” (p. 11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De lo anterior, se siguen tres efectos para la acción política en una democracia</a:t>
            </a:r>
            <a:endParaRPr b="0" lang="en-US" sz="32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 la necesidad de la “persuasión” (la “influencia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el papel que juegan las ideología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3) la ignorancia racional del votante común, que se divide en dos aspectos: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1.- la decisión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2.- el origen de los grupos de pres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9" dur="2000"/>
                                        <p:tgtEl>
                                          <p:spTgt spid="6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2000"/>
                                        <p:tgtEl>
                                          <p:spTgt spid="6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9" dur="2000"/>
                                        <p:tgtEl>
                                          <p:spTgt spid="68">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54" dur="2000"/>
                                        <p:tgtEl>
                                          <p:spTgt spid="68">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59" dur="2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c00000"/>
                </a:solidFill>
                <a:latin typeface="Calibri"/>
              </a:rPr>
              <a:t> </a:t>
            </a:r>
            <a:r>
              <a:rPr b="0" lang="es-ES" sz="3200" spc="-1" strike="noStrike">
                <a:solidFill>
                  <a:srgbClr val="c00000"/>
                </a:solidFill>
                <a:latin typeface="Calibri"/>
              </a:rPr>
              <a:t>1) El conocimiento imperfecto y la necesidad de la persuasión resultante. </a:t>
            </a:r>
            <a:br>
              <a:rPr sz="3200"/>
            </a:br>
            <a:endParaRPr b="0" lang="en-US" sz="32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i existiera conocimiento perfecto ningún ciudadano podría influir en el voto de otr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ada la ignorancia, la decisión de voto se oscurece por falta de conocimien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indeci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persuasor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sores no están interesados en ayudar a los indecisos a ser menos indecisos.</a:t>
            </a:r>
            <a:endParaRPr b="0" lang="en-US" sz="3200" spc="-1" strike="noStrike">
              <a:solidFill>
                <a:srgbClr val="ffffff"/>
              </a:solidFill>
              <a:latin typeface="Calibri"/>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
                                            <p:txEl>
                                              <p:pRg st="0" end="0"/>
                                            </p:txEl>
                                          </p:spTgt>
                                        </p:tgtEl>
                                        <p:attrNameLst>
                                          <p:attrName>style.visibility</p:attrName>
                                        </p:attrNameLst>
                                      </p:cBhvr>
                                      <p:to>
                                        <p:strVal val="visible"/>
                                      </p:to>
                                    </p:set>
                                    <p:animEffect filter="fade" transition="in">
                                      <p:cBhvr additive="repl">
                                        <p:cTn id="266" dur="2000"/>
                                        <p:tgtEl>
                                          <p:spTgt spid="7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
                                            <p:txEl>
                                              <p:pRg st="1" end="1"/>
                                            </p:txEl>
                                          </p:spTgt>
                                        </p:tgtEl>
                                        <p:attrNameLst>
                                          <p:attrName>style.visibility</p:attrName>
                                        </p:attrNameLst>
                                      </p:cBhvr>
                                      <p:to>
                                        <p:strVal val="visible"/>
                                      </p:to>
                                    </p:set>
                                    <p:animEffect filter="fade" transition="in">
                                      <p:cBhvr additive="repl">
                                        <p:cTn id="271" dur="2000"/>
                                        <p:tgtEl>
                                          <p:spTgt spid="7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70">
                                            <p:txEl>
                                              <p:pRg st="2" end="2"/>
                                            </p:txEl>
                                          </p:spTgt>
                                        </p:tgtEl>
                                        <p:attrNameLst>
                                          <p:attrName>style.visibility</p:attrName>
                                        </p:attrNameLst>
                                      </p:cBhvr>
                                      <p:to>
                                        <p:strVal val="visible"/>
                                      </p:to>
                                    </p:set>
                                    <p:animEffect filter="fade" transition="in">
                                      <p:cBhvr additive="repl">
                                        <p:cTn id="276" dur="2000"/>
                                        <p:tgtEl>
                                          <p:spTgt spid="7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81" dur="2000"/>
                                        <p:tgtEl>
                                          <p:spTgt spid="7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86"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99680" y="571320"/>
            <a:ext cx="818676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 que desean es una decisión que ayude a su causa. Sólo destacarán los hechos favorables al grupo que apoyan.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unos hombres son capaces de influir en el voto de otr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secuencias de este fenómeno de la influen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1.- Políticamente algunos hombres son más importantes que otros porque pueden influir sobre más votos. </a:t>
            </a:r>
            <a:endParaRPr b="0" lang="en-US" sz="3200" spc="-1" strike="noStrike">
              <a:solidFill>
                <a:srgbClr val="ffffff"/>
              </a:solidFill>
              <a:latin typeface="Calibri"/>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93" dur="2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71">
                                            <p:txEl>
                                              <p:pRg st="1" end="1"/>
                                            </p:txEl>
                                          </p:spTgt>
                                        </p:tgtEl>
                                        <p:attrNameLst>
                                          <p:attrName>style.visibility</p:attrName>
                                        </p:attrNameLst>
                                      </p:cBhvr>
                                      <p:to>
                                        <p:strVal val="visible"/>
                                      </p:to>
                                    </p:set>
                                    <p:animEffect filter="fade" transition="in">
                                      <p:cBhvr additive="repl">
                                        <p:cTn id="298" dur="2000"/>
                                        <p:tgtEl>
                                          <p:spTgt spid="7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03" dur="2000"/>
                                        <p:tgtEl>
                                          <p:spTgt spid="7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0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Dado que se necesita recursos para influir en el voto de los indecisos (por ejemplo, recursos para comprar espacio o tiempo en los medios de comunicación social o bien para poseer algunos medios de comunicación social), quienes poseen esos recursos pueden ejercer una influencia política significativa.</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l gobierno, que es racional, no puede ignorar este hech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consecuencia, es irracional que un gobierno democrático trate a todos sus ciudadanos con igual deferencia.  (p. 99)</a:t>
            </a:r>
            <a:endParaRPr b="0" lang="en-US" sz="2800" spc="-1" strike="noStrike">
              <a:solidFill>
                <a:srgbClr val="ffffff"/>
              </a:solidFill>
              <a:latin typeface="Calibri"/>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15" dur="2000"/>
                                        <p:tgtEl>
                                          <p:spTgt spid="7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72">
                                            <p:txEl>
                                              <p:pRg st="2" end="2"/>
                                            </p:txEl>
                                          </p:spTgt>
                                        </p:tgtEl>
                                        <p:attrNameLst>
                                          <p:attrName>style.visibility</p:attrName>
                                        </p:attrNameLst>
                                      </p:cBhvr>
                                      <p:to>
                                        <p:strVal val="visible"/>
                                      </p:to>
                                    </p:set>
                                    <p:animEffect filter="fade" transition="in">
                                      <p:cBhvr additive="repl">
                                        <p:cTn id="320" dur="2000"/>
                                        <p:tgtEl>
                                          <p:spTgt spid="72">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72">
                                            <p:txEl>
                                              <p:pRg st="3" end="3"/>
                                            </p:txEl>
                                          </p:spTgt>
                                        </p:tgtEl>
                                        <p:attrNameLst>
                                          <p:attrName>style.visibility</p:attrName>
                                        </p:attrNameLst>
                                      </p:cBhvr>
                                      <p:to>
                                        <p:strVal val="visible"/>
                                      </p:to>
                                    </p:set>
                                    <p:animEffect filter="fade" transition="in">
                                      <p:cBhvr additive="repl">
                                        <p:cTn id="325"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2.- Dado que el propio gobierno ignora lo que sus ciudadanos  desean que haga, requiere enviar representantes: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que sondeen al electorado y descubran sus dese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dan de que debería ser reelegi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 decir, el gobierno necesita intermediarios entre él y el electora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Me salto la tercera consecuencia, pues está implícita en la segunda y tercera) (p. 99)</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73">
                                            <p:txEl>
                                              <p:pRg st="0" end="0"/>
                                            </p:txEl>
                                          </p:spTgt>
                                        </p:tgtEl>
                                        <p:attrNameLst>
                                          <p:attrName>style.visibility</p:attrName>
                                        </p:attrNameLst>
                                      </p:cBhvr>
                                      <p:to>
                                        <p:strVal val="visible"/>
                                      </p:to>
                                    </p:set>
                                    <p:animEffect filter="fade" transition="in">
                                      <p:cBhvr additive="repl">
                                        <p:cTn id="332" dur="2000"/>
                                        <p:tgtEl>
                                          <p:spTgt spid="7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73">
                                            <p:txEl>
                                              <p:pRg st="1" end="1"/>
                                            </p:txEl>
                                          </p:spTgt>
                                        </p:tgtEl>
                                        <p:attrNameLst>
                                          <p:attrName>style.visibility</p:attrName>
                                        </p:attrNameLst>
                                      </p:cBhvr>
                                      <p:to>
                                        <p:strVal val="visible"/>
                                      </p:to>
                                    </p:set>
                                    <p:animEffect filter="fade" transition="in">
                                      <p:cBhvr additive="repl">
                                        <p:cTn id="337" dur="2000"/>
                                        <p:tgtEl>
                                          <p:spTgt spid="7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2" dur="2000"/>
                                        <p:tgtEl>
                                          <p:spTgt spid="7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3">
                                            <p:txEl>
                                              <p:pRg st="3" end="3"/>
                                            </p:txEl>
                                          </p:spTgt>
                                        </p:tgtEl>
                                        <p:attrNameLst>
                                          <p:attrName>style.visibility</p:attrName>
                                        </p:attrNameLst>
                                      </p:cBhvr>
                                      <p:to>
                                        <p:strVal val="visible"/>
                                      </p:to>
                                    </p:set>
                                    <p:animEffect filter="fade" transition="in">
                                      <p:cBhvr additive="repl">
                                        <p:cTn id="347" dur="2000"/>
                                        <p:tgtEl>
                                          <p:spTgt spid="73">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3">
                                            <p:txEl>
                                              <p:pRg st="4" end="4"/>
                                            </p:txEl>
                                          </p:spTgt>
                                        </p:tgtEl>
                                        <p:attrNameLst>
                                          <p:attrName>style.visibility</p:attrName>
                                        </p:attrNameLst>
                                      </p:cBhvr>
                                      <p:to>
                                        <p:strVal val="visible"/>
                                      </p:to>
                                    </p:set>
                                    <p:animEffect filter="fade" transition="in">
                                      <p:cBhvr additive="repl">
                                        <p:cTn id="352"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4.- Finalmente, el gobierno puede ser soborn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Para persuadir a los votantes de que sus políticas son buenas para ellos, necesita recursos, tales como tiempo en televisión, dinero para propaganda, etc.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Una forma de obtener esos recursos es vender favores políticos a quienes puedan paga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os compradores de favores ni siquiera necesitan aparecer como representantes de la g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Simplemente intercambian su ayuda por favores políticos (una transacción racional, tanto para ellos como para el gobierno) (p. 100)</a:t>
            </a:r>
            <a:endParaRPr b="0" lang="en-US" sz="2800" spc="-1" strike="noStrike">
              <a:solidFill>
                <a:srgbClr val="ffffff"/>
              </a:solidFill>
              <a:latin typeface="Calibri"/>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4">
                                            <p:txEl>
                                              <p:pRg st="0" end="0"/>
                                            </p:txEl>
                                          </p:spTgt>
                                        </p:tgtEl>
                                        <p:attrNameLst>
                                          <p:attrName>style.visibility</p:attrName>
                                        </p:attrNameLst>
                                      </p:cBhvr>
                                      <p:to>
                                        <p:strVal val="visible"/>
                                      </p:to>
                                    </p:set>
                                    <p:animEffect filter="fade" transition="in">
                                      <p:cBhvr additive="repl">
                                        <p:cTn id="359" dur="2000"/>
                                        <p:tgtEl>
                                          <p:spTgt spid="7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4">
                                            <p:txEl>
                                              <p:pRg st="1" end="1"/>
                                            </p:txEl>
                                          </p:spTgt>
                                        </p:tgtEl>
                                        <p:attrNameLst>
                                          <p:attrName>style.visibility</p:attrName>
                                        </p:attrNameLst>
                                      </p:cBhvr>
                                      <p:to>
                                        <p:strVal val="visible"/>
                                      </p:to>
                                    </p:set>
                                    <p:animEffect filter="fade" transition="in">
                                      <p:cBhvr additive="repl">
                                        <p:cTn id="364" dur="2000"/>
                                        <p:tgtEl>
                                          <p:spTgt spid="74">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74">
                                            <p:txEl>
                                              <p:pRg st="2" end="2"/>
                                            </p:txEl>
                                          </p:spTgt>
                                        </p:tgtEl>
                                        <p:attrNameLst>
                                          <p:attrName>style.visibility</p:attrName>
                                        </p:attrNameLst>
                                      </p:cBhvr>
                                      <p:to>
                                        <p:strVal val="visible"/>
                                      </p:to>
                                    </p:set>
                                    <p:animEffect filter="fade" transition="in">
                                      <p:cBhvr additive="repl">
                                        <p:cTn id="369" dur="2000"/>
                                        <p:tgtEl>
                                          <p:spTgt spid="7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74">
                                            <p:txEl>
                                              <p:pRg st="3" end="3"/>
                                            </p:txEl>
                                          </p:spTgt>
                                        </p:tgtEl>
                                        <p:attrNameLst>
                                          <p:attrName>style.visibility</p:attrName>
                                        </p:attrNameLst>
                                      </p:cBhvr>
                                      <p:to>
                                        <p:strVal val="visible"/>
                                      </p:to>
                                    </p:set>
                                    <p:animEffect filter="fade" transition="in">
                                      <p:cBhvr additive="repl">
                                        <p:cTn id="374" dur="2000"/>
                                        <p:tgtEl>
                                          <p:spTgt spid="74">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74">
                                            <p:txEl>
                                              <p:pRg st="4" end="4"/>
                                            </p:txEl>
                                          </p:spTgt>
                                        </p:tgtEl>
                                        <p:attrNameLst>
                                          <p:attrName>style.visibility</p:attrName>
                                        </p:attrNameLst>
                                      </p:cBhvr>
                                      <p:to>
                                        <p:strVal val="visible"/>
                                      </p:to>
                                    </p:set>
                                    <p:animEffect filter="fade" transition="in">
                                      <p:cBhvr additive="repl">
                                        <p:cTn id="379"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ando el conocimiento es imperfecto, la acción política efectiva exige los recursos económicos necesarios para hacer frente a los costes de informac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quienes poseen esos recursos pueden tener un peso mayor que su peso proporcional (más allá, pues, del principio democrático “un hombre: un vo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gún Downs, esto no es consecuencia de la irracionalidad o la deshonestidad.</a:t>
            </a:r>
            <a:endParaRPr b="0" lang="en-US" sz="32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5">
                                            <p:txEl>
                                              <p:pRg st="1" end="1"/>
                                            </p:txEl>
                                          </p:spTgt>
                                        </p:tgtEl>
                                        <p:attrNameLst>
                                          <p:attrName>style.visibility</p:attrName>
                                        </p:attrNameLst>
                                      </p:cBhvr>
                                      <p:to>
                                        <p:strVal val="visible"/>
                                      </p:to>
                                    </p:set>
                                    <p:animEffect filter="fade" transition="in">
                                      <p:cBhvr additive="repl">
                                        <p:cTn id="391" dur="2000"/>
                                        <p:tgtEl>
                                          <p:spTgt spid="7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39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8400" y="713880"/>
            <a:ext cx="8258040" cy="54118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el contrario, a falta de una información perfecta, es una respuesta bastante racional en una democracia, como lo es también la sumisión de los gobiernos a las exigencias de los grupos de pres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poner otra cosa es ignorar la existencia de costes de información (es decir, es teorizar acerca de un mundo mítico en vez de un mundo real). (p. 100)</a:t>
            </a:r>
            <a:endParaRPr b="0" lang="en-US" sz="3200" spc="-1" strike="noStrike">
              <a:solidFill>
                <a:srgbClr val="ffffff"/>
              </a:solidFill>
              <a:latin typeface="Calibri"/>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76">
                                            <p:txEl>
                                              <p:pRg st="0" end="0"/>
                                            </p:txEl>
                                          </p:spTgt>
                                        </p:tgtEl>
                                        <p:attrNameLst>
                                          <p:attrName>style.visibility</p:attrName>
                                        </p:attrNameLst>
                                      </p:cBhvr>
                                      <p:to>
                                        <p:strVal val="visible"/>
                                      </p:to>
                                    </p:set>
                                    <p:animEffect filter="fade" transition="in">
                                      <p:cBhvr additive="repl">
                                        <p:cTn id="403" dur="2000"/>
                                        <p:tgtEl>
                                          <p:spTgt spid="7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76">
                                            <p:txEl>
                                              <p:pRg st="1" end="1"/>
                                            </p:txEl>
                                          </p:spTgt>
                                        </p:tgtEl>
                                        <p:attrNameLst>
                                          <p:attrName>style.visibility</p:attrName>
                                        </p:attrNameLst>
                                      </p:cBhvr>
                                      <p:to>
                                        <p:strVal val="visible"/>
                                      </p:to>
                                    </p:set>
                                    <p:animEffect filter="fade" transition="in">
                                      <p:cBhvr additive="repl">
                                        <p:cTn id="408"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enfoques normativos consideran irracional la conducta de los votantes que permanecen políticamente apáticos e ignorant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ostienen que los ciudadanos deberían participar (no ser apáticos) y procurar informarse política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conducta no es racional: no perciben sus verdaderos intereses, son miopes y no resguardan sus propios intereses.</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20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fade" transition="in">
                                      <p:cBhvr additive="repl">
                                        <p:cTn id="29" dur="2000"/>
                                        <p:tgtEl>
                                          <p:spTgt spid="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2" end="2"/>
                                            </p:txEl>
                                          </p:spTgt>
                                        </p:tgtEl>
                                        <p:attrNameLst>
                                          <p:attrName>style.visibility</p:attrName>
                                        </p:attrNameLst>
                                      </p:cBhvr>
                                      <p:to>
                                        <p:strVal val="visible"/>
                                      </p:to>
                                    </p:set>
                                    <p:animEffect filter="fade" transition="in">
                                      <p:cBhvr additive="repl">
                                        <p:cTn id="34"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 su conducta apática son fácilmente manipulables por parte de políticos inescrupulo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e modo, la democracia no existe en verdad y ellos no gobiernan real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Según Downs, </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gran parte de las pruebas citadas (…) demuestra de hecho que los ciudadanos responden racionalmente (eficientemente) a  las exigencias de la vida en un mundo imperfectamente informado” (p. 110)</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apatía, la ignorancia política, por ejemplo, “pueden explicarse lógicamente como reacciones eficientes a la información imperfecta en una democracia amplia”(p. 110)</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fade" transition="in">
                                      <p:cBhvr additive="repl">
                                        <p:cTn id="58"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ualquier teoría normativa que las considere  signos de comportamiento no inteligente en política, muestra su incapacidad para afrontar que la información es costosa en el mundo real.” (p. 110)</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Así la teoría política se ha perjudicado porque no ha tenido en cuenta ciertas realidades económicas” (p. 110)</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rítica a la teoría económ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 tenido en cuenta  las “realidades políticas” cuando analiza la acción gubernamental.</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economistas se han contentado con discutir la acción gubernamental como si los gobiernos estuvieran dirigidos por altruistas perfectos cuya única motivación fuera maximizar el bienestar social” (p. 110)</a:t>
            </a:r>
            <a:endParaRPr b="0" lang="en-US" sz="3200" spc="-1" strike="noStrike">
              <a:solidFill>
                <a:srgbClr val="ffffff"/>
              </a:solidFill>
              <a:latin typeface="Calibri"/>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Effect filter="fade" transition="in">
                                      <p:cBhvr additive="repl">
                                        <p:cTn id="70" dur="2000"/>
                                        <p:tgtEl>
                                          <p:spTgt spid="5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2" end="2"/>
                                            </p:txEl>
                                          </p:spTgt>
                                        </p:tgtEl>
                                        <p:attrNameLst>
                                          <p:attrName>style.visibility</p:attrName>
                                        </p:attrNameLst>
                                      </p:cBhvr>
                                      <p:to>
                                        <p:strVal val="visible"/>
                                      </p:to>
                                    </p:set>
                                    <p:animEffect filter="fade" transition="in">
                                      <p:cBhvr additive="repl">
                                        <p:cTn id="7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a forma, “los economistas han sido incapaces de incorporar el gobierno al resto de la teoría económica, que se basa en la </a:t>
            </a:r>
            <a:r>
              <a:rPr b="0" lang="es-ES" sz="3200" spc="-1" strike="noStrike" u="sng">
                <a:solidFill>
                  <a:srgbClr val="ffffff"/>
                </a:solidFill>
                <a:uFillTx/>
                <a:latin typeface="Calibri"/>
              </a:rPr>
              <a:t>premisa</a:t>
            </a:r>
            <a:r>
              <a:rPr b="0" lang="es-ES" sz="3200" spc="-1" strike="noStrike">
                <a:solidFill>
                  <a:srgbClr val="ffffff"/>
                </a:solidFill>
                <a:latin typeface="Calibri"/>
              </a:rPr>
              <a:t> de que </a:t>
            </a:r>
            <a:r>
              <a:rPr b="0" lang="es-ES" sz="3200" spc="-1" strike="noStrike" u="sng">
                <a:solidFill>
                  <a:srgbClr val="ffffff"/>
                </a:solidFill>
                <a:uFillTx/>
                <a:latin typeface="Calibri"/>
              </a:rPr>
              <a:t>todos los hombres actúan primariamente en función de sus propios intereses</a:t>
            </a:r>
            <a:r>
              <a:rPr b="0" lang="es-ES" sz="3200" spc="-1" strike="noStrike">
                <a:solidFill>
                  <a:srgbClr val="ffffff"/>
                </a:solidFill>
                <a:latin typeface="Calibri"/>
              </a:rPr>
              <a:t>” (p. 110)</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comienzo del artículo (p. 94), Downs ya ha avanzado en esta tesis. Los economistas han identificado la función social de la política, lo que no basta para explicar la motivación de sus agentes:</a:t>
            </a:r>
            <a:endParaRPr b="0" lang="en-US" sz="3200" spc="-1" strike="noStrike">
              <a:solidFill>
                <a:srgbClr val="ffffff"/>
              </a:solidFill>
              <a:latin typeface="Calibri"/>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2">
                                            <p:txEl>
                                              <p:pRg st="0" end="0"/>
                                            </p:txEl>
                                          </p:spTgt>
                                        </p:tgtEl>
                                        <p:attrNameLst>
                                          <p:attrName>style.visibility</p:attrName>
                                        </p:attrNameLst>
                                      </p:cBhvr>
                                      <p:to>
                                        <p:strVal val="visible"/>
                                      </p:to>
                                    </p:set>
                                    <p:animEffect filter="fade" transition="in">
                                      <p:cBhvr additive="repl">
                                        <p:cTn id="82" dur="2000"/>
                                        <p:tgtEl>
                                          <p:spTgt spid="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2">
                                            <p:txEl>
                                              <p:pRg st="1" end="1"/>
                                            </p:txEl>
                                          </p:spTgt>
                                        </p:tgtEl>
                                        <p:attrNameLst>
                                          <p:attrName>style.visibility</p:attrName>
                                        </p:attrNameLst>
                                      </p:cBhvr>
                                      <p:to>
                                        <p:strVal val="visible"/>
                                      </p:to>
                                    </p:set>
                                    <p:animEffect filter="fade" transition="in">
                                      <p:cBhvr additive="repl">
                                        <p:cTn id="87"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ada agente tiene tanto un motivo privado como una función social” (p. 94)</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ejemplo, la función social de un minero del carbón es extraer el mismo de la tierra, puesto que esta actividad proporciona una utilidad para otros. Pero está motivado para cumplir esta función por su deseo de ganar un sueldo, y no de beneficiar a otros” (p. 94)</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fade" transition="in">
                                      <p:cBhvr additive="repl">
                                        <p:cTn id="94" dur="20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animEffect filter="fade" transition="in">
                                      <p:cBhvr additive="repl">
                                        <p:cTn id="99"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23:42:19Z</dcterms:created>
  <dc:creator>vasco</dc:creator>
  <dc:description/>
  <dc:language>en-US</dc:language>
  <cp:lastModifiedBy>Vasco</cp:lastModifiedBy>
  <dcterms:modified xsi:type="dcterms:W3CDTF">2010-07-02T12:22:12Z</dcterms:modified>
  <cp:revision>88</cp:revision>
  <dc:subject/>
  <dc:title>Diapositiva 1</dc:title>
</cp:coreProperties>
</file>