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D4E9D-AF39-428B-BD4E-36419F848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AA740-68EC-47D8-A7BB-668FF9768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C48A5-DF60-4024-AE8D-50D8E4C36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03DAE-A5D4-4017-ACD6-DFAFC6F62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16EDB-417A-4275-A5FD-6F2C59B18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941F5-9C3B-4FA7-B9F9-68E173ADB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11707-FDCC-4433-9A93-82DC04DE8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28E1-541C-4966-8847-AE0C38F3D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F1DC0-90BD-4F2D-A21F-FFC443CDB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65AFA-061E-4489-A957-6946CB37D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FA45C-65CF-4A51-8CD4-8909ACE92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34BB7-567E-4330-99EA-9BBE271EC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24BD-0A0D-413F-9B2A-5EDC9295B928}"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1714680"/>
            <a:ext cx="7815240" cy="18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La controversia ético/política</a:t>
            </a:r>
            <a:br>
              <a:rPr sz="4400"/>
            </a:br>
            <a:r>
              <a:rPr b="0" lang="es-ES" sz="4400" spc="-1" strike="noStrike">
                <a:solidFill>
                  <a:srgbClr val="c00000"/>
                </a:solidFill>
                <a:latin typeface="Calibri"/>
              </a:rPr>
              <a:t>en la teoría política clásica</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499760" y="3571560"/>
            <a:ext cx="6272280" cy="206676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Calibri"/>
              </a:rPr>
              <a:t>1.- La tesis realista </a:t>
            </a:r>
            <a:endParaRPr b="0" lang="en-US" sz="40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428760"/>
            <a:ext cx="8258040" cy="569736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es éste para vosotros un certamen de hombría en igualdad de condiciones, para evitar el deshonor; se trata más bien de una deliberación respecto a vuestra salvación, a fin de que no os resistáis a quienes son mucho más fuertes que vosotros” (p. 147)</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 consideramos difícil luchar contra vuestro poderío (...) No obstante, en lo tocante a la fortuna, confiamos en que no seremos peor tratados por la divinidad, pues somos hombres piadosos que nos enfrentamos a un enemigo injusto, y, en lo que concierne a la inferioridad de nuestras fuerzas, contamos con que estará a nuestro lado la alianza de los lacedemonios, que se verá obligada a acudir en nuestra ayuda, si no por otra razón, a causa de de la afinidad de raza y por el sentimiento del honor. (...)” (p. 149)</a:t>
            </a:r>
            <a:endParaRPr b="0" lang="en-US" sz="2500" spc="-1" strike="noStrike">
              <a:solidFill>
                <a:srgbClr val="ffffff"/>
              </a:solidFill>
              <a:latin typeface="Calibri"/>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2">
                                            <p:txEl>
                                              <p:pRg st="0" end="0"/>
                                            </p:txEl>
                                          </p:spTgt>
                                        </p:tgtEl>
                                        <p:attrNameLst>
                                          <p:attrName>style.visibility</p:attrName>
                                        </p:attrNameLst>
                                      </p:cBhvr>
                                      <p:to>
                                        <p:strVal val="visible"/>
                                      </p:to>
                                    </p:set>
                                    <p:animEffect filter="fade" transition="in">
                                      <p:cBhvr additive="repl">
                                        <p:cTn id="96" dur="2000"/>
                                        <p:tgtEl>
                                          <p:spTgt spid="52">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1" dur="2000"/>
                                        <p:tgtEl>
                                          <p:spTgt spid="5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2">
                                            <p:txEl>
                                              <p:pRg st="2" end="2"/>
                                            </p:txEl>
                                          </p:spTgt>
                                        </p:tgtEl>
                                        <p:attrNameLst>
                                          <p:attrName>style.visibility</p:attrName>
                                        </p:attrNameLst>
                                      </p:cBhvr>
                                      <p:to>
                                        <p:strVal val="visible"/>
                                      </p:to>
                                    </p:set>
                                    <p:animEffect filter="fade" transition="in">
                                      <p:cBhvr additive="repl">
                                        <p:cTn id="106"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356760"/>
            <a:ext cx="8258040" cy="576900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Pensamos (...) que siempre se tiene el mando, por una imperiosa ley de la naturaleza, cuando se es más fuerte. Y no somos nosotros quienes hemos instituido esta ley ni fuimos los primeros en aplicarla una vez establecida, sino que la recibimos cuando ya existía y la dejaremos en vigor para siempre habiéndonos limitado a aplicarla, convencidos de que tanto vosotros como cualquier otro pueblo haríais lo mismo de encontraros en la misma situación de poder que nosotros. (...)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en cuanto a vuestra opinión sobre los lacedemonios, por la que confiáis que van a acudir en vuestra ayuda debido a su sentido del honor, celebramos vuestro candor, pero no envidiamos vuestra inconsciencia. Porque los lacedemonios, en sus relaciones entre ellos y en lo que concierne a las instituciones de su país, practican la virtud en grado sumo; respecto a su comportamiento con los demás, en cambio, cabría decir muchas cosas, pero para resumir brevemente, (...) de los pueblos que conocemos son los que, de la forma más clara, consideran honroso lo que les da placer y justo lo que les conviene. (...)”    (pp. 149-150)</a:t>
            </a:r>
            <a:endParaRPr b="0" lang="en-US" sz="2200" spc="-1" strike="noStrike">
              <a:solidFill>
                <a:srgbClr val="ffffff"/>
              </a:solidFill>
              <a:latin typeface="Calibri"/>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3" dur="2000"/>
                                        <p:tgtEl>
                                          <p:spTgt spid="5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3">
                                            <p:txEl>
                                              <p:pRg st="2" end="2"/>
                                            </p:txEl>
                                          </p:spTgt>
                                        </p:tgtEl>
                                        <p:attrNameLst>
                                          <p:attrName>style.visibility</p:attrName>
                                        </p:attrNameLst>
                                      </p:cBhvr>
                                      <p:to>
                                        <p:strVal val="visible"/>
                                      </p:to>
                                    </p:set>
                                    <p:animEffect filter="fade" transition="in">
                                      <p:cBhvr additive="repl">
                                        <p:cTn id="118"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356760"/>
            <a:ext cx="8258040" cy="576900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Pero precisamente por esa misma razón nosotros abrigamos la mayor confianza de que, en su propia conveniencia, no querrán traicionar a los melios, que somos colonos suyos, para suscitar la desconfianza de los griegos que son amigos suyos y prestar así un servicio a sus enemigos”  (p. 150)</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Y no creéis que la conveniencia es compañera de la seguridad y que lo justo y lo honroso comportan peligros, en los que los lacedemonios, por lo general muestran escasísima audacia?”   (p. 150)</a:t>
            </a:r>
            <a:r>
              <a:rPr b="0" i="1" lang="es-ES" sz="2700" spc="-1" strike="noStrike">
                <a:solidFill>
                  <a:srgbClr val="ffffff"/>
                </a:solidFill>
                <a:latin typeface="Calibri"/>
              </a:rPr>
              <a:t> </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la garantía de seguridad para quienes han de combatir en auxilio de otros no reside en los sentimientos de amistad de quienes solicitan la ayuda, sino en si el aliado se destaca en gran manera por la potencia de sus efectivos. (...)” (p. 151)</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5" dur="2000"/>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fade" transition="in">
                                      <p:cBhvr additive="repl">
                                        <p:cTn id="130" dur="2000"/>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fade" transition="in">
                                      <p:cBhvr additive="repl">
                                        <p:cTn id="135"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285480"/>
            <a:ext cx="8258040" cy="584028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a pesar de haber afirmado que ibais a deliberar sobre vuestra salvación, en todo este largo debate no habéis dado ni una sola razón con la que los hombres puedan contar para creer que van a salvarse; por el contrario, vuestros más fuertes apoyos están en las esperanzas y en el futuro, y los recursos a vuestra disposición son muy escasos para que podáis sobrevivir frente a las fuerzas que ya están alineadas contra vosotros. Evidenciaréis, pues, la enorme irracionalidad de vuestra actitud, si, una vez que nos hayáis despedido, no tomáis una decisión que muestre una mayor sensatez que la de ahora. </a:t>
            </a: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No vayáis a tomar la senda de aquel sentimiento del honor que, en situaciones de manifiesto peligro con el honor en juego, las más de las veces lleva a los hombres a la ruina. (...) No consideréis indecoroso doblegaros ante la ciudad más poderosa cuando os hace la moderada propuesta de convertiros en aliados suyos, pagando el tributo pero conservando vuestras tierras, ni dejar de porfiar por tomar el peor partido cuando se os da la oportunidad de elegir entre la guerra o la seguridad. Porque aquellos que no ceden ante los iguales, que se comportan razonablemente con los más fuertes y que se muestran moderados con los más débiles son los que tienen mayores probabilidades de éxito. (...)”  (pp. 152-153)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5">
                                            <p:txEl>
                                              <p:pRg st="0" end="0"/>
                                            </p:txEl>
                                          </p:spTgt>
                                        </p:tgtEl>
                                        <p:attrNameLst>
                                          <p:attrName>style.visibility</p:attrName>
                                        </p:attrNameLst>
                                      </p:cBhvr>
                                      <p:to>
                                        <p:strVal val="visible"/>
                                      </p:to>
                                    </p:set>
                                    <p:animEffect filter="fade" transition="in">
                                      <p:cBhvr additive="repl">
                                        <p:cTn id="142" dur="2000"/>
                                        <p:tgtEl>
                                          <p:spTgt spid="5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7"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857240" y="2428560"/>
            <a:ext cx="5486400" cy="342900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l Diálogo de Melos”(416a. C.)</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Historia de la Guerra del Peloponeso, Tucídides)</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Guerra del Peloponeso: 431 – 404 a. C.</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4 Marcador de posición de imagen" descr="PeloponnesianWar[1].jpg"/>
          <p:cNvPicPr/>
          <p:nvPr/>
        </p:nvPicPr>
        <p:blipFill>
          <a:blip r:embed="rId1"/>
          <a:srcRect l="3813" t="0" r="3813" b="0"/>
          <a:stretch/>
        </p:blipFill>
        <p:spPr>
          <a:xfrm>
            <a:off x="1357200" y="642960"/>
            <a:ext cx="6643800" cy="498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Diálogo de Melos</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La comisión de los melios respondió: “explicarnos mutuamente nuestros puntos de vista no merece reproche; pero la realidad de la guerra –algo que ya está aquí y que no pertenece al futuro- parece estar en desacuerdo con esta propuesta.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Vemos, en efecto, que vosotros habéis venido como jueces de lo que aquí se diga y que a nosotros el fin del debate nos traerá con toda probabilidad el siguiente resultado: si logramos imponernos en el campo del derecho y por ello no cedemos, la guerra; y si nos dejamos convencer, la esclavitud” (p. 141)</a:t>
            </a:r>
            <a:endParaRPr b="0" lang="en-US" sz="2700" spc="-1" strike="noStrike">
              <a:solidFill>
                <a:srgbClr val="ffffff"/>
              </a:solidFill>
              <a:latin typeface="Calibri"/>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20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alibri"/>
              </a:rPr>
              <a:t>Atenienses: </a:t>
            </a:r>
            <a:r>
              <a:rPr b="0" lang="es-ES" sz="3200" spc="-1" strike="noStrike">
                <a:solidFill>
                  <a:srgbClr val="ffffff"/>
                </a:solidFill>
                <a:latin typeface="Calibri"/>
              </a:rPr>
              <a:t>“Bueno, si habéis venido a este coloquio para formular suposiciones sobre el futuro o para cualquier otra cosa que no sea deliberar acerca de la salvación de vuestra ciudad, partiendo de la situación presente y de la realidad que está ante vuestros ojos, ya podemos levantar la sesión; pero si vuestro objetivo es éste último, podemos seguir hablando” (p. 141)</a:t>
            </a:r>
            <a:endParaRPr b="0" lang="en-US" sz="3200" spc="-1" strike="noStrike">
              <a:solidFill>
                <a:srgbClr val="ffffff"/>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26"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28400" y="500040"/>
            <a:ext cx="8258040" cy="562608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recurriremos (...) a una extensa y poco convincente retahíla de argumentos, afirmando, con hermosas palabras, que ejercemos el imperio justamente porque derrotamos al Medo o que ahora hemos emprendido esta expedición contra vosotros como víctimas de vuestros agravios; pero tampoco esperamos de vosotros que creáis que vais a convencernos diciendo que, a pesar de ser colonos de los lacedemonios, no os habéis alineado a su lado, o que no nos habéis hecho ningún agravio;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 (pp. 142-143)</a:t>
            </a:r>
            <a:endParaRPr b="0" lang="en-US" sz="2500" spc="-1" strike="noStrike">
              <a:solidFill>
                <a:srgbClr val="ffffff"/>
              </a:solidFill>
              <a:latin typeface="Calibri"/>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2000"/>
                                        <p:tgtEl>
                                          <p:spTgt spid="4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
                                            <p:txEl>
                                              <p:pRg st="1" end="1"/>
                                            </p:txEl>
                                          </p:spTgt>
                                        </p:tgtEl>
                                        <p:attrNameLst>
                                          <p:attrName>style.visibility</p:attrName>
                                        </p:attrNameLst>
                                      </p:cBhvr>
                                      <p:to>
                                        <p:strVal val="visible"/>
                                      </p:to>
                                    </p:set>
                                    <p:animEffect filter="fade" transition="in">
                                      <p:cBhvr additive="repl">
                                        <p:cTn id="38"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400" y="428760"/>
            <a:ext cx="8258040" cy="569736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estamos aquí para provecho de nuestro imperio y que os haremos una propuesta con vistas a la salvación de vuestra ciudad, porque queremos dominaros sin problemas y conseguir que vuestra salvación sea de utilidad para ambas partes” (p. 144)</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Y cómo puede resultar útil para nosotros convertirnos en esclavos, del mismo modo que para vosotros lo es ejercer el dominio?” (p. 144)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Porque vosotros, en vez de sufrir los males más terribles, seriáis súbditos nuestros y nosotros, al no destruiros, saldríamos ganando” (144)</a:t>
            </a:r>
            <a:endParaRPr b="0" lang="en-US" sz="2700" spc="-1" strike="noStrike">
              <a:solidFill>
                <a:srgbClr val="ffffff"/>
              </a:solidFill>
              <a:latin typeface="Calibri"/>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9">
                                            <p:txEl>
                                              <p:pRg st="0" end="0"/>
                                            </p:txEl>
                                          </p:spTgt>
                                        </p:tgtEl>
                                        <p:attrNameLst>
                                          <p:attrName>style.visibility</p:attrName>
                                        </p:attrNameLst>
                                      </p:cBhvr>
                                      <p:to>
                                        <p:strVal val="visible"/>
                                      </p:to>
                                    </p:set>
                                    <p:animEffect filter="fade" transition="in">
                                      <p:cBhvr additive="repl">
                                        <p:cTn id="45" dur="2000"/>
                                        <p:tgtEl>
                                          <p:spTgt spid="4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9">
                                            <p:txEl>
                                              <p:pRg st="1" end="1"/>
                                            </p:txEl>
                                          </p:spTgt>
                                        </p:tgtEl>
                                        <p:attrNameLst>
                                          <p:attrName>style.visibility</p:attrName>
                                        </p:attrNameLst>
                                      </p:cBhvr>
                                      <p:to>
                                        <p:strVal val="visible"/>
                                      </p:to>
                                    </p:set>
                                    <p:animEffect filter="fade" transition="in">
                                      <p:cBhvr additive="repl">
                                        <p:cTn id="50" dur="2000"/>
                                        <p:tgtEl>
                                          <p:spTgt spid="4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9">
                                            <p:txEl>
                                              <p:pRg st="2" end="2"/>
                                            </p:txEl>
                                          </p:spTgt>
                                        </p:tgtEl>
                                        <p:attrNameLst>
                                          <p:attrName>style.visibility</p:attrName>
                                        </p:attrNameLst>
                                      </p:cBhvr>
                                      <p:to>
                                        <p:strVal val="visible"/>
                                      </p:to>
                                    </p:set>
                                    <p:animEffect filter="fade" transition="in">
                                      <p:cBhvr additive="repl">
                                        <p:cTn id="55" dur="2000"/>
                                        <p:tgtEl>
                                          <p:spTgt spid="4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9">
                                            <p:txEl>
                                              <p:pRg st="4" end="4"/>
                                            </p:txEl>
                                          </p:spTgt>
                                        </p:tgtEl>
                                        <p:attrNameLst>
                                          <p:attrName>style.visibility</p:attrName>
                                        </p:attrNameLst>
                                      </p:cBhvr>
                                      <p:to>
                                        <p:strVal val="visible"/>
                                      </p:to>
                                    </p:set>
                                    <p:animEffect filter="fade" transition="in">
                                      <p:cBhvr additive="repl">
                                        <p:cTn id="60" dur="20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356760"/>
            <a:ext cx="8258040" cy="5769000"/>
          </a:xfrm>
          <a:prstGeom prst="rect">
            <a:avLst/>
          </a:prstGeom>
          <a:noFill/>
          <a:ln w="0">
            <a:noFill/>
          </a:ln>
        </p:spPr>
        <p:txBody>
          <a:bodyPr anchor="t">
            <a:normAutofit/>
          </a:bodyPr>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Melios:</a:t>
            </a:r>
            <a:r>
              <a:rPr b="0" lang="es-ES" sz="3000" spc="-1" strike="noStrike">
                <a:solidFill>
                  <a:srgbClr val="ffffff"/>
                </a:solidFill>
                <a:latin typeface="Calibri"/>
              </a:rPr>
              <a:t> ¿De modo que no aceptaríais que, permaneciendo neutrales, fuéramos amigos en lugar de enemigos,  sin ser aliados de ninguno de los dos bandos?”  (p. 145)</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endParaRPr b="0" lang="en-US" sz="3000" spc="-1" strike="noStrike">
              <a:solidFill>
                <a:srgbClr val="ffffff"/>
              </a:solidFill>
              <a:latin typeface="Calibri"/>
            </a:endParaRPr>
          </a:p>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Atenienses:</a:t>
            </a:r>
            <a:r>
              <a:rPr b="0" lang="es-ES" sz="3000" spc="-1" strike="noStrike">
                <a:solidFill>
                  <a:srgbClr val="ffffff"/>
                </a:solidFill>
                <a:latin typeface="Calibri"/>
              </a:rPr>
              <a:t> “No, porque vuestra enemistad no nos perjudica tanto como vuestra amistad, que para los pueblos que están bajo nuestro dominio sería una prueba manifiesta de debilidad, mientras que vuestro odio se interpretaría como una prueba de nuestra fuerza” (p. 145)</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0">
                                            <p:txEl>
                                              <p:pRg st="0" end="0"/>
                                            </p:txEl>
                                          </p:spTgt>
                                        </p:tgtEl>
                                        <p:attrNameLst>
                                          <p:attrName>style.visibility</p:attrName>
                                        </p:attrNameLst>
                                      </p:cBhvr>
                                      <p:to>
                                        <p:strVal val="visible"/>
                                      </p:to>
                                    </p:set>
                                    <p:animEffect filter="fade" transition="in">
                                      <p:cBhvr additive="repl">
                                        <p:cTn id="67" dur="2000"/>
                                        <p:tgtEl>
                                          <p:spTgt spid="5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50">
                                            <p:txEl>
                                              <p:pRg st="2" end="2"/>
                                            </p:txEl>
                                          </p:spTgt>
                                        </p:tgtEl>
                                        <p:attrNameLst>
                                          <p:attrName>style.visibility</p:attrName>
                                        </p:attrNameLst>
                                      </p:cBhvr>
                                      <p:to>
                                        <p:strVal val="visible"/>
                                      </p:to>
                                    </p:set>
                                    <p:animEffect filter="fade" transition="in">
                                      <p:cBhvr additive="repl">
                                        <p:cTn id="72" dur="2000"/>
                                        <p:tgtEl>
                                          <p:spTgt spid="5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Effect filter="fade" transition="in">
                                      <p:cBhvr additive="repl">
                                        <p:cTn id="77"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57120" y="285480"/>
            <a:ext cx="8329680" cy="584028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Y no apreciáis seguridad en aquello que os propusimos? Porque llegados a este punto, del mismo modo que vosotros nos habéis hecho renunciar a los argumentos de derecho y tratáis de persuadirnos a que nos sometamos a vuestra conveniencia, es preciso también que a nuestra vez os hagamos ver lo que es útil para nosotros a fin de intentar persuadiros si se da el caso de que nuestra conveniencia coincide con la vuestr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Vamos a ver, todos aquellos pueblos que actualmente no son aliados de ninguno de los dos bandos, ¿cómo no los convertiréis en enemigos cuando dirijan su mirada a lo que está pasando aquí y se pongan a pensar que un día también marcharéis contra ellos? ¿Y con ese comportamiento, qué otra cosa haréis sino reforzar a vuestros enemigos actuales e incitar a convertirse en enemigos bien a su pesar a los que ni siquiera tenían intención de serlo?” (p. 146)</a:t>
            </a:r>
            <a:endParaRPr b="0" lang="en-US" sz="2500" spc="-1" strike="noStrike">
              <a:solidFill>
                <a:srgbClr val="ffffff"/>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1">
                                            <p:txEl>
                                              <p:pRg st="0" end="0"/>
                                            </p:txEl>
                                          </p:spTgt>
                                        </p:tgtEl>
                                        <p:attrNameLst>
                                          <p:attrName>style.visibility</p:attrName>
                                        </p:attrNameLst>
                                      </p:cBhvr>
                                      <p:to>
                                        <p:strVal val="visible"/>
                                      </p:to>
                                    </p:set>
                                    <p:animEffect filter="fade" transition="in">
                                      <p:cBhvr additive="repl">
                                        <p:cTn id="84" dur="2000"/>
                                        <p:tgtEl>
                                          <p:spTgt spid="5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1">
                                            <p:txEl>
                                              <p:pRg st="2" end="2"/>
                                            </p:txEl>
                                          </p:spTgt>
                                        </p:tgtEl>
                                        <p:attrNameLst>
                                          <p:attrName>style.visibility</p:attrName>
                                        </p:attrNameLst>
                                      </p:cBhvr>
                                      <p:to>
                                        <p:strVal val="visible"/>
                                      </p:to>
                                    </p:set>
                                    <p:animEffect filter="fade" transition="in">
                                      <p:cBhvr additive="repl">
                                        <p:cTn id="89"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21:25:10Z</dcterms:created>
  <dc:creator>vasco</dc:creator>
  <dc:description/>
  <dc:language>en-US</dc:language>
  <cp:lastModifiedBy>vasco</cp:lastModifiedBy>
  <dcterms:modified xsi:type="dcterms:W3CDTF">2009-03-24T16:52:37Z</dcterms:modified>
  <cp:revision>33</cp:revision>
  <dc:subject/>
  <dc:title>Diapositiva 1</dc:title>
</cp:coreProperties>
</file>