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7DE2-CCAC-42B5-BEE0-86C51824C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82CBB-9771-433B-95A9-E1F1BFCC4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1CF8C-A250-455E-A3BB-F23B94F14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B4DCE-38DF-452D-B36F-09DD4D299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20F31-9B0D-4190-B972-11ABBCE35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14E53-C9D1-4697-B332-983C6379D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BF9A0-1389-4242-A860-E6E3589C5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61782-08A2-4C60-9F33-0AD75312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6C5EC-3955-4BC1-9C1E-237E3C285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83CB2-236A-48A5-A766-3A033700D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7617F-A840-49B9-A34A-851227598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6675-607D-484C-828D-7494748E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C30E1-6956-4C93-9501-A0C6DB907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B54DA-7560-4FBA-B972-81D3C2A1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F50DD-AEC4-4181-B337-C265D8A48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EA293-0D03-4CBF-A564-E16014FDA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13C63-D8FF-4A91-96D4-625D0E246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85C2E-2EB3-4A83-BCE5-18ECAB16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0A195-006D-4984-A49D-05EB4C1EF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B39A0-0629-4482-8267-39C61A8B8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F590-F5F4-46D8-BBF5-CE3A0A9B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C964-7C17-451C-9CF1-CC4878CCB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C8A6-3F89-4362-B8CB-73DB87947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D69E-4A9B-4378-A3A0-8667244DA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DF25-B428-4286-B8EF-0AF5C181F13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FD31-AE76-4264-A527-7B3CAEBD032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dbbd71"/>
                </a:solidFill>
                <a:latin typeface="Arial"/>
              </a:rPr>
              <a:t>¿Qué es “política”? </a:t>
            </a:r>
            <a:br>
              <a:rPr sz="5400"/>
            </a:br>
            <a:r>
              <a:rPr b="0" lang="es-CL" sz="5400" spc="-1" strike="noStrike">
                <a:solidFill>
                  <a:srgbClr val="dbbd71"/>
                </a:solidFill>
                <a:latin typeface="Arial"/>
              </a:rPr>
              <a:t>La política como cienci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iovanni Sartori (1979). </a:t>
            </a:r>
            <a:r>
              <a:rPr b="0" i="1" lang="es-CL" sz="3200" spc="-1" strike="noStrike">
                <a:solidFill>
                  <a:srgbClr val="ffffff"/>
                </a:solidFill>
                <a:latin typeface="Tahoma"/>
              </a:rPr>
              <a:t>La política. Lógica y método en las ciencias sociales</a:t>
            </a:r>
            <a:r>
              <a:rPr b="0" lang="es-CL" sz="3200" spc="-1" strike="noStrike">
                <a:solidFill>
                  <a:srgbClr val="ffffff"/>
                </a:solidFill>
                <a:latin typeface="Tahoma"/>
              </a:rPr>
              <a:t> (Caps. VII y V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ectura p. 218 abajo a 220 arriba</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político ya no fue visto como un sistema jurídic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sí, la política resulta diferente a tod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qué es en sí, considerada en sí mis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mundo contemporáneo la política sufre una “crisis de identi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risis de identidad de la política es sobre todo una “crisis de ub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da una objeción de fondo que no se refiere ya a la identidad, sino a la autonomía de la política: la sociología tiende a reabsorber en su propio ámbito a la ciencia política y por lo tanto a la política misma (p. 22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hecho indesmentible: La ubicuidad  y por lo tanto la difusión de la política en el mundo contemporáneo (p. 22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e hecho puede ser interpretado por medio d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heteronomía: reduce la política a otra cosa, subordinándola al sistema social y a las fuerzas económicas (por ejemplo, marx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autonomía: observa que el mundo jamás ha estado tan “politizado” como ho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 ambas tesis opuestas, se sitúan las incertidumbres de identificabilidad, la dificultad de ubicar l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tercera tesis, la que ve la dilución, pérdida de fuerza y en este sentido, eclipse de la polít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es tesis que aluden de diferente manera a la ubicuidad de la política, a la colocación de la polít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dificultad básica de la ciencia política contemporánea provienen en parte importante de su </a:t>
            </a:r>
            <a:r>
              <a:rPr b="0" i="1" lang="es-CL" sz="3200" spc="-1" strike="noStrike">
                <a:solidFill>
                  <a:srgbClr val="ffffff"/>
                </a:solidFill>
                <a:latin typeface="Tahoma"/>
              </a:rPr>
              <a:t>objeto</a:t>
            </a:r>
            <a:r>
              <a:rPr b="0" lang="es-CL" sz="3200" spc="-1" strike="noStrike">
                <a:solidFill>
                  <a:srgbClr val="ffffff"/>
                </a:solidFill>
                <a:latin typeface="Tahoma"/>
              </a:rPr>
              <a:t>, la idea de qué es la política, cómo se la percibe, cómo se la identifica y cómo se la define</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amos ahora a examinar las dificultades relacionadas con la vertiente “ciencia”, es decir, vayamos al </a:t>
            </a:r>
            <a:r>
              <a:rPr b="0" i="1" lang="es-CL" sz="3200" spc="-1" strike="noStrike">
                <a:solidFill>
                  <a:srgbClr val="ffffff"/>
                </a:solidFill>
                <a:latin typeface="Tahoma"/>
              </a:rPr>
              <a:t>suje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La política como ciencia</a:t>
            </a:r>
            <a:r>
              <a:rPr b="0" lang="es-CL" sz="4400" spc="-1" strike="noStrike">
                <a:solidFill>
                  <a:srgbClr val="dbbd71"/>
                </a:solidFill>
                <a:latin typeface="Arial"/>
              </a:rPr>
              <a:t> </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25 en adelan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métod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y métod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en sentido estricto y ciencia en sentido lat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incular la ciencia política con la autonomía del politólogo –ciencia política en sentido lato- esto 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 su separación de todos los modos de conocer la política que primero fueron abarcados y filtrados por la lente especultativa, ética, jurídica, sociológica y otras más.</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decisiva fue la de la filosofía</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Ésta hizo posible el surgimiento de una ciencia política en el sentido lato de la expresión (p. 2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Filosofía, ciencia y teorí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obbio y su definición de la filosofía política (p. 230)</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ferencias con el enfoque politológico (p. 23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Tomadas por separado…” (p. 2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término “teoría” (p. 234)</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resumir… (pp. 236-2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Investigación y aplicabilidad</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al diferenciarse del filosofar agrega dos elemento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investigación como elemento de validación o de fabricación de la teor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dimensión operativa, es decir, la posibilidad de traducir la teoría en práctica, su aplicabilidad (pp. 237-23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línea divisoria lingüística</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ciencia son usos lingüísticos diferent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regunta perenne del filósofo se resume en un por qué, último, metafísico o metafenoménico, que involucra la </a:t>
            </a:r>
            <a:r>
              <a:rPr b="0" i="1" lang="es-CL" sz="3200" spc="-1" strike="noStrike">
                <a:solidFill>
                  <a:srgbClr val="ffffff"/>
                </a:solidFill>
                <a:latin typeface="Tahoma"/>
              </a:rPr>
              <a:t>ratio essendi</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interrogación prioritaria del hombre de ciencia se resume en un cómo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40</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Qué es “polític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reúnen adecuadamente la ciencia y l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mos revisar su “historia”: la historia de la cienci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una historia a dos voc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 debemos mantener separad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evitar reunirlas mal y de forma prematur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Cientificidad y no valorabilidad</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Hasta ahora hemos establecido:</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ciencia política en un sentido lato: un modo autónomo de estudiar la política en su autonom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acepción se va precisando a medida que se separa de la filosof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ólo establecemos la ciencia política por vía negativa: por lo que no e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aminemos ahora cómo se pasa de la acepción lata a la acepción estricta de la disciplina.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 en adelante </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requisitos comunes a todo conocimiento que pretenda ser científ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requisito del procedimiento científico: La elaboración de un lenguaj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etapas y momentos del procedimiento científ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las ciencias se separan obligadamente en sus procedimientos y técnicas de contro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saber científico no es tal si sus hipótesis y generalizaciones no pueden ser comprobadas (o darse por falsas), es decir, si no se pueden contro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7</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plano de los hechos, toda ciencia se debe conformar con los controles de que es capaz</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atro maneras de comprobar el acierto o el error de las proposicione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xperiment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estadístic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comparad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históric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47 -249</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uso de estos método de control y la politología</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adas estas premisas, ¿Cuándo apareció una ciencia política en sentido estricto?</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revolución behaviorista” </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opinión de David Easton</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 cientificación conductista posee tres características distintivas: la investigación, la cuantificación y la matematiz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0-252</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política behaviorista y la consigna de “Liberarse del val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examen de esta exigenc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interpretaciones (p. 251):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tesis de la </a:t>
            </a:r>
            <a:r>
              <a:rPr b="0" i="1" lang="es-CL" sz="3200" spc="-1" strike="noStrike">
                <a:solidFill>
                  <a:srgbClr val="ffffff"/>
                </a:solidFill>
                <a:latin typeface="Tahoma"/>
              </a:rPr>
              <a:t>neutralización</a:t>
            </a:r>
            <a:r>
              <a:rPr b="0" lang="es-CL" sz="3200" spc="-1" strike="noStrike">
                <a:solidFill>
                  <a:srgbClr val="ffffff"/>
                </a:solidFill>
                <a:latin typeface="Tahoma"/>
              </a:rPr>
              <a:t> de los valor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tesis de la </a:t>
            </a:r>
            <a:r>
              <a:rPr b="0" i="1" lang="es-CL" sz="3200" spc="-1" strike="noStrike">
                <a:solidFill>
                  <a:srgbClr val="ffffff"/>
                </a:solidFill>
                <a:latin typeface="Tahoma"/>
              </a:rPr>
              <a:t>cancelación</a:t>
            </a:r>
            <a:r>
              <a:rPr b="0" lang="es-CL" sz="3200" spc="-1" strike="noStrike">
                <a:solidFill>
                  <a:srgbClr val="ffffff"/>
                </a:solidFill>
                <a:latin typeface="Tahoma"/>
              </a:rPr>
              <a:t> de los val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53</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la demanda de “no-valorabilidad”  de la ciencia es un “principio regulador” y no un principio constitu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 balance</a:t>
            </a:r>
            <a:br>
              <a:rPr sz="4000"/>
            </a:b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ta cientificidad exhibe la cienci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 cierto retraso inicial en el desarrollo de la teoría, debido al exceso de operacion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a cierta dispersión teór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ganó la ciencia política con su cientifización behaviorista? (p. 23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36-237</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behaviorismo: movimiento interdisciplinari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voca que la politología al adoptarlo se diluya como discipli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movimiento behaviorista, lo quiera o no, contiene un potencial reduccionist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or ejemplo, contribuyó a la “sociologización de la polít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8-259</a:t>
            </a:r>
            <a:endParaRPr b="0" lang="en-US" sz="4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 que queda fuera de la óptica behaviorista ortodoxa es la denominada “caja negra”, justamente lo que queda fuera de la vista de un enfoque que sólo capta lo observable manifestado en las conductas (por ejemplo, los </a:t>
            </a:r>
            <a:r>
              <a:rPr b="0" i="1" lang="es-CL" sz="3200" spc="-1" strike="noStrike">
                <a:solidFill>
                  <a:srgbClr val="ffffff"/>
                </a:solidFill>
                <a:latin typeface="Tahoma"/>
              </a:rPr>
              <a:t>inputs</a:t>
            </a:r>
            <a:r>
              <a:rPr b="0" lang="es-CL" sz="3200" spc="-1" strike="noStrike">
                <a:solidFill>
                  <a:srgbClr val="ffffff"/>
                </a:solidFill>
                <a:latin typeface="Tahoma"/>
              </a:rPr>
              <a:t> y los </a:t>
            </a:r>
            <a:r>
              <a:rPr b="0" i="1" lang="es-CL" sz="3200" spc="-1" strike="noStrike">
                <a:solidFill>
                  <a:srgbClr val="ffffff"/>
                </a:solidFill>
                <a:latin typeface="Tahoma"/>
              </a:rPr>
              <a:t>outputs</a:t>
            </a: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a de polític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enzar por la idea de polític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icialmente un concepto indisolublemente ético-polít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olítica no se configura en su especificidad y autonomía hasta Maquiav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9-260</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behaviorización de la ciencia política, pues, con todos sus méritos, vuelve a cuestionar la autonomía de la polític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duce con su afán científico por la cuantificación a una “crisis de identidad” de la ciencia política nuevament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ligro de una pérdida de la identidad de la ciencia política por el movimiento hacia el trabajo interdisciplinario promovido por el behavior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autonomía de la política </a:t>
            </a:r>
            <a:br>
              <a:rPr sz="4000"/>
            </a:br>
            <a:r>
              <a:rPr b="0" lang="es-CL" sz="4000" spc="-1" strike="noStrike">
                <a:solidFill>
                  <a:srgbClr val="dbbd71"/>
                </a:solidFill>
                <a:latin typeface="Arial"/>
              </a:rPr>
              <a:t>(p. 208)</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política: cuatro tes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es difer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política es independ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a política es autosufic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la política es una causa prime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principal es la primera</a:t>
            </a:r>
            <a:r>
              <a:rPr b="0" lang="es-CL" sz="3200" spc="-1" strike="noStrike">
                <a:solidFill>
                  <a:srgbClr val="ffffff"/>
                </a:solidFill>
                <a:latin typeface="Tahoma"/>
              </a:rPr>
              <a:t>: ¿Diferente de qué? ¿De qué modo? ¿Hasta qué pu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a primera diferencia: política y moral </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 Maquiavelo la política se diferencia de la moral y de la religión: un paso decisivo en este proceso hacia la cienci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lítica tiene sus propias leyes</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ro en Maquiavelo todavía no hay cientificida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mpoco la cientificidad de Hobbes constituye una confluencia significativa de la ciencia y l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descubrimiento de la autonomía de la política no desemboca en un método científ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El descubrimiento de la sociedad</a:t>
            </a:r>
            <a:br>
              <a:rPr sz="4000"/>
            </a:br>
            <a:r>
              <a:rPr b="0" lang="es-ES" sz="4000" spc="-1" strike="noStrike">
                <a:solidFill>
                  <a:srgbClr val="dbbd71"/>
                </a:solidFill>
                <a:latin typeface="Arial"/>
              </a:rPr>
              <a:t>(p. 211)</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paso más difícil es establecer la diferencia entre Estado y socie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pasa a afirmar la realidad social como una realidad en sí misma, independiente y autosuficient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fue lentísi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sociedad respecto del Estado presupone otra diferencia: </a:t>
            </a:r>
            <a:r>
              <a:rPr b="0" i="1" lang="es-CL" sz="3200" spc="-1" strike="noStrike">
                <a:solidFill>
                  <a:srgbClr val="ffffff"/>
                </a:solidFill>
                <a:latin typeface="Tahoma"/>
              </a:rPr>
              <a:t>la esfera económ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sociedad como realidad autónoma </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eparación de lo social respecto a lo político supone la diferencia entre la política y la economí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economistas (Siglo XVIII): los que muestran cómo la vida en sociedad prospera y se desarrolla cuando el Estado no intervie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ociedad espontánea” de los economistas podía extenderse a la sociedad en general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remisas para “descubrir la sociedad” como realidad autónoma están maduras al iniciarse el siglo XIX</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glo XIX: La sociedad se configura como una realidad tan autónoma que puede volverse objeto de una ciencia en sí misma, que no era ya la econom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te la bautizó con el nombre de “sociología”, la reina de las cienci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social es el que genera el sistema político, se afirma aho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ntidad de la política</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apitulemos:</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no se consideró únicamente diferente de la mor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también se la diferenció de la economía</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uego no incluyó ya dentro de sí al sistema soci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Por último, se separan los vínculos entre política y 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01:37:56Z</dcterms:created>
  <dc:creator>Vasco</dc:creator>
  <dc:description/>
  <dc:language>en-US</dc:language>
  <cp:lastModifiedBy>Vasco</cp:lastModifiedBy>
  <dcterms:modified xsi:type="dcterms:W3CDTF">2010-05-07T13:04:34Z</dcterms:modified>
  <cp:revision>51</cp:revision>
  <dc:subject/>
  <dc:title>¿Qué es “política”?  La política como ciencia</dc:title>
</cp:coreProperties>
</file>