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9B4F7-1403-4054-A924-C724CD129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3C0F3-02DA-467F-B269-4C59AB055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90F4EE-AFF2-4FCE-9736-6D083CAE5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2E40E-620C-412F-BFEC-45A9614A4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9A1E1-091D-484E-AAD7-5503FC10D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C950D-AFD1-45EC-86E4-BF43B74B7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E92B2-F8DC-4C65-8FB2-FAE163736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86C34-ABFE-4938-8E39-C03F444699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83DFAB-6BC6-40EE-8C7D-A7E3E3E3D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79976-D6F7-48EC-B4E2-F9E1BCB60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915DB-DC4E-4C04-8213-2DE4BDBE5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77243-385F-4F0A-BA8D-0006F6632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5DD35-9ACA-4C8E-9A4B-9111B7B2B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2EC67-8603-4B5B-90CD-C8699FFC0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1BC75-010C-4D79-B3D8-8E466ADEA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87DC9-CE0C-4A82-A2F0-887F3BDCB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92EC1-1BBF-47DE-B626-A3677306A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33EC4-96E0-425E-83BF-FD2D87E19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381CE-868E-4FF8-8551-0EC5FF556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01BC6-4051-4FFA-A1B9-CC0441A90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D91E1-3E89-4C4E-822F-C6CB310F8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C0CAF-5668-4D6E-80C8-E368D97FE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FE960-F74C-4029-BC3D-2A251AC5E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91E30-EE44-4867-AEE7-8D41F1CD8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3949-9F20-4D96-9223-9FA7390DDAF9}"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81C36-91A4-4B3C-9F28-5740D41574A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dbbd71"/>
                </a:solidFill>
                <a:latin typeface="Arial"/>
              </a:rPr>
              <a:t>¿Qué es “política”? </a:t>
            </a:r>
            <a:br>
              <a:rPr sz="5400"/>
            </a:br>
            <a:r>
              <a:rPr b="0" lang="es-CL" sz="5400" spc="-1" strike="noStrike">
                <a:solidFill>
                  <a:srgbClr val="dbbd71"/>
                </a:solidFill>
                <a:latin typeface="Arial"/>
              </a:rPr>
              <a:t>La política como ciencia</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Giovanni Sartori (1979). </a:t>
            </a:r>
            <a:r>
              <a:rPr b="0" i="1" lang="es-CL" sz="3200" spc="-1" strike="noStrike">
                <a:solidFill>
                  <a:srgbClr val="ffffff"/>
                </a:solidFill>
                <a:latin typeface="Tahoma"/>
              </a:rPr>
              <a:t>La política. Lógica y método en las ciencias sociales</a:t>
            </a:r>
            <a:r>
              <a:rPr b="0" lang="es-CL" sz="3200" spc="-1" strike="noStrike">
                <a:solidFill>
                  <a:srgbClr val="ffffff"/>
                </a:solidFill>
                <a:latin typeface="Tahoma"/>
              </a:rPr>
              <a:t> (Caps. VII y VII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ectura p. 218 abajo a 220 arriba</a:t>
            </a:r>
            <a:endParaRPr b="0" lang="en-US" sz="4000" spc="-1" strike="noStrike">
              <a:solidFill>
                <a:srgbClr val="dbbd71"/>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sistema político ya no fue visto como un sistema jurídic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sí, la política resulta diferente a tod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o qué es en sí, considerada en sí mism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 el mundo contemporáneo la política sufre una “crisis de identida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risis de identidad de la política es sobre todo una “crisis de ub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eda una objeción de fondo que no se refiere ya a la identidad, sino a la autonomía de la política: la sociología tiende a reabsorber en su propio ámbito a la ciencia política y por lo tanto a la política misma (p. 222)</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hecho indesmentible: La ubicuidad  y por lo tanto la difusión de la política en el mundo contemporáneo (p. 22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e hecho puede ser interpretado por medio d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tesis de la heteronomía: reduce la política a otra cosa, subordinándola al sistema social y a las fuerzas económicas (por ejemplo, marxism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tesis de la autonomía: observa que el mundo jamás ha estado tan “politizado” como ho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tre ambas tesis opuestas, se sitúan las incertidumbres de identificabilidad, la dificultad de ubicar la polític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tercera tesis, la que ve la dilución, pérdida de fuerza y en este sentido, eclipse de la política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Tres tesis que aluden de diferente manera a la ubicuidad de la política, a la colocación de la polític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a dificultad básica de la ciencia política contemporánea provienen en parte importante de su </a:t>
            </a:r>
            <a:r>
              <a:rPr b="0" i="1" lang="es-CL" sz="3200" spc="-1" strike="noStrike">
                <a:solidFill>
                  <a:srgbClr val="ffffff"/>
                </a:solidFill>
                <a:latin typeface="Tahoma"/>
              </a:rPr>
              <a:t>objeto</a:t>
            </a:r>
            <a:r>
              <a:rPr b="0" lang="es-CL" sz="3200" spc="-1" strike="noStrike">
                <a:solidFill>
                  <a:srgbClr val="ffffff"/>
                </a:solidFill>
                <a:latin typeface="Tahoma"/>
              </a:rPr>
              <a:t>, la idea de qué es la política, cómo se la percibe, cómo se la identifica y cómo se la define</a:t>
            </a:r>
            <a:endParaRPr b="0" lang="en-US" sz="3200" spc="-1" strike="noStrike">
              <a:solidFill>
                <a:srgbClr val="ffffff"/>
              </a:solidFill>
              <a:latin typeface="Tahoma"/>
            </a:endParaRPr>
          </a:p>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amos ahora a examinar las dificultades relacionadas con la vertiente “ciencia”, es decir, vayamos al </a:t>
            </a:r>
            <a:r>
              <a:rPr b="0" i="1" lang="es-CL" sz="3200" spc="-1" strike="noStrike">
                <a:solidFill>
                  <a:srgbClr val="ffffff"/>
                </a:solidFill>
                <a:latin typeface="Tahoma"/>
              </a:rPr>
              <a:t>suje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dbbd71"/>
                </a:solidFill>
                <a:latin typeface="Arial"/>
              </a:rPr>
              <a:t>La política como ciencia</a:t>
            </a:r>
            <a:r>
              <a:rPr b="0" lang="es-CL" sz="4400" spc="-1" strike="noStrike">
                <a:solidFill>
                  <a:srgbClr val="dbbd71"/>
                </a:solidFill>
                <a:latin typeface="Arial"/>
              </a:rPr>
              <a:t> </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ctura p. 225 en adelant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ilosofía y métod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iencia y método</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iencia en sentido estricto y ciencia en sentido lato</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Vincular la ciencia política con la autonomía del politólogo –ciencia política en sentido lato- esto 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 su separación de todos los modos de conocer la política que primero fueron abarcados y filtrados por la lente especultativa, ética, jurídica, sociológica y otras más.</a:t>
            </a:r>
            <a:endParaRPr b="0" lang="en-US" sz="32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separación decisiva fue la de la filosofía</a:t>
            </a:r>
            <a:endParaRPr b="0" lang="en-US" sz="3200" spc="-1" strike="noStrike">
              <a:solidFill>
                <a:srgbClr val="ffffff"/>
              </a:solidFill>
              <a:latin typeface="Tahoma"/>
            </a:endParaRPr>
          </a:p>
          <a:p>
            <a:pPr marL="329040" indent="-3290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Ésta hizo posible el surgimiento de una ciencia política en el sentido lato de la expresión (p. 23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Filosofía, ciencia y teoría</a:t>
            </a:r>
            <a:br>
              <a:rPr sz="4000"/>
            </a:br>
            <a:endParaRPr b="0" lang="en-US" sz="4000" spc="-1" strike="noStrike">
              <a:solidFill>
                <a:srgbClr val="dbbd71"/>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Bobbio y su definición de la filosofía política (p. 230)</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iferencias con el enfoque politológico (p. 231)</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clusión del punto: “Tomadas por separado…” (p. 233)</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término “teoría” (p. 234)</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a resumir… (pp. 236-23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Investigación y aplicabilidad</a:t>
            </a:r>
            <a:br>
              <a:rPr sz="4000"/>
            </a:br>
            <a:endParaRPr b="0" lang="en-US" sz="4000" spc="-1" strike="noStrike">
              <a:solidFill>
                <a:srgbClr val="dbbd71"/>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iencia, al diferenciarse del filosofar agrega dos elemento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investigación como elemento de validación o de fabricación de la teorí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dimensión operativa, es decir, la posibilidad de traducir la teoría en práctica, su aplicabilidad (pp. 237-23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línea divisoria lingüística</a:t>
            </a:r>
            <a:endParaRPr b="0" lang="en-US" sz="4400" spc="-1" strike="noStrike">
              <a:solidFill>
                <a:srgbClr val="dbbd71"/>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Filosofía y ciencia son usos lingüísticos diferentes</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pregunta perenne del filósofo se resume en un por qué, último, metafísico o metafenoménico, que involucra la </a:t>
            </a:r>
            <a:r>
              <a:rPr b="0" i="1" lang="es-CL" sz="3200" spc="-1" strike="noStrike">
                <a:solidFill>
                  <a:srgbClr val="ffffff"/>
                </a:solidFill>
                <a:latin typeface="Tahoma"/>
              </a:rPr>
              <a:t>ratio essendi</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interrogación prioritaria del hombre de ciencia se resume en un cómo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ectura p. 240</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dbbd71"/>
                </a:solidFill>
                <a:latin typeface="Arial"/>
              </a:rPr>
              <a:t>¿Qué es “polític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do se reúnen adecuadamente la ciencia y la política?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ebemos revisar su “historia”: la historia de la ciencia política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 una historia a dos voc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e debemos mantener separada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ara evitar reunirlas mal y de forma prematur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Cientificidad y no valorabilidad</a:t>
            </a:r>
            <a:endParaRPr b="0" lang="en-US" sz="4400" spc="-1" strike="noStrike">
              <a:solidFill>
                <a:srgbClr val="dbbd71"/>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Hasta ahora hemos establecido:</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ciencia política en un sentido lato: un modo autónomo de estudiar la política en su autonomía</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acepción se va precisando a medida que se separa de la filosofía</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ólo establecemos la ciencia política por vía negativa: por lo que no es</a:t>
            </a:r>
            <a:endParaRPr b="0" lang="en-US" sz="2800" spc="-1" strike="noStrike">
              <a:solidFill>
                <a:srgbClr val="ffffff"/>
              </a:solidFill>
              <a:latin typeface="Tahoma"/>
            </a:endParaRPr>
          </a:p>
          <a:p>
            <a:pPr marL="332640" indent="-3326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xaminemos ahora cómo se pasa de la acepción lata a la acepción estricta de la disciplina. </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6 en adelante </a:t>
            </a:r>
            <a:endParaRPr b="0" lang="en-US" sz="4400" spc="-1" strike="noStrike">
              <a:solidFill>
                <a:srgbClr val="dbbd71"/>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os requisitos comunes a todo conocimiento que pretenda ser científic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imer requisito del procedimiento científico: La elaboración de un lenguaje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gundo, etapas y momentos del procedimiento científic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6</a:t>
            </a: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ero las ciencias se separan obligadamente en sus procedimientos y técnicas de control</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saber científico no es tal si sus hipótesis y generalizaciones no pueden ser comprobadas (o darse por falsas), es decir, si no se pueden controla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47</a:t>
            </a: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n el plano de los hechos, toda ciencia se debe conformar con los controles de que es capaz</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atro maneras de comprobar el acierto o el error de las proposiciones: </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experiment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estadístic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comparado</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control históric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47 -249</a:t>
            </a:r>
            <a:endParaRPr b="0" lang="en-US" sz="4400" spc="-1" strike="noStrike">
              <a:solidFill>
                <a:srgbClr val="dbbd71"/>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uso de estos método de control y la politología</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adas estas premisas, ¿Cuándo apareció una ciencia política en sentido estricto?</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revolución behaviorista” </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opinión de David Easton</a:t>
            </a:r>
            <a:endParaRPr b="0" lang="en-US" sz="3200" spc="-1" strike="noStrike">
              <a:solidFill>
                <a:srgbClr val="ffffff"/>
              </a:solidFill>
              <a:latin typeface="Tahoma"/>
            </a:endParaRPr>
          </a:p>
          <a:p>
            <a:pPr marL="322200" indent="-32220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 cientificación conductista posee tres características distintivas: la investigación, la cuantificación y la matematiz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0-252</a:t>
            </a:r>
            <a:endParaRPr b="0" lang="en-US" sz="4400" spc="-1" strike="noStrike">
              <a:solidFill>
                <a:srgbClr val="dbbd71"/>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ciencia política behaviorista y la consigna de “Liberarse del valo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n examen de esta exigenci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Dos interpretaciones (p. 251):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tesis de la </a:t>
            </a:r>
            <a:r>
              <a:rPr b="0" i="1" lang="es-CL" sz="3200" spc="-1" strike="noStrike">
                <a:solidFill>
                  <a:srgbClr val="ffffff"/>
                </a:solidFill>
                <a:latin typeface="Tahoma"/>
              </a:rPr>
              <a:t>neutralización</a:t>
            </a:r>
            <a:r>
              <a:rPr b="0" lang="es-CL" sz="3200" spc="-1" strike="noStrike">
                <a:solidFill>
                  <a:srgbClr val="ffffff"/>
                </a:solidFill>
                <a:latin typeface="Tahoma"/>
              </a:rPr>
              <a:t> de los valore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tesis de la </a:t>
            </a:r>
            <a:r>
              <a:rPr b="0" i="1" lang="es-CL" sz="3200" spc="-1" strike="noStrike">
                <a:solidFill>
                  <a:srgbClr val="ffffff"/>
                </a:solidFill>
                <a:latin typeface="Tahoma"/>
              </a:rPr>
              <a:t>cancelación</a:t>
            </a:r>
            <a:r>
              <a:rPr b="0" lang="es-CL" sz="3200" spc="-1" strike="noStrike">
                <a:solidFill>
                  <a:srgbClr val="ffffff"/>
                </a:solidFill>
                <a:latin typeface="Tahoma"/>
              </a:rPr>
              <a:t> de los val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 253</a:t>
            </a:r>
            <a:endParaRPr b="0" lang="en-US" sz="4400" spc="-1" strike="noStrike">
              <a:solidFill>
                <a:srgbClr val="dbbd71"/>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clusión del punto: la demanda de “no-valorabilidad”  de la ciencia es un “principio regulador” y no un principio constitutiv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Un balance</a:t>
            </a:r>
            <a:br>
              <a:rPr sz="4000"/>
            </a:br>
            <a:endParaRPr b="0" lang="en-US" sz="40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ta cientificidad exhibe la ciencia polític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onocimiento de un cierto retraso inicial en el desarrollo de la teoría, debido al exceso de operacionismo</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onocimiento de una cierta dispersión teórica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Qué ganó la ciencia política con su cientifización behaviorista? (p. 23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36-237</a:t>
            </a:r>
            <a:endParaRPr b="0" lang="en-US" sz="4400" spc="-1" strike="noStrike">
              <a:solidFill>
                <a:srgbClr val="dbbd71"/>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behaviorismo: movimiento interdisciplinari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voca que la politología al adoptarlo se diluya como disciplin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movimiento behaviorista, lo quiera o no, contiene un potencial reduccionist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or ejemplo, contribuyó a la “sociologización de la polític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8-259</a:t>
            </a:r>
            <a:endParaRPr b="0" lang="en-US" sz="4400" spc="-1" strike="noStrike">
              <a:solidFill>
                <a:srgbClr val="dbbd71"/>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o que queda fuera de la óptica behaviorista ortodoxa es la denominada “caja negra”, justamente lo que queda fuera de la vista de un enfoque que sólo capta lo observable manifestado en las conductas (por ejemplo, los </a:t>
            </a:r>
            <a:r>
              <a:rPr b="0" i="1" lang="es-CL" sz="3200" spc="-1" strike="noStrike">
                <a:solidFill>
                  <a:srgbClr val="ffffff"/>
                </a:solidFill>
                <a:latin typeface="Tahoma"/>
              </a:rPr>
              <a:t>inputs</a:t>
            </a:r>
            <a:r>
              <a:rPr b="0" lang="es-CL" sz="3200" spc="-1" strike="noStrike">
                <a:solidFill>
                  <a:srgbClr val="ffffff"/>
                </a:solidFill>
                <a:latin typeface="Tahoma"/>
              </a:rPr>
              <a:t> y los </a:t>
            </a:r>
            <a:r>
              <a:rPr b="0" i="1" lang="es-CL" sz="3200" spc="-1" strike="noStrike">
                <a:solidFill>
                  <a:srgbClr val="ffffff"/>
                </a:solidFill>
                <a:latin typeface="Tahoma"/>
              </a:rPr>
              <a:t>outputs</a:t>
            </a:r>
            <a:r>
              <a:rPr b="0" lang="es-C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idea de política:</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enzar por la idea de polític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Inicialmente un concepto indisolublemente ético-político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política no se configura en su especificidad y autonomía hasta Maquiavel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ectura pp. 259-260</a:t>
            </a:r>
            <a:endParaRPr b="0" lang="en-US" sz="4400" spc="-1" strike="noStrike">
              <a:solidFill>
                <a:srgbClr val="dbbd71"/>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behaviorización de la ciencia política, pues, con todos sus méritos, vuelve a cuestionar la autonomía de la política</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onduce con su afán científico por la cuantificación a una “crisis de identidad” de la ciencia política nuevamente</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eligro de una pérdida de la identidad de la ciencia política por el movimiento hacia el trabajo interdisciplinario promovido por el behavior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a autonomía de la política </a:t>
            </a:r>
            <a:br>
              <a:rPr sz="4000"/>
            </a:br>
            <a:r>
              <a:rPr b="0" lang="es-CL" sz="4000" spc="-1" strike="noStrike">
                <a:solidFill>
                  <a:srgbClr val="dbbd71"/>
                </a:solidFill>
                <a:latin typeface="Arial"/>
              </a:rPr>
              <a:t>(p. 208)</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autonomía de la política: cuatro tesi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política es difer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la política es independi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la política es autosuficient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4) la política es una causa primer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Tahoma"/>
              </a:rPr>
              <a:t>La principal es la primera</a:t>
            </a:r>
            <a:r>
              <a:rPr b="0" lang="es-CL" sz="3200" spc="-1" strike="noStrike">
                <a:solidFill>
                  <a:srgbClr val="ffffff"/>
                </a:solidFill>
                <a:latin typeface="Tahoma"/>
              </a:rPr>
              <a:t>: ¿Diferente de qué? ¿De qué modo? ¿Hasta qué punt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Una primera diferencia: política y moral </a:t>
            </a:r>
            <a:endParaRPr b="0" lang="en-US" sz="40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on Maquiavelo la política se diferencia de la moral y de la religión: un paso decisivo en este proceso hacia la ciencia política</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política tiene sus propias leyes</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ero en Maquiavelo todavía no hay cientificidad</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Tampoco la cientificidad de Hobbes constituye una confluencia significativa de la ciencia y la política</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descubrimiento de la autonomía de la política no desemboca en un método científ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El descubrimiento de la sociedad</a:t>
            </a:r>
            <a:br>
              <a:rPr sz="4000"/>
            </a:br>
            <a:r>
              <a:rPr b="0" lang="es-ES" sz="4000" spc="-1" strike="noStrike">
                <a:solidFill>
                  <a:srgbClr val="dbbd71"/>
                </a:solidFill>
                <a:latin typeface="Arial"/>
              </a:rPr>
              <a:t>(p. 211)</a:t>
            </a:r>
            <a:endParaRPr b="0" lang="en-US" sz="4000" spc="-1" strike="noStrike">
              <a:solidFill>
                <a:srgbClr val="dbbd71"/>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paso más difícil es establecer la diferencia entre Estado y socieda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uándo se pasa a afirmar la realidad social como una realidad en sí misma, independiente y autosuficiente?</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separación fue lentísima</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La autonomía de la sociedad respecto del Estado presupone otra diferencia: </a:t>
            </a:r>
            <a:r>
              <a:rPr b="0" i="1" lang="es-CL" sz="3200" spc="-1" strike="noStrike">
                <a:solidFill>
                  <a:srgbClr val="ffffff"/>
                </a:solidFill>
                <a:latin typeface="Tahoma"/>
              </a:rPr>
              <a:t>la esfera económic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bbd71"/>
                </a:solidFill>
                <a:latin typeface="Arial"/>
              </a:rPr>
              <a:t>La sociedad como realidad autónoma </a:t>
            </a:r>
            <a:endParaRPr b="0" lang="en-US" sz="4000" spc="-1" strike="noStrike">
              <a:solidFill>
                <a:srgbClr val="dbbd71"/>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separación de lo social respecto a lo político supone la diferencia entre la política y la economía</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os economistas (Siglo XVIII): los que muestran cómo la vida en sociedad prospera y se desarrolla cuando el Estado no interviene</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sociedad espontánea” de los economistas podía extenderse a la sociedad en general </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s premisas para “descubrir la sociedad” como realidad autónoma están maduras al iniciarse el siglo XIX</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iglo XIX: La sociedad se configura como una realidad tan autónoma que puede volverse objeto de una ciencia en sí misma, que no era ya la economía</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mte la bautizó con el nombre de “sociología”, la reina de las ciencias</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l sistema social es el que genera el sistema político, se afirma ahora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bbd71"/>
                </a:solidFill>
                <a:latin typeface="Arial"/>
              </a:rPr>
              <a:t>La identidad de la política</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Recapitulemos:</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1) la política no se consideró únicamente diferente de la moral</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2) también se la diferenció de la economía</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3) Luego no incluyó ya dentro de sí al sistema social</a:t>
            </a:r>
            <a:endParaRPr b="0" lang="en-US" sz="3200" spc="-1" strike="noStrike">
              <a:solidFill>
                <a:srgbClr val="ffffff"/>
              </a:solidFill>
              <a:latin typeface="Tahoma"/>
            </a:endParaRPr>
          </a:p>
          <a:p>
            <a:pPr marL="325800" indent="-3258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4) Por último, se separan los vínculos entre política y der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7T01:37:56Z</dcterms:created>
  <dc:creator>Vasco</dc:creator>
  <dc:description/>
  <dc:language>en-US</dc:language>
  <cp:lastModifiedBy>Vasco</cp:lastModifiedBy>
  <dcterms:modified xsi:type="dcterms:W3CDTF">2010-05-07T13:04:34Z</dcterms:modified>
  <cp:revision>51</cp:revision>
  <dc:subject/>
  <dc:title>¿Qué es “política”?  La política como ciencia</dc:title>
</cp:coreProperties>
</file>