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3B34-F2E7-4959-B329-59C0A14A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7C64-6DD2-41E1-9ABD-247F34D4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9125-386D-44BF-B3D0-95D14F26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E1CF-50CE-4230-9E25-8DA5D05E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0738-3D29-4BD2-BEB9-6C56E299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E205-A216-4526-BADC-DC377540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4525-88DD-4A74-B244-C7432EE0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95EE-F088-4CA8-AF5E-D702BD80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28D6-7F2C-41B6-B089-B0FD3D5A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DD77-FA1B-4DF9-9945-0E7C022E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B6EA-238D-4036-806E-50554BD0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ACF6-F8CA-4572-AFEA-6C15D75A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1CE5-2549-4834-A7D0-A472074EC0D0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Hannah Arendt y el republicanism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11 Marcador de contenido" descr="00034814[1].jpg"/>
          <p:cNvPicPr/>
          <p:nvPr/>
        </p:nvPicPr>
        <p:blipFill>
          <a:blip r:embed="rId1"/>
          <a:stretch/>
        </p:blipFill>
        <p:spPr>
          <a:xfrm>
            <a:off x="457200" y="2081160"/>
            <a:ext cx="4038480" cy="3564000"/>
          </a:xfrm>
          <a:prstGeom prst="rect">
            <a:avLst/>
          </a:prstGeom>
          <a:ln w="0">
            <a:noFill/>
          </a:ln>
        </p:spPr>
      </p:pic>
      <p:pic>
        <p:nvPicPr>
          <p:cNvPr id="43" name="15 Marcador de contenido" descr="constitucion-estados-unidos-we-the-people[1].jpg"/>
          <p:cNvPicPr/>
          <p:nvPr/>
        </p:nvPicPr>
        <p:blipFill>
          <a:blip r:embed="rId2"/>
          <a:stretch/>
        </p:blipFill>
        <p:spPr>
          <a:xfrm>
            <a:off x="5143680" y="2071800"/>
            <a:ext cx="28573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La revolución y el resurgimiento de la política en el mundo modern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Según Arendt hemos perdido el “tesoro” que trajeron las revoluciones: el resurgimiento de la auténtica política, la experiencia de la libertad públic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Hoy en día nos contentamos con el disfrute nuestras libertades privadas gracias al establecimiento de Estados limitados en sus poderes y funcion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Llamamos hoy libertad política “la serie más o menos amplia de actividades no políticas que son permitidas y garantizadas por el cuerpo político a sus miembros” (p. 37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28400" y="356760"/>
            <a:ext cx="82580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Creemos ser así libres, porque gracias a tal Estado nos vemos libres del miedo, la pobreza y el hambre (el Estado de bienestar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o gozamos de la auténtica libertad política:  “el contenido real de la libertad, la cual consiste (…) en la participación en los asuntos públicos o en la admisión en la esfera pública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eer pp. 41 – 42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 revolución americana y la revolución francesa son experiencias políticas que debemos estudiar porque en ellas reflotó la auténtica política, dormida por siglo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 felicidad pública en la revolución american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 libertad pública en la revolución frances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Hacia el final del texto Arendt afirma (p. 352)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adie puede ser feliz sin participar en la felicidad públic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adie puede ser libre sin la experiencia de la libertad públic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y nadie, finalmente, puede ser feliz o libre sin implicarse y formar parte del poder público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Realización humana: polític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ibertad humana: libertad polític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Poder político: poder público (creado, participado y sostenido por la acción de todo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2840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Un ser humano no puede ser libre si su libertad consiste exclusivamente en su bienestar privado, sin vida públic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Arendt denuncia la sociedades contemporáneas donde la “felicidad pública” se ha convertido en el privilegio de unos pocos (p. 373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Tampoco una sociedad es libre cuando la esfera política se limita a garantizar las libertades individual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2840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alibri"/>
              </a:rPr>
              <a:t>Arendt en estos momentos muestra el potencial crítico de su pensamiento para denunciar el empobrecimiento de la política actual, la despolitización de la vida colectiva actual, por muchos hoy aplaudida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alibri"/>
              </a:rPr>
              <a:t>Es posible a través del pensamiento de Arendt denunciar la despolitización del concepto mismo de lo político (liberalismo)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alibri"/>
              </a:rPr>
              <a:t>Denunciar también en otros enfoques la reducción de lo político a la fuerza y la violencia, cuando identifican poder político con violencia y fuerza, justamente lo apolítico para Arend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alibri"/>
              </a:rPr>
              <a:t>Muchos leen en la revolución sólo eso: el poder político como desnuda manifestación de la fuerza y la violencia desatada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Denunciar también a aquellos que saludan un Estado de bienestar que nos libera de la pesada carga de nuestras preocupaciones económicas, a cambio de relevarnos de nuestra acción política en el entendido que la acción política es lo gestión, administración (eficiencia exige expertos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Por último, denunciar a aquellos que saludan un nuevo mundo sin política, como el mejor de los mundo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Referencia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askerville Old Face"/>
              </a:rPr>
              <a:t>Hannah Arendt: </a:t>
            </a:r>
            <a:r>
              <a:rPr b="0" i="1" lang="es-ES" sz="3200" spc="-1" strike="noStrike">
                <a:solidFill>
                  <a:srgbClr val="000000"/>
                </a:solidFill>
                <a:latin typeface="Baskerville Old Face"/>
              </a:rPr>
              <a:t>Sobre la Revolución </a:t>
            </a:r>
            <a:r>
              <a:rPr b="0" lang="es-ES" sz="3200" spc="-1" strike="noStrike">
                <a:solidFill>
                  <a:srgbClr val="000000"/>
                </a:solidFill>
                <a:latin typeface="Baskerville Old Face"/>
              </a:rPr>
              <a:t>(196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askerville Old Face"/>
              </a:rPr>
              <a:t>Hannah Arendt: </a:t>
            </a:r>
            <a:r>
              <a:rPr b="0" i="1" lang="es-ES" sz="3200" spc="-1" strike="noStrike">
                <a:solidFill>
                  <a:srgbClr val="000000"/>
                </a:solidFill>
                <a:latin typeface="Baskerville Old Face"/>
              </a:rPr>
              <a:t>De la historia a la acción</a:t>
            </a:r>
            <a:r>
              <a:rPr b="0" lang="es-ES" sz="3200" spc="-1" strike="noStrike">
                <a:solidFill>
                  <a:srgbClr val="000000"/>
                </a:solidFill>
                <a:latin typeface="Baskerville Old Face"/>
              </a:rPr>
              <a:t> (199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askerville Old Face"/>
              </a:rPr>
              <a:t>Fernando Vallespín: “Hannah Arendt y el republicanismo”. En </a:t>
            </a:r>
            <a:r>
              <a:rPr b="0" i="1" lang="es-ES" sz="3200" spc="-1" strike="noStrike">
                <a:solidFill>
                  <a:srgbClr val="000000"/>
                </a:solidFill>
                <a:latin typeface="Baskerville Old Face"/>
              </a:rPr>
              <a:t>El siglo de Hannah Arendt</a:t>
            </a:r>
            <a:r>
              <a:rPr b="0" lang="es-ES" sz="3200" spc="-1" strike="noStrike">
                <a:solidFill>
                  <a:srgbClr val="000000"/>
                </a:solidFill>
                <a:latin typeface="Baskerville Old Face"/>
              </a:rPr>
              <a:t> (2006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28400" y="356760"/>
            <a:ext cx="82580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Hacia fines del siglo XVIII, “lo que ocurrió fue la reemergencia de la auténtica política, como en la antigüedad; así entiendo yo las revoluciones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A los revolucionarios del siglo XVIII, “tal situación los hizo volver a la antigüedad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todos ellos estaban totalmente desnudos y enfrentados al hecho de que los hombres existen en plural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Retornaron a la antigüedad “para encontrar un modelo para este nuevo reino de la política que querían producir, y que denominaron república”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H. Arendt: </a:t>
            </a:r>
            <a:r>
              <a:rPr b="0" i="1" lang="es-ES" sz="2800" spc="-1" strike="noStrike">
                <a:solidFill>
                  <a:srgbClr val="ffffff"/>
                </a:solidFill>
                <a:latin typeface="Calibri"/>
              </a:rPr>
              <a:t>De la historia a la acción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 (1995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La condición human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Condición humana y no naturaleza human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El </a:t>
            </a:r>
            <a:r>
              <a:rPr b="0" i="1" lang="es-ES" sz="2800" spc="-1" strike="noStrike">
                <a:solidFill>
                  <a:srgbClr val="ffffff"/>
                </a:solidFill>
                <a:latin typeface="Calibri"/>
              </a:rPr>
              <a:t>factum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 de la natalidad: la dimensión temporal de la acción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Cada recién llegado tiene la capacidad de empezar algo nuevo, es decir, de actua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El </a:t>
            </a:r>
            <a:r>
              <a:rPr b="0" i="1" lang="es-ES" sz="2800" spc="-1" strike="noStrike">
                <a:solidFill>
                  <a:srgbClr val="ffffff"/>
                </a:solidFill>
                <a:latin typeface="Calibri"/>
              </a:rPr>
              <a:t>factum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 de la pluralidad: la dimensión espacial de la acció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Nadie es igual a cualquier otro que haya vivido, viva o vivirá. La diversidad en la forma que accedemos, de manera distinta, a un mundo comú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l ámbito de lo público es el ámbito abierto a los otros, el mundo de la acción, de la presencia, la libertad y la igualda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 polis griega es el lugar donde en la antigüedad se crea una forma de organización autónoma de la necesidad: el espacio para la liberta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Separación de la esfera de la necesidad (oikos) y la esfera de la libertad (polis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l trabajo de Arendt pretende mostrar cómo las categorías como libertad /necesidad; felicidad pública / bienestar privado; poder / violencia han ido perdiendo su autonomía, perdiendo sus fronteras, y fueron colonizando el único espacio donde era posible la acció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n la Época Moderna, lo social acaba por convertirse en el principio regulador de todas las esferas. La vida social impone la racionalidad instrumental, técnica y funciona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 política se reduce a administració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Se pierde la dimensión del diálogo y de opinión propia de la política, para concentrarse en una actividad técnica, especializada en manos de expertos que administran las NECESIDADES de la sociedad de manera eficiente en relación a los recursos disponibl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Corresponde al triunfo de la economía y la pérdida de la polític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 gestión reemplaza a la polític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o se requiere ya ciudadanos sino  buenos </a:t>
            </a:r>
            <a:r>
              <a:rPr b="0" i="1" lang="es-ES" sz="3200" spc="-1" strike="noStrike">
                <a:solidFill>
                  <a:srgbClr val="ffffff"/>
                </a:solidFill>
                <a:latin typeface="Calibri"/>
              </a:rPr>
              <a:t>managers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s cuestiones políticas acaban planteándose como cuestiones técnica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o se necesita ya la política como espacio para la libre deliberación o espacio de discusión abierta a las opiniones sino más bien como el espacio para gestión eficiente del bienestar socia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ste proceso se desarrolla a lo largo de la Época Moderna y acaba en la triste experiencia del totalitarismo, la sociedad de masas, la dominación burocrática y el trabajo anónim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00:38:55Z</dcterms:created>
  <dc:creator>vasco</dc:creator>
  <dc:description/>
  <dc:language>en-US</dc:language>
  <cp:lastModifiedBy>vasco</cp:lastModifiedBy>
  <dcterms:modified xsi:type="dcterms:W3CDTF">2009-05-13T14:52:43Z</dcterms:modified>
  <cp:revision>22</cp:revision>
  <dc:subject/>
  <dc:title>Hannah Arendt y el republicanismo</dc:title>
</cp:coreProperties>
</file>