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281-F774-4F9B-8CA3-91BCEF04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8EB-3A20-4737-94C6-737E654C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C6B-E02E-4735-A767-80CF7A06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DAD-A97B-481D-BA36-0A76A955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4E5-F9CE-42B5-BF84-C0AC2678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1F5-B021-4937-8E1F-FCA50D94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0B7-77C5-493E-96A3-08C8D555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043-5FEA-4149-9C67-FE90ACDB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FA8-7481-43B2-90A5-E71501F4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3B9-FBF1-4074-AA71-4E434D4A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A0F-7110-49B6-9EE5-983D2C78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C4F-C3FC-4F22-A8D9-3934A70F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015F-6533-4C03-BB79-6DFC9DE8F0D5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Hannah Arendt y el republicanism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11 Marcador de contenido" descr="00034814[1].jpg"/>
          <p:cNvPicPr/>
          <p:nvPr/>
        </p:nvPicPr>
        <p:blipFill>
          <a:blip r:embed="rId1"/>
          <a:stretch/>
        </p:blipFill>
        <p:spPr>
          <a:xfrm>
            <a:off x="457200" y="2081160"/>
            <a:ext cx="4038480" cy="3564000"/>
          </a:xfrm>
          <a:prstGeom prst="rect">
            <a:avLst/>
          </a:prstGeom>
          <a:ln w="0">
            <a:noFill/>
          </a:ln>
        </p:spPr>
      </p:pic>
      <p:pic>
        <p:nvPicPr>
          <p:cNvPr id="43" name="15 Marcador de contenido" descr="constitucion-estados-unidos-we-the-people[1].jpg"/>
          <p:cNvPicPr/>
          <p:nvPr/>
        </p:nvPicPr>
        <p:blipFill>
          <a:blip r:embed="rId2"/>
          <a:stretch/>
        </p:blipFill>
        <p:spPr>
          <a:xfrm>
            <a:off x="5143680" y="2071800"/>
            <a:ext cx="285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La revolución y el resurgimiento de la política en el mundo modern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egún Arendt hemos perdido el “tesoro” que trajeron las revoluciones: el resurgimiento de la auténtica política, la experiencia de la libertad públ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oy en día nos contentamos con el disfrute nuestras libertades privadas gracias al establecimiento de Estados limitados en sus poderes y funcion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Llamamos hoy libertad política “la serie más o menos amplia de actividades no políticas que son permitidas y garantizadas por el cuerpo político a sus miembros” (p. 37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reemos ser así libres, porque gracias a tal Estado nos vemos libres del miedo, la pobreza y el hambre (el Estado de bienestar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gozamos de la auténtica libertad política:  “el contenido real de la libertad, la cual consiste (…) en la participación en los asuntos públicos o en la admisión en la esfera pública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eer pp. 41 – 4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revolución americana y la revolución francesa son experiencias políticas que debemos estudiar porque en ellas reflotó la auténtica política, dormida por sigl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felicidad pública en la revolución america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libertad pública en la revolución france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acia el final del texto Arendt afirma (p. 352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adie puede ser feliz sin participar en la felicidad públ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adie puede ser libre sin la experiencia de la libertad públ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y nadie, finalmente, puede ser feliz o libre sin implicarse y formar parte del poder público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Realización humana: polí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ibertad humana: libertad polí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oder político: poder público (creado, participado y sostenido por la acción de todo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Un ser humano no puede ser libre si su libertad consiste exclusivamente en su bienestar privado, sin vida públ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rendt denuncia la sociedades contemporáneas donde la “felicidad pública” se ha convertido en el privilegio de unos pocos (p. 373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Tampoco una sociedad es libre cuando la esfera política se limita a garantizar las libertades individua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Arendt en estos momentos muestra el potencial crítico de su pensamiento para denunciar el empobrecimiento de la política actual, la despolitización de la vida colectiva actual, por muchos hoy aplaudid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Es posible a través del pensamiento de Arendt denunciar la despolitización del concepto mismo de lo político (liberalismo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Denunciar también en otros enfoques la reducción de lo político a la fuerza y la violencia, cuando identifican poder político con violencia y fuerza, justamente lo apolítico para Arend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Muchos leen en la revolución sólo eso: el poder político como desnuda manifestación de la fuerza y la violencia desatad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Denunciar también a aquellos que saludan un Estado de bienestar que nos libera de la pesada carga de nuestras preocupaciones económicas, a cambio de relevarnos de nuestra acción política en el entendido que la acción política es lo gestión, administración (eficiencia exige experto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or último, denunciar a aquellos que saludan un nuevo mundo sin política, como el mejor de los mund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Referenci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Hannah Arendt: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Sobre la Revolución 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(196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Hannah Arendt: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De la historia a la acción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 (199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Fernando Vallespín: “Hannah Arendt y el republicanismo”. En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El siglo de Hannah Arendt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 (2006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acia fines del siglo XVIII, “lo que ocurrió fue la reemergencia de la auténtica política, como en la antigüedad; así entiendo yo las revoluciones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A los revolucionarios del siglo XVIII, “tal situación los hizo volver a la antigüedad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todos ellos estaban totalmente desnudos y enfrentados al hecho de que los hombres existen en plural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Retornaron a la antigüedad “para encontrar un modelo para este nuevo reino de la política que querían producir, y que denominaron república”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. Arendt: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De la historia a la acción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(1995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La condición human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ondición humana y no naturaleza huma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factum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de la natalidad: la dimensión temporal de la acció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ada recién llegado tiene la capacidad de empezar algo nuevo, es decir, de actua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factum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de la pluralidad: la dimensión espacial de la acció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Nadie es igual a cualquier otro que haya vivido, viva o vivirá. La diversidad en la forma que accedemos, de manera distinta, a un mundo comú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ámbito de lo público es el ámbito abierto a los otros, el mundo de la acción, de la presencia, la libertad y la igualda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polis griega es el lugar donde en la antigüedad se crea una forma de organización autónoma de la necesidad: el espacio para la liberta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eparación de la esfera de la necesidad (oikos) y la esfera de la libertad (poli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trabajo de Arendt pretende mostrar cómo las categorías como libertad /necesidad; felicidad pública / bienestar privado; poder / violencia han ido perdiendo su autonomía, perdiendo sus fronteras, y fueron colonizando el único espacio donde era posible la acció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 la Época Moderna, lo social acaba por convertirse en el principio regulador de todas las esferas. La vida social impone la racionalidad instrumental, técnica y funcion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política se reduce a administració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e pierde la dimensión del diálogo y de opinión propia de la política, para concentrarse en una actividad técnica, especializada en manos de expertos que administran las NECESIDADES de la sociedad de manera eficiente en relación a los recursos disponib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rresponde al triunfo de la economía y la pérdida de la polít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gestión reemplaza a la polít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se requiere ya ciudadanos sino  buenos </a:t>
            </a:r>
            <a:r>
              <a:rPr b="0" i="1" lang="es-ES" sz="3200" spc="-1" strike="noStrike">
                <a:solidFill>
                  <a:srgbClr val="ffffff"/>
                </a:solidFill>
                <a:latin typeface="Calibri"/>
              </a:rPr>
              <a:t>managers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s cuestiones políticas acaban planteándose como cuestiones técnica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se necesita ya la política como espacio para la libre deliberación o espacio de discusión abierta a las opiniones sino más bien como el espacio para gestión eficiente del bienestar soci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ste proceso se desarrolla a lo largo de la Época Moderna y acaba en la triste experiencia del totalitarismo, la sociedad de masas, la dominación burocrática y el trabajo anónim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0:38:55Z</dcterms:created>
  <dc:creator>vasco</dc:creator>
  <dc:description/>
  <dc:language>en-US</dc:language>
  <cp:lastModifiedBy>vasco</cp:lastModifiedBy>
  <dcterms:modified xsi:type="dcterms:W3CDTF">2009-05-13T14:52:43Z</dcterms:modified>
  <cp:revision>22</cp:revision>
  <dc:subject/>
  <dc:title>Hannah Arendt y el republicanismo</dc:title>
</cp:coreProperties>
</file>