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7D9-8B84-4F3B-8B80-D257F68D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C5B-E658-4CC9-A1CD-ECC6642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76A-BBC1-49B4-BE35-95791D2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55E-C86A-4351-A164-40957A18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0C0-B05F-4603-9F09-7A3160E1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D20-F794-40E8-B7E5-3C744C15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295-8702-4226-87B7-22F520C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6F6-1FDD-4E85-8549-56E0437C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715-8E07-45BE-A5AF-10F10A7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D0B-ACBF-4C33-B825-6D482811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453-1E38-48C9-8287-9AD5EC1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927-1D9B-4937-9CB1-121AF91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1831-70AE-42EF-86EF-158EC7DEAC0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Hannah Arendt y el republicanism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11 Marcador de contenido" descr="00034814[1].jpg"/>
          <p:cNvPicPr/>
          <p:nvPr/>
        </p:nvPicPr>
        <p:blipFill>
          <a:blip r:embed="rId1"/>
          <a:stretch/>
        </p:blipFill>
        <p:spPr>
          <a:xfrm>
            <a:off x="457200" y="2081160"/>
            <a:ext cx="4038480" cy="3564000"/>
          </a:xfrm>
          <a:prstGeom prst="rect">
            <a:avLst/>
          </a:prstGeom>
          <a:ln w="0">
            <a:noFill/>
          </a:ln>
        </p:spPr>
      </p:pic>
      <p:pic>
        <p:nvPicPr>
          <p:cNvPr id="43" name="15 Marcador de contenido" descr="constitucion-estados-unidos-we-the-people[1].jpg"/>
          <p:cNvPicPr/>
          <p:nvPr/>
        </p:nvPicPr>
        <p:blipFill>
          <a:blip r:embed="rId2"/>
          <a:stretch/>
        </p:blipFill>
        <p:spPr>
          <a:xfrm>
            <a:off x="5143680" y="20718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revolución y el resurgimiento de la política en el mundo modern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gún Arendt hemos perdido el “tesoro” que trajeron las revoluciones: el resurgimiento de la auténtica política, la experiencia de la libertad públ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oy en día nos contentamos con el disfrute nuestras libertades privadas gracias al establecimiento de Estados limitados en sus poderes y funcion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lamamos hoy libertad política “la serie más o menos amplia de actividades no políticas que son permitidas y garantizadas por el cuerpo político a sus miembros” (p. 37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reemos ser así libres, porque gracias a tal Estado nos vemos libres del miedo, la pobreza y el hambre (el Estado de bienestar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gozamos de la auténtica libertad política:  “el contenido real de la libertad, la cual consiste (…) en la participación en los asuntos públicos o en la admisión en la esfera pública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eer pp. 41 – 42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revolución americana y la revolución francesa son experiencias políticas que debemos estudiar porque en ellas reflotó la auténtica política, dormida por sig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felicidad pública en la revolución america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libertad pública en la revolución france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cia el final del texto Arendt afirma (p. 352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feliz sin participar en la felicid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adie puede ser libre sin la experiencia de la libertad públ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y nadie, finalmente, puede ser feliz o libre sin implicarse y formar parte del poder público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alización humana: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ibertad humana: libertad polític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der político: poder público (creado, participado y sostenido por la acción de tod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Un ser humano no puede ser libre si su libertad consiste exclusivamente en su bienestar privado, sin vida públ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Arendt denuncia la sociedades contemporáneas donde la “felicidad pública” se ha convertido en el privilegio de unos pocos (p. 373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mpoco una sociedad es libre cuando la esfera política se limita a garantizar las libertades individua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Arendt en estos momentos muestra el potencial crítico de su pensamiento para denunciar el empobrecimiento de la política actual, la despolitización de la vida colectiva actual, por muchos hoy aplaudid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Es posible a través del pensamiento de Arendt denunciar la despolitización del concepto mismo de lo político (liberalismo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Denunciar también en otros enfoques la reducción de lo político a la fuerza y la violencia, cuando identifican poder político con violencia y fuerza, justamente lo apolítico para Arend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Muchos leen en la revolución sólo eso: el poder político como desnuda manifestación de la fuerza y la violencia desatad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Denunciar también a aquellos que saludan un Estado de bienestar que nos libera de la pesada carga de nuestras preocupaciones económicas, a cambio de relevarnos de nuestra acción política en el entendido que la acción política es lo gestión, administración (eficiencia exige experto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or último, denunciar a aquellos que saludan un nuevo mundo sin política, como el mejor de los mund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Sobre la Revolución 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(196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Hannah Arendt: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De la historia a la acción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199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Fernando Vallespín: “Hannah Arendt y el republicanismo”. En </a:t>
            </a:r>
            <a:r>
              <a:rPr b="0" i="1" lang="es-ES" sz="3200" spc="-1" strike="noStrike">
                <a:solidFill>
                  <a:srgbClr val="000000"/>
                </a:solidFill>
                <a:latin typeface="Baskerville Old Face"/>
              </a:rPr>
              <a:t>El siglo de Hannah Arendt</a:t>
            </a:r>
            <a:r>
              <a:rPr b="0" lang="es-ES" sz="3200" spc="-1" strike="noStrike">
                <a:solidFill>
                  <a:srgbClr val="000000"/>
                </a:solidFill>
                <a:latin typeface="Baskerville Old Face"/>
              </a:rPr>
              <a:t> (2006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400" y="356760"/>
            <a:ext cx="8258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acia fines del siglo XVIII, “lo que ocurrió fue la reemergencia de la auténtica política, como en la antigüedad; así entiendo yo las revoluciones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 los revolucionarios del siglo XVIII, “tal situación los hizo volver a la antigüedad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todos ellos estaban totalmente desnudos y enfrentados al hecho de que los hombres existen en plural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Retornaron a la antigüedad “para encontrar un modelo para este nuevo reino de la política que querían producir, y que denominaron república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H. Arendt: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De la historia a la acción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(1995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La condición human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dición humana y no naturaleza huma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natalidad: la dimensión temporal de la acción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ada recién llegado tiene la capacidad de empezar algo nuevo, es decir, de actu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0" i="1" lang="es-ES" sz="2800" spc="-1" strike="noStrike">
                <a:solidFill>
                  <a:srgbClr val="ffffff"/>
                </a:solidFill>
                <a:latin typeface="Calibri"/>
              </a:rPr>
              <a:t>factum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 de la pluralidad: la dimensión espacial de la acció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adie es igual a cualquier otro que haya vivido, viva o vivirá. La diversidad en la forma que accedemos, de manera distinta, a un mundo comú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ámbito de lo público es el ámbito abierto a los otros, el mundo de la acción, de la presencia, la libertad y la iguald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is griega es el lugar donde en la antigüedad se crea una forma de organización autónoma de la necesidad: el espacio para la liberta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paración de la esfera de la necesidad (oikos) y la esfera de la libertad (poli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trabajo de Arendt pretende mostrar cómo las categorías como libertad /necesidad; felicidad pública / bienestar privado; poder / violencia han ido perdiendo su autonomía, perdiendo sus fronteras, y fueron colonizando el único espacio donde era posible la ac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n la Época Moderna, lo social acaba por convertirse en el principio regulador de todas las esferas. La vida social impone la racionalidad instrumental, técnica y funcion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política se reduce a administració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e pierde la dimensión del diálogo y de opinión propia de la política, para concentrarse en una actividad técnica, especializada en manos de expertos que administran las NECESIDADES de la sociedad de manera eficiente en relación a los recursos disponib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rresponde al triunfo de la economía y la pérdida de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 gestión reemplaza a la polít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requiere ya ciudadanos sino  buenos </a:t>
            </a:r>
            <a:r>
              <a:rPr b="0" i="1" lang="es-ES" sz="3200" spc="-1" strike="noStrike">
                <a:solidFill>
                  <a:srgbClr val="ffffff"/>
                </a:solidFill>
                <a:latin typeface="Calibri"/>
              </a:rPr>
              <a:t>managers</a:t>
            </a: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Las cuestiones políticas acaban planteándose como cuestiones técnica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o se necesita ya la política como espacio para la libre deliberación o espacio de discusión abierta a las opiniones sino más bien como el espacio para gestión eficiente del bienestar soci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ste proceso se desarrolla a lo largo de la Época Moderna y acaba en la triste experiencia del totalitarismo, la sociedad de masas, la dominación burocrática y el trabajo anónim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38:55Z</dcterms:created>
  <dc:creator>vasco</dc:creator>
  <dc:description/>
  <dc:language>en-US</dc:language>
  <cp:lastModifiedBy>vasco</cp:lastModifiedBy>
  <dcterms:modified xsi:type="dcterms:W3CDTF">2009-05-13T14:52:43Z</dcterms:modified>
  <cp:revision>22</cp:revision>
  <dc:subject/>
  <dc:title>Hannah Arendt y el republicanismo</dc:title>
</cp:coreProperties>
</file>