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2B3-11A5-4210-8AF3-B303ADF1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627-6DD7-4F4B-804A-33899BD1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F0E-03D0-4D33-9E55-D8B5093A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403-35DC-4EDE-8563-F3CE7CE6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2FF-7DC5-4EEF-BF9F-A63BA403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B06-B4B6-4B9C-A377-BB22EC0C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0E9-328A-4106-A39D-3FF67D11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814-07CF-44EA-9815-0832EE94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DD2-DEB6-41AC-907D-19C5225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7EC-7B9B-4BB1-AE89-81A10C40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901-DB29-4403-9E1C-79FECABF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154-174E-4ED3-B927-4C45542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A966-52C0-41FF-9326-BEB97A2909F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5143680"/>
            <a:ext cx="77439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900" spc="-1" strike="noStrike">
                <a:solidFill>
                  <a:srgbClr val="eeece1"/>
                </a:solidFill>
                <a:latin typeface="Calibri"/>
              </a:rPr>
              <a:t>Antonio </a:t>
            </a:r>
            <a:r>
              <a:rPr b="0" lang="es-ES" sz="6600" spc="-1" strike="noStrike">
                <a:solidFill>
                  <a:srgbClr val="eeece1"/>
                </a:solidFill>
                <a:latin typeface="Calibri"/>
              </a:rPr>
              <a:t>Grams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y que corresponden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la función de “hegemonía” que el grupo dominante ejerce sobre toda la sociedad; y a la de “dominio directo” o de comando que se expresa en el Estado y en el gobierno “jurídico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Toda revolución ha sido precedida por un intenso trabajo de crítica, de penetración cultural, de permeación de ideas a través de agregados humanos al principio refractarios y sólo atentos a resolver día a día, hora por hora, y para ellos mismos, su problema económico y político, sin vínculos de solidaridad con los demás que se encontraban en las mismas condicion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mismo fenómeno se repite hoy para el socialismo. La conciencia unitaria del proletariado se ha formado o se está formando a través de la crítica de la civilización capitalista, y crítica quiere decir cultura, y no ya evolución espontánea y naturalist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Es por ello necesario combatir al economicismo no sólo en la teoría de la historiografía, sino también y especialmente en la teoría y en la práctica política. En este campo la lucha puede y debe ser conducida desarrollan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ncepto de hegemonía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AD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 la fue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CTAD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unción de domi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OMIN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en sentido estri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l conse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función de dire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IRIG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iciativas llamadas “privada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esta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Gubern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Jurídico-esta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el Dere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Militar y polici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de 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Escu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s Igles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os sindica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pren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286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n política, el error consiste en una comprensión inexacta del Estado en sentido pleno: dictadura + hegemoní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stado: sociedad política + sociedad civil, o sea, hegemonía acorazada de coac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La supremacía de un grupo social se manifiesta de dos modos, como “dominio” y como “dirección intelectual y moral”. Un grupo social es dominante respecto de los grupos adversarios que tiende a “liquidar” o a someter incluso con la fuerza armada, y es dirigente de los grupos afines o “aliado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Un grupo social puede y hasta tiene que ser dirigente, ya antes de conquistar el poder gubernativo (esta es una de las condiciones principales para la conquista del poder); luego, cuando ejerce el poder y aunque lo tenga firmemente en las manos, se hace dominante, pero tiene que seguir siendo también “dirigente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Para la filosofía de la práctica las ideologías son todo menos arbitrarias, son hechos históricos reales que es preciso combatir y develar en su naturaleza de dominación, no por razones de moralidad, etc., sino precisamente por razones de lucha política: para hacer intelectualmente independientes los gobernados de los gobernantes, para destruir una hegemonía y crear otr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    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stado es todo el complejo de actividades prácticas y teóricas con las cuales la clase dirigente no sólo justifica y mantiene su dominio, sino también logra obtener el consenso activo de los gobernado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El estudio que he hecho sobre los intelectuales (…) lleva también a ciertas determinaciones del concepto de Estado, el cual es a menudo entendido como la sociedad política (o dictadura, o aparato coercitivo, para conformar a la masa popular según el tipo de producción y de economía en un momento dado) y no como el equilibrio entre la sociedad política y la sociedad civil (o hegemonía de un grupo sobre toda la sociedad nacional, ejercida a través de l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organizaciones que suelen llamarse privadas, como la Iglesia, los sindicatos, las escuelas, etc.), y precisamente es en la sociedad civil en la que sobre todo actúan los intelectua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Se pueden fijar dos grandes planos superestructural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que se puede llamar de la “sociedad civil”, que está formado por el conjunto de los organismos vulgarmente “privados”; y el de la “sociedad política o Estado”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21:23:01Z</dcterms:created>
  <dc:creator>vasco</dc:creator>
  <dc:description/>
  <dc:language>en-US</dc:language>
  <cp:lastModifiedBy>vasco</cp:lastModifiedBy>
  <dcterms:modified xsi:type="dcterms:W3CDTF">2008-11-27T23:07:08Z</dcterms:modified>
  <cp:revision>35</cp:revision>
  <dc:subject/>
  <dc:title>Antonio Gramsci</dc:title>
</cp:coreProperties>
</file>