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BD6C-32F0-4DA8-8286-39522D87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CB8-82FE-42ED-BDED-B88570D9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7A3F-F83B-43FC-BF7C-9E4C2618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65B8-F377-4C7C-A7BB-2B3A0C25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47D8-06ED-4C67-A22E-255EDD8E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665F-804B-4C0F-863A-561292DA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5E58-FCD9-4792-84DE-07FAAC77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2E9-375F-45DB-B3C8-3F975EDC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6523-33E7-40B6-81C1-75B1057A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DF3-DEC7-4AE4-B495-E5481245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3DA7-4F2E-4504-81D8-B4C00498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C1AD-9649-4E95-96AB-B9E39874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150C-F785-4D25-9045-2652586CA32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5143680"/>
            <a:ext cx="7743960" cy="59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900" spc="-1" strike="noStrike">
                <a:solidFill>
                  <a:srgbClr val="eeece1"/>
                </a:solidFill>
                <a:latin typeface="Calibri"/>
              </a:rPr>
              <a:t>Antonio </a:t>
            </a:r>
            <a:r>
              <a:rPr b="0" lang="es-ES" sz="6600" spc="-1" strike="noStrike">
                <a:solidFill>
                  <a:srgbClr val="eeece1"/>
                </a:solidFill>
                <a:latin typeface="Calibri"/>
              </a:rPr>
              <a:t>Gramsci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y que corresponden 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la función de “hegemonía” que el grupo dominante ejerce sobre toda la sociedad; y a la de “dominio directo” o de comando que se expresa en el Estado y en el gobierno “jurídico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Toda revolución ha sido precedida por un intenso trabajo de crítica, de penetración cultural, de permeación de ideas a través de agregados humanos al principio refractarios y sólo atentos a resolver día a día, hora por hora, y para ellos mismos, su problema económico y político, sin vínculos de solidaridad con los demás que se encontraban en las mismas condicion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El mismo fenómeno se repite hoy para el socialismo. La conciencia unitaria del proletariado se ha formado o se está formando a través de la crítica de la civilización capitalista, y crítica quiere decir cultura, y no ya evolución espontánea y naturalista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54061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254061"/>
                </a:solidFill>
                <a:latin typeface="Calibri"/>
              </a:rPr>
              <a:t>Es por ello necesario combatir al economicismo no sólo en la teoría de la historiografía, sino también y especialmente en la teoría y en la práctica política. En este campo la lucha puede y debe ser conducida desarrollando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concepto de hegemonía</a:t>
            </a:r>
            <a:r>
              <a:rPr b="0" lang="es-ES" sz="3200" spc="-1" strike="noStrike">
                <a:solidFill>
                  <a:srgbClr val="254061"/>
                </a:solidFill>
                <a:latin typeface="Calibri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STAD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CIEDAD POLÍ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omento de la fuer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ICTAD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unción de domin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ASE DOMIN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do en sentido estri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CIEDAD CIV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omento del consen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EGEMON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función de direc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ASE DIRIG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iciativas llamadas “privada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ST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CIEDAD POLÍ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paratos estat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Guberna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Jurídico-esta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el Derec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Militar y polici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CIEDAD CIV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paratos de hegemon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la Escue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las Igles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los sindica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la prens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82868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En política, el error consiste en una comprensión inexacta del Estado en sentido pleno: dictadura + hegemoní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Estado: sociedad política + sociedad civil, o sea, hegemonía acorazada de coacció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La supremacía de un grupo social se manifiesta de dos modos, como “dominio” y como “dirección intelectual y moral”. Un grupo social es dominante respecto de los grupos adversarios que tiende a “liquidar” o a someter incluso con la fuerza armada, y es dirigente de los grupos afines o “aliados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Un grupo social puede y hasta tiene que ser dirigente, ya antes de conquistar el poder gubernativo (esta es una de las condiciones principales para la conquista del poder); luego, cuando ejerce el poder y aunque lo tenga firmemente en las manos, se hace dominante, pero tiene que seguir siendo también “dirigente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Para la filosofía de la práctica las ideologías son todo menos arbitrarias, son hechos históricos reales que es preciso combatir y develar en su naturaleza de dominación, no por razones de moralidad, etc., sino precisamente por razones de lucha política: para hacer intelectualmente independientes los gobernados de los gobernantes, para destruir una hegemonía y crear otr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    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Estado es todo el complejo de actividades prácticas y teóricas con las cuales la clase dirigente no sólo justifica y mantiene su dominio, sino también logra obtener el consenso activo de los gobernado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000" spc="-1" strike="noStrike">
                <a:solidFill>
                  <a:srgbClr val="10253f"/>
                </a:solidFill>
                <a:latin typeface="Calibri"/>
              </a:rPr>
              <a:t>El estudio que he hecho sobre los intelectuales (…) lleva también a ciertas determinaciones del concepto de Estado, el cual es a menudo entendido como la sociedad política (o dictadura, o aparato coercitivo, para conformar a la masa popular según el tipo de producción y de economía en un momento dado) y no como el equilibrio entre la sociedad política y la sociedad civil (o hegemonía de un grupo sobre toda la sociedad nacional, ejercida a través de l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organizaciones que suelen llamarse privadas, como la Iglesia, los sindicatos, las escuelas, etc.), y precisamente es en la sociedad civil en la que sobre todo actúan los intelectual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Se pueden fijar dos grandes planos superestructural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El que se puede llamar de la “sociedad civil”, que está formado por el conjunto de los organismos vulgarmente “privados”; y el de la “sociedad política o Estado”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21:23:01Z</dcterms:created>
  <dc:creator>vasco</dc:creator>
  <dc:description/>
  <dc:language>en-US</dc:language>
  <cp:lastModifiedBy>vasco</cp:lastModifiedBy>
  <dcterms:modified xsi:type="dcterms:W3CDTF">2008-11-27T23:07:08Z</dcterms:modified>
  <cp:revision>35</cp:revision>
  <dc:subject/>
  <dc:title>Antonio Gramsci</dc:title>
</cp:coreProperties>
</file>