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C6A-38F2-464E-B3F6-AAC84669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D07-CBB1-4ED1-81EB-5F1A47E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139-3F88-42C9-9809-9F6D414F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A24-F91B-4823-913E-783F731A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B41-9CF8-4526-A16A-BC1905D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A68-14AD-4A91-9AF6-0200CCD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839-8EA5-4730-8094-D3281DE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403-8239-4D6E-9FDC-1632E34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85B-9BF9-499D-84B1-E54A3C1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3F5-6972-441F-A838-A0348B3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1E8-0EC1-45F4-89F0-770AFF2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A04-B5BB-4E23-8849-23147DA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763-30B6-4864-989B-A931DE25EB6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143680"/>
            <a:ext cx="77439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eeece1"/>
                </a:solidFill>
                <a:latin typeface="Calibri"/>
              </a:rPr>
              <a:t>Antonio </a:t>
            </a:r>
            <a:r>
              <a:rPr b="0" lang="es-ES" sz="6600" spc="-1" strike="noStrike">
                <a:solidFill>
                  <a:srgbClr val="eeece1"/>
                </a:solidFill>
                <a:latin typeface="Calibri"/>
              </a:rPr>
              <a:t>Grams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y que corresponden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la función de “hegemonía” que el grupo dominante ejerce sobre toda la sociedad; y a la de “dominio directo” o de comando que se expresa en el Estado y en el gobierno “jurídic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Toda revolución ha sido precedida por un intenso trabajo de crítica, de penetración cultural, de permeación de ideas a través de agregados humanos al principio refractarios y sólo atentos a resolver día a día, hora por hora, y para ellos mismos, su problema económico y político, sin vínculos de solidaridad con los demás que se encontraban en las mismas condi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mismo fenómeno se repite hoy para el socialismo. La conciencia unitaria del proletariado se ha formado o se está formando a través de la crítica de la civilización capitalista, y crítica quiere decir cultura, y no ya evolución espontánea y naturalist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Es por ello necesario combatir al economicismo no sólo en la teoría de la historiografía, sino también y especialmente en la teoría y en la práctica política. En este campo la lucha puede y debe ser conducida desarrollan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cepto de hegemonía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AD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 la fue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CTAD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unción de do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OMIN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en sentido estri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l conse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función de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IRIG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iciativas llamadas “privada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esta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Gubern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Jurídico-est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el 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Militar y polic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de 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Escu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s Igles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os sindic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pren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n política, el error consiste en una comprensión inexacta del Estado en sentido pleno: dictadura + hegemoní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stado: sociedad política + sociedad civil, o sea, hegemonía acorazada de coac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La supremacía de un grupo social se manifiesta de dos modos, como “dominio” y como “dirección intelectual y moral”. Un grupo social es dominante respecto de los grupos adversarios que tiende a “liquidar” o a someter incluso con la fuerza armada, y es dirigente de los grupos afines o “aliado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Un grupo social puede y hasta tiene que ser dirigente, ya antes de conquistar el poder gubernativo (esta es una de las condiciones principales para la conquista del poder); luego, cuando ejerce el poder y aunque lo tenga firmemente en las manos, se hace dominante, pero tiene que seguir siendo también “dirigent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Para la filosofía de la práctica las ideologías son todo menos arbitrarias, son hechos históricos reales que es preciso combatir y develar en su naturaleza de dominación, no por razones de moralidad, etc., sino precisamente por razones de lucha política: para hacer intelectualmente independientes los gobernados de los gobernantes, para destruir una hegemonía y crear otr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    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stado es todo el complejo de actividades prácticas y teóricas con las cuales la clase dirigente no sólo justifica y mantiene su dominio, sino también logra obtener el consenso activo de los gobernado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El estudio que he hecho sobre los intelectuales (…) lleva también a ciertas determinaciones del concepto de Estado, el cual es a menudo entendido como la sociedad política (o dictadura, o aparato coercitivo, para conformar a la masa popular según el tipo de producción y de economía en un momento dado) y no como el equilibrio entre la sociedad política y la sociedad civil (o hegemonía de un grupo sobre toda la sociedad nacional, ejercida a través de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organizaciones que suelen llamarse privadas, como la Iglesia, los sindicatos, las escuelas, etc.), y precisamente es en la sociedad civil en la que sobre todo actúan los intelectua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Se pueden fijar dos grandes planos superestructural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que se puede llamar de la “sociedad civil”, que está formado por el conjunto de los organismos vulgarmente “privados”; y el de la “sociedad política o Estado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23:01Z</dcterms:created>
  <dc:creator>vasco</dc:creator>
  <dc:description/>
  <dc:language>en-US</dc:language>
  <cp:lastModifiedBy>vasco</cp:lastModifiedBy>
  <dcterms:modified xsi:type="dcterms:W3CDTF">2008-11-27T23:07:08Z</dcterms:modified>
  <cp:revision>35</cp:revision>
  <dc:subject/>
  <dc:title>Antonio Gramsci</dc:title>
</cp:coreProperties>
</file>