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0B23-31C2-448D-91C2-B4CF21443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E2A5-E197-48BE-B083-C1F007103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C884-7EBF-40F3-AFBF-6EBF077EE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8F3B-D7CC-4D29-8E9C-7814477BA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8717-224A-4071-B8AE-859C64259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819E-F519-4014-9487-4C5EFB62A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7F11-4035-43A2-80ED-3296F55ED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11E0-8CD0-4DA9-99A5-FF0E9DCF8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A82A-ABFA-4D79-BE79-800B4FE38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2510-31ED-495C-899F-EF5D65F8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977B-475B-44FB-AD60-ABA604BE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CE16-7B32-4983-9C2B-386F512D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2FF30-47DA-4957-A73A-304555A63823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6800" y="5143680"/>
            <a:ext cx="7743960" cy="59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900" spc="-1" strike="noStrike">
                <a:solidFill>
                  <a:srgbClr val="eeece1"/>
                </a:solidFill>
                <a:latin typeface="Calibri"/>
              </a:rPr>
              <a:t>Antonio </a:t>
            </a:r>
            <a:r>
              <a:rPr b="0" lang="es-ES" sz="6600" spc="-1" strike="noStrike">
                <a:solidFill>
                  <a:srgbClr val="eeece1"/>
                </a:solidFill>
                <a:latin typeface="Calibri"/>
              </a:rPr>
              <a:t>Gramsci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Grams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0253f"/>
                </a:solidFill>
                <a:latin typeface="Calibri"/>
              </a:rPr>
              <a:t>y que corresponden 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0253f"/>
                </a:solidFill>
                <a:latin typeface="Calibri"/>
              </a:rPr>
              <a:t>la función de “hegemonía” que el grupo dominante ejerce sobre toda la sociedad; y a la de “dominio directo” o de comando que se expresa en el Estado y en el gobierno “jurídico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Grams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0253f"/>
                </a:solidFill>
                <a:latin typeface="Calibri"/>
              </a:rPr>
              <a:t>“</a:t>
            </a:r>
            <a:r>
              <a:rPr b="0" lang="es-ES" sz="3200" spc="-1" strike="noStrike">
                <a:solidFill>
                  <a:srgbClr val="10253f"/>
                </a:solidFill>
                <a:latin typeface="Calibri"/>
              </a:rPr>
              <a:t>Toda revolución ha sido precedida por un intenso trabajo de crítica, de penetración cultural, de permeación de ideas a través de agregados humanos al principio refractarios y sólo atentos a resolver día a día, hora por hora, y para ellos mismos, su problema económico y político, sin vínculos de solidaridad con los demás que se encontraban en las mismas condiciones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Grams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0253f"/>
                </a:solidFill>
                <a:latin typeface="Calibri"/>
              </a:rPr>
              <a:t>“</a:t>
            </a:r>
            <a:r>
              <a:rPr b="0" lang="es-ES" sz="3200" spc="-1" strike="noStrike">
                <a:solidFill>
                  <a:srgbClr val="10253f"/>
                </a:solidFill>
                <a:latin typeface="Calibri"/>
              </a:rPr>
              <a:t>El mismo fenómeno se repite hoy para el socialismo. La conciencia unitaria del proletariado se ha formado o se está formando a través de la crítica de la civilización capitalista, y crítica quiere decir cultura, y no ya evolución espontánea y naturalista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Grams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54061"/>
                </a:solidFill>
                <a:latin typeface="Calibri"/>
              </a:rPr>
              <a:t>“</a:t>
            </a:r>
            <a:r>
              <a:rPr b="0" lang="es-ES" sz="3200" spc="-1" strike="noStrike">
                <a:solidFill>
                  <a:srgbClr val="254061"/>
                </a:solidFill>
                <a:latin typeface="Calibri"/>
              </a:rPr>
              <a:t>Es por ello necesario combatir al economicismo no sólo en la teoría de la historiografía, sino también y especialmente en la teoría y en la práctica política. En este campo la lucha puede y debe ser conducida desarrollando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 concepto de hegemonía</a:t>
            </a:r>
            <a:r>
              <a:rPr b="0" lang="es-ES" sz="3200" spc="-1" strike="noStrike">
                <a:solidFill>
                  <a:srgbClr val="254061"/>
                </a:solidFill>
                <a:latin typeface="Calibri"/>
              </a:rPr>
              <a:t>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ESTADO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solidFill>
            <a:srgbClr val="215968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SOCIEDAD POLÍT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omento de la fuer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ICTADU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función de domin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LASE DOMINA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stado en sentido estric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solidFill>
            <a:srgbClr val="215968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SOCIEDAD CIV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omento del consen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HEGEMONÍ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-función de direc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LASE DIRIGE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niciativas llamadas “privadas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ut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ESTA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solidFill>
            <a:srgbClr val="215968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SOCIEDAD POLÍT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Aparatos estat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-Gubernativ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-Jurídico-esta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-el Derech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-Militar y policia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solidFill>
            <a:srgbClr val="215968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SOCIEDAD CIV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Aparatos de hegemoní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-la Escue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-las Iglesi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-los sindica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-la prens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6760" y="357120"/>
            <a:ext cx="828684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Gramsci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7375e"/>
                </a:solidFill>
                <a:latin typeface="Calibri"/>
              </a:rPr>
              <a:t>“</a:t>
            </a:r>
            <a:r>
              <a:rPr b="0" lang="es-ES" sz="3200" spc="-1" strike="noStrike">
                <a:solidFill>
                  <a:srgbClr val="17375e"/>
                </a:solidFill>
                <a:latin typeface="Calibri"/>
              </a:rPr>
              <a:t>En política, el error consiste en una comprensión inexacta del Estado en sentido pleno: dictadura + hegemonía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7375e"/>
                </a:solidFill>
                <a:latin typeface="Calibri"/>
              </a:rPr>
              <a:t>“</a:t>
            </a:r>
            <a:r>
              <a:rPr b="0" lang="es-ES" sz="3200" spc="-1" strike="noStrike">
                <a:solidFill>
                  <a:srgbClr val="17375e"/>
                </a:solidFill>
                <a:latin typeface="Calibri"/>
              </a:rPr>
              <a:t>Estado: sociedad política + sociedad civil, o sea, hegemonía acorazada de coacción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Grams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7375e"/>
                </a:solidFill>
                <a:latin typeface="Calibri"/>
              </a:rPr>
              <a:t>“</a:t>
            </a:r>
            <a:r>
              <a:rPr b="0" lang="es-ES" sz="3200" spc="-1" strike="noStrike">
                <a:solidFill>
                  <a:srgbClr val="17375e"/>
                </a:solidFill>
                <a:latin typeface="Calibri"/>
              </a:rPr>
              <a:t>La supremacía de un grupo social se manifiesta de dos modos, como “dominio” y como “dirección intelectual y moral”. Un grupo social es dominante respecto de los grupos adversarios que tiende a “liquidar” o a someter incluso con la fuerza armada, y es dirigente de los grupos afines o “aliados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Grams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7375e"/>
                </a:solidFill>
                <a:latin typeface="Calibri"/>
              </a:rPr>
              <a:t>“</a:t>
            </a:r>
            <a:r>
              <a:rPr b="0" lang="es-ES" sz="3200" spc="-1" strike="noStrike">
                <a:solidFill>
                  <a:srgbClr val="17375e"/>
                </a:solidFill>
                <a:latin typeface="Calibri"/>
              </a:rPr>
              <a:t>Un grupo social puede y hasta tiene que ser dirigente, ya antes de conquistar el poder gubernativo (esta es una de las condiciones principales para la conquista del poder); luego, cuando ejerce el poder y aunque lo tenga firmemente en las manos, se hace dominante, pero tiene que seguir siendo también “dirigente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Grams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0253f"/>
                </a:solidFill>
                <a:latin typeface="Calibri"/>
              </a:rPr>
              <a:t>“</a:t>
            </a:r>
            <a:r>
              <a:rPr b="0" lang="es-ES" sz="3200" spc="-1" strike="noStrike">
                <a:solidFill>
                  <a:srgbClr val="10253f"/>
                </a:solidFill>
                <a:latin typeface="Calibri"/>
              </a:rPr>
              <a:t>Para la filosofía de la práctica las ideologías son todo menos arbitrarias, son hechos históricos reales que es preciso combatir y develar en su naturaleza de dominación, no por razones de moralidad, etc., sino precisamente por razones de lucha política: para hacer intelectualmente independientes los gobernados de los gobernantes, para destruir una hegemonía y crear otra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Gramsci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0253f"/>
                </a:solidFill>
                <a:latin typeface="Calibri"/>
              </a:rPr>
              <a:t>    “</a:t>
            </a:r>
            <a:r>
              <a:rPr b="0" lang="es-ES" sz="3200" spc="-1" strike="noStrike">
                <a:solidFill>
                  <a:srgbClr val="10253f"/>
                </a:solidFill>
                <a:latin typeface="Calibri"/>
              </a:rPr>
              <a:t>Estado es todo el complejo de actividades prácticas y teóricas con las cuales la clase dirigente no sólo justifica y mantiene su dominio, sino también logra obtener el consenso activo de los gobernados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Grams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0253f"/>
                </a:solidFill>
                <a:latin typeface="Calibri"/>
              </a:rPr>
              <a:t>“</a:t>
            </a:r>
            <a:r>
              <a:rPr b="0" lang="es-ES" sz="3000" spc="-1" strike="noStrike">
                <a:solidFill>
                  <a:srgbClr val="10253f"/>
                </a:solidFill>
                <a:latin typeface="Calibri"/>
              </a:rPr>
              <a:t>El estudio que he hecho sobre los intelectuales (…) lleva también a ciertas determinaciones del concepto de Estado, el cual es a menudo entendido como la sociedad política (o dictadura, o aparato coercitivo, para conformar a la masa popular según el tipo de producción y de economía en un momento dado) y no como el equilibrio entre la sociedad política y la sociedad civil (o hegemonía de un grupo sobre toda la sociedad nacional, ejercida a través de la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Grams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0253f"/>
                </a:solidFill>
                <a:latin typeface="Calibri"/>
              </a:rPr>
              <a:t>organizaciones que suelen llamarse privadas, como la Iglesia, los sindicatos, las escuelas, etc.), y precisamente es en la sociedad civil en la que sobre todo actúan los intelectuales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Grams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0253f"/>
                </a:solidFill>
                <a:latin typeface="Calibri"/>
              </a:rPr>
              <a:t>“</a:t>
            </a:r>
            <a:r>
              <a:rPr b="0" lang="es-ES" sz="3200" spc="-1" strike="noStrike">
                <a:solidFill>
                  <a:srgbClr val="10253f"/>
                </a:solidFill>
                <a:latin typeface="Calibri"/>
              </a:rPr>
              <a:t>Se pueden fijar dos grandes planos superestructurale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0253f"/>
                </a:solidFill>
                <a:latin typeface="Calibri"/>
              </a:rPr>
              <a:t>El que se puede llamar de la “sociedad civil”, que está formado por el conjunto de los organismos vulgarmente “privados”; y el de la “sociedad política o Estado”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21:23:01Z</dcterms:created>
  <dc:creator>vasco</dc:creator>
  <dc:description/>
  <dc:language>en-US</dc:language>
  <cp:lastModifiedBy>vasco</cp:lastModifiedBy>
  <dcterms:modified xsi:type="dcterms:W3CDTF">2008-11-27T23:07:08Z</dcterms:modified>
  <cp:revision>35</cp:revision>
  <dc:subject/>
  <dc:title>Antonio Gramsci</dc:title>
</cp:coreProperties>
</file>