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5398-2C6D-40CA-9B77-CBEBC2A2F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27C-8B94-4011-981D-995D61DB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7C8D-8E9B-4AE8-A2A3-4B26A269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34FF-2B54-40E3-9166-EAD0D9DE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5C98-89E1-4565-AD91-B8DC4FE4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D5FC-0081-45B6-9BFE-7F0E55A4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D90B-D449-4215-A0D4-EB7508DB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407C-3370-4924-B0BB-31A632C8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21B7-7FFB-4461-A234-186043CA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AE1A-FEE9-4B99-870C-00042FAC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945B-2BD8-498A-A32A-A82828FA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6A17-0F19-40FE-B731-30724D06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B63A-46B4-4A92-9872-005749CB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7605-AC17-4B47-A284-09377AE9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66A2-2DC6-4A68-809C-D01E0283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1A72-11DB-4F64-98F5-761BF530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1773-A87B-4D40-9C84-C43E0559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5582-8966-4DEB-8C00-4BACB73D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4325-E844-4139-8ED3-59F4AA0C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CFE7-1FBD-416D-BAAB-2E5A1A6A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C7BD-5D89-472A-879E-DD7339A3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19A-6AC3-4453-A139-A1335D6D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3B4B-6E3C-4B30-8690-0F1616D9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A0D-FDC2-4A79-BBB1-F919F004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736C-8532-4941-AB2D-4E239C37EC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8043-AFED-4C6F-B922-44415D72E6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1143000"/>
            <a:ext cx="8075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La naturaleza y el proceso de integración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 de Mayo de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 Naturaleza y el Proceso de Integració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61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canismos estructurales de invest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4360" y="2060640"/>
          <a:ext cx="8057880" cy="4332240"/>
        </p:xfrm>
        <a:graphic>
          <a:graphicData uri="http://schemas.openxmlformats.org/drawingml/2006/table">
            <a:tbl>
              <a:tblPr/>
              <a:tblGrid>
                <a:gridCol w="4028760"/>
                <a:gridCol w="402912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UCTURA INTEGRAD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ISTICA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izació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s, Políticas y Procedimient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zac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gar de la toma de decision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mbitos de Contr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de subordinados supervisad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ndarización: Procesos, Inputs y Outpu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ecimiento de estándares para guiar procesos, adquisicìón de input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 Naturaleza y el Proceso de Integració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761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63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edios no estruc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oles de en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qui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istema de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220500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 Naturaleza y el Proceso de Integració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761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marL="9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dios no estructu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 Roles de enlace: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organizaciones pueden crear posiciones de unión horizontal que unen dos unidades o departamentos al mismo nivel de la organización. Esto se hace cuando dos unidades necesitan coordinación y comun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 la coordinación ni la comunicación que proporciona un papel de enlace, cada departamento se dirigiría por sí mismo y sin preocuparse del o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rol de enlace puede funcionar de mediador entre los posibles conflictos y suavizar las interacciones entre los gru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1549440" y="2205000"/>
            <a:ext cx="84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 Naturaleza y el Proceso de Integració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761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0"/>
          </a:bodyPr>
          <a:p>
            <a:pPr marL="9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Medios no estructu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2. Equ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empleados y los directivos están organizados en equipos de trabajo interunitarios con el fin de mejorar la comunicación, la coordinación y el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ventaja principal de este enfoque es que obliga a que los empleados piensen y actuen como una unidad y no como un conjunto de individ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individuo ve como sus esfuerzo personales afectan a los miembros de otros equ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220500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 Naturaleza y el Proceso de Integració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761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77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dios no estructu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. C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400" indent="-774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ultura juega un papel relevante en casi cualquier aspecto de la vida organiz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400" indent="-774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ultura de la organización se compone de valores, normas y patrones de comportamiento de carácter informal y no escritos, que son comúnmente aceptados y observados por los miembros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400" indent="-774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organizaciones pueden tener culturas fuertes o déb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7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220500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 Naturaleza y el Proceso de Integració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761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6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edios no estructu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Sistemas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es el método que ocupan para recopilar, procesar, analizar y presentar la información necesaria para el funcionamiento de l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-637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 de las partes clave del sistem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400" indent="-5832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en tiene acceso a esta información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400" indent="-5832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se util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3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220500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3:11:40Z</dcterms:created>
  <dc:creator>Los Araya Orellana</dc:creator>
  <dc:description/>
  <dc:language>en-US</dc:language>
  <cp:lastModifiedBy>Los Araya Orellana</cp:lastModifiedBy>
  <dcterms:modified xsi:type="dcterms:W3CDTF">2010-05-24T04:16:52Z</dcterms:modified>
  <cp:revision>4</cp:revision>
  <dc:subject/>
  <dc:title>Diapositiva 1</dc:title>
</cp:coreProperties>
</file>