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20FE-283A-4EF9-B4FA-F65B41ABF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C71D-FB38-4A64-897E-38977723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4936-8473-4DE9-AB73-57EE29ABF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06CE-274F-4464-A7E5-2D3AD9AAE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7B97-BE96-4228-9670-469F44C89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CFDC2-D33E-4A0D-A18E-BE64E163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E7AC-21ED-4B14-8F6B-112D6C15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4E21-078F-424D-8759-180976BE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93B8-6CDE-4440-ABB8-ED008B21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E022-8D01-4073-B154-022BCC6E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284A-D126-446E-92EA-26E09D64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ADB9-EDA5-4DD3-8E67-16D5D4BB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F514-E3A0-4B67-92D9-0EE40F94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83B3-7969-4620-8B5E-D616892E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4F9D-2D90-486D-8EC1-D325BA5B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3386-AE41-4A0C-87DC-F79CEA3F3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7C2A-7E54-444C-9FC4-CCB2883E2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62CD-A0B6-4892-A833-0D91F9E9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47FA-575A-474E-A614-323C0D92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E736-E164-4222-AB59-E138CBD1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2649-5F92-439D-8033-B3808A9D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4C04-2916-48E4-A92B-2A798A65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6914-D68A-4686-914D-5F3F0715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CC57-B5AC-432E-B4C9-D74E80A7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0F61-AAE0-481A-A7AD-5F12C849612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D9F7-DCE3-41F8-B3FC-20406B21B9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1143000"/>
            <a:ext cx="8075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La naturaleza y el proceso de integración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 de Mayo de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La Naturaleza y el Proceso de Integració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7761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canismos estructurales de investig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4360" y="2060640"/>
          <a:ext cx="8057880" cy="4332240"/>
        </p:xfrm>
        <a:graphic>
          <a:graphicData uri="http://schemas.openxmlformats.org/drawingml/2006/table">
            <a:tbl>
              <a:tblPr/>
              <a:tblGrid>
                <a:gridCol w="4028760"/>
                <a:gridCol w="4029120"/>
              </a:tblGrid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UCTURA INTEGRADA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ACTERISTICA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lizació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s, Políticas y Procedimient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lizació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gar de la toma de decision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mbitos de Contro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de subordinados supervisad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ndarización: Procesos, Inputs y Outpu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blecimiento de estándares para guiar procesos, adquisicìón de input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La Naturaleza y el Proceso de Integració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7761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marL="63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edios no estructu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720" indent="-637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oles de en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720" indent="-637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quip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720" indent="-637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u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720" indent="-637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istema de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220500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La Naturaleza y el Proceso de Integració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7761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0"/>
          </a:bodyPr>
          <a:p>
            <a:pPr marL="9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dios no estructu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 Roles de enlace: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organizaciones pueden crear posiciones de unión horizontal que unen dos unidades o departamentos al mismo nivel de la organización. Esto se hace cuando dos unidades necesitan coordinación y comuni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 la coordinación ni la comunicación que proporciona un papel de enlace, cada departamento se dirigiría por sí mismo y sin preocuparse del ot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rol de enlace puede funcionar de mediador entre los posibles conflictos y suavizar las interacciones entre los gru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1549440" y="2205000"/>
            <a:ext cx="84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La Naturaleza y el Proceso de Integració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7761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0"/>
          </a:bodyPr>
          <a:p>
            <a:pPr marL="9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Medios no estructu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2. Equi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empleados y los directivos están organizados en equipos de trabajo interunitarios con el fin de mejorar la comunicación, la coordinación y el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ventaja principal de este enfoque es que obliga a que los empleados piensen y actuen como una unidad y no como un conjunto de individu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individuo ve como sus esfuerzo personales afectan a los miembros de otros equi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220500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La Naturaleza y el Proceso de Integració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7761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77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dios no estructu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7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. C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7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7400" indent="-774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cultura juega un papel relevante en casi cualquier aspecto de la vida organiz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7400" indent="-774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cultura de la organización se compone de valores, normas y patrones de comportamiento de carácter informal y no escritos, que son comúnmente aceptados y observados por los miembros de la org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7400" indent="-774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organizaciones pueden tener culturas fuertes o déb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7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7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220500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La Naturaleza y el Proceso de Integració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7761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marL="63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dios no estructu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Sistemas de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720" indent="-637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 es el método que ocupan para recopilar, procesar, analizar y presentar la información necesaria para el funcionamiento de la org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720" indent="-637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 de las partes clave del sistema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400" indent="-5832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en tiene acceso a esta información,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400" indent="-5832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o se utili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220500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03:11:40Z</dcterms:created>
  <dc:creator>Los Araya Orellana</dc:creator>
  <dc:description/>
  <dc:language>en-US</dc:language>
  <cp:lastModifiedBy>Los Araya Orellana</cp:lastModifiedBy>
  <dcterms:modified xsi:type="dcterms:W3CDTF">2010-05-24T04:16:52Z</dcterms:modified>
  <cp:revision>4</cp:revision>
  <dc:subject/>
  <dc:title>Diapositiva 1</dc:title>
</cp:coreProperties>
</file>