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8F8-182B-474A-9AF6-955439B7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370-19D6-4F2E-B2D6-E1B89DA2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D4F-81F6-4E81-8A9D-50D10618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922-92C0-4538-95F0-1556E56F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EA9E-E252-47AD-ABF7-7AEE68E1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F12A-CA5E-419B-9CD1-99D769A6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FAAF-F255-4B8A-A779-1642918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F912-C9C4-4AB7-B2D8-AC384586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DA53-8207-471C-B912-07E70F44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1A75-54A1-43C1-9090-D69A8E9C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2613-C3E1-4ECC-9FA3-F26D0FB0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DB3-9DB5-4313-87C1-204007AA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5F3-4827-45A2-9F69-4F6F8D4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CB96-1C3E-4C6B-82AC-0ABBAC2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7F2C-9133-4BB9-9968-D0218D9B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38F3-7E01-4402-9C79-FC5F2EFB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06A-6A87-4C13-9EFA-ADFD5219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266-A8D4-43A9-B9E6-6B5DFE41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AAA-0108-43C4-B6AC-6FF8F9B2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64D-FCC3-4378-8C66-2DD6C830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CA3-6FCB-4211-8777-5F0156F4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4EF-8BF3-44E2-AE27-839AF069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64A-9C87-4FCC-AC82-2C5F287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7E3-0156-4FBD-AF48-C695EDCB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A0FC-9C55-44BE-933E-EBB0882BF87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B0D9-0641-4AFC-B63B-CDB69021E0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puesta de Fisher y Ury para multiplicar opciones</a:t>
            </a: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1: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suce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actuales sínto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hechos que disgustan contrastados con la situación preferid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2: 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Diagnostique el 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Clasifique los síntomas en categ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Observe qué f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Tome nota de las barreras para solucionar 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3: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a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estrategias de solu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algunos de los remedios teór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Genere ideas amplias sobre lo que podría hac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4: Ideas para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odría hac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asos específicos pueden darse para solucionar el probl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0477" t="16538" r="20477" b="125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3:06:04Z</dcterms:created>
  <dc:creator>Silvana Herrera G</dc:creator>
  <dc:description/>
  <dc:language>en-US</dc:language>
  <cp:lastModifiedBy>Familiar</cp:lastModifiedBy>
  <dcterms:modified xsi:type="dcterms:W3CDTF">2009-08-28T15:08:25Z</dcterms:modified>
  <cp:revision>4</cp:revision>
  <dc:subject/>
  <dc:title>     Propuesta de Fisher y Ury para multiplicar opciones    </dc:title>
</cp:coreProperties>
</file>