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6B2-E997-409C-9B94-A14F46F2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67C-9079-490C-9175-9B5033CD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DE5-153B-43FB-A598-9EF13887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33F-1ECB-4841-BC8D-9C47E9B1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8E5-5D1F-4C5C-800C-1B4F044F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974D-67A7-425D-ADDA-B79434D5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3B2F-1E08-4D3F-A8AB-0009766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32FC-8ED1-43BB-9406-9DE02FF4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1201-8BF5-4C47-B7C4-A8657E1F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4B60-F6AE-45CD-B24B-0320D794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A05-C0E1-4E2E-ABF1-0342EB3B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92D-7E98-425E-9110-2552CF08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874-295E-41AF-8166-E8CE101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8D75-1530-4262-8339-A38B4F2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26DD-E849-470F-AA6E-CF0FDD81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7E5-7A33-49DD-83A3-8867FE08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4C1D-8731-4C4A-B38F-923FB7F2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B30-7C06-43DE-9B8F-A22DC8B1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C32-98C1-430A-957A-195AA6B5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4EA-1326-471B-B9E0-AAAD5EC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B08-991C-41EC-A331-7F07C9C0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2CA-A8FA-48A0-80E5-1CA3D0D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DAC-4D3C-434A-887F-0B7E182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AB5-8885-48F7-8462-EE98D93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44BA-071A-43B2-A7D1-103D07659C1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61C-8D4B-4A54-AEB5-8C2832AF17C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puesta de Fisher y Ury para multiplicar opcione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1: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suce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actuales sínto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hechos que disgustan contrastados con la situación preferi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2: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Diagnostique 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Clasifique los síntomas en categ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Observe qué f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Tome nota de las barreras para solucionar 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3: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a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estrategias de solu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algunos de los remedios teór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Genere ideas amplias sobre lo que podría hac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4: Ideas para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odría hac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asos específicos pueden darse para solucionar el probl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477" t="16538" r="20477" b="125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06:04Z</dcterms:created>
  <dc:creator>Silvana Herrera G</dc:creator>
  <dc:description/>
  <dc:language>en-US</dc:language>
  <cp:lastModifiedBy>Familiar</cp:lastModifiedBy>
  <dcterms:modified xsi:type="dcterms:W3CDTF">2009-08-28T15:08:25Z</dcterms:modified>
  <cp:revision>4</cp:revision>
  <dc:subject/>
  <dc:title>     Propuesta de Fisher y Ury para multiplicar opciones    </dc:title>
</cp:coreProperties>
</file>