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21C-EAEF-4293-B19E-CE31C05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88A-0D7F-45DB-BF2C-F83EF9A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DF4-DADF-40B3-A144-EE615C80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222-DF96-4100-9EC4-9ED77BC3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F2D-AEDA-42F7-BE2F-EAF299A2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3515-009E-4625-BE82-A23E6B3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6DD4-3F2C-4078-B6C4-114150D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43E-4459-4008-989C-6C229A6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7A1B-6824-4609-877D-5EFD0775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ACAA-BF69-40D2-AA98-39756EE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2149-54A7-4DCA-9C29-872595C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902-5ADF-4488-92D4-F6438A2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8D9E-622C-450E-A1A3-08B8790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9B88-B4BE-4B4C-81B3-C6AF86E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25B8-E684-4C69-B77E-600F33C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F53-1A0B-427A-93A0-760FC641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F265-CF5F-4673-9596-99E05993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E43-5289-42A3-9C9C-843483F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995-39B2-463E-B510-A9EAD48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9B8-8493-430B-BEFA-A31DA51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069-CC2B-49F4-A9B6-A5592A9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4F8-E461-4A95-8D1D-93CB645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975-CF98-41DE-A92F-AA3C6BE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4D7-A232-4679-87BD-956AAC5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C41-68E7-427B-AF4C-9564638BCE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8F68-A36D-4EC7-83F0-38C4911914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puesta de Fisher y Ury para multiplicar opcione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1: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suce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actuales sínto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hechos que disgustan contrastados con la situación preferi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2: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Diagnostique 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Clasifique los síntomas en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Observe qué f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Tome nota de las barreras para solucionar 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3: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a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estrategias de solu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algunos de los remedios teór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Genere ideas amplias sobre lo que podría hac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4: Ideas para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odría hac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asos específicos pueden darse para solucionar el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477" t="16538" r="20477" b="125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06:04Z</dcterms:created>
  <dc:creator>Silvana Herrera G</dc:creator>
  <dc:description/>
  <dc:language>en-US</dc:language>
  <cp:lastModifiedBy>Familiar</cp:lastModifiedBy>
  <dcterms:modified xsi:type="dcterms:W3CDTF">2009-08-28T15:08:25Z</dcterms:modified>
  <cp:revision>4</cp:revision>
  <dc:subject/>
  <dc:title>     Propuesta de Fisher y Ury para multiplicar opciones    </dc:title>
</cp:coreProperties>
</file>