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567-4B6A-41EA-843D-CDB4FE0C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AAB-2A02-49AC-8F70-B22927F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1A4-60EC-479A-A38F-A42EB764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E15-157E-4371-9760-9700AE71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334-2C7D-4A8A-B645-F743871E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7EDC-7502-4EB4-9B54-1ECA1D5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976B-EAFB-4BEC-9C9B-36A941AB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B27-65C2-4A09-B013-27B87DF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631-7642-4C6B-AD8E-242E102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AEB-3496-4F14-B0ED-60398E2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891D-57DC-4C3F-9CAC-36EDE17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E13-6CA0-4453-B7CC-DAB4BD97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FCC9-75D0-4012-82BB-6B47C63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E868-DDEF-42BF-BFA7-9E198B2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6C92-1519-4382-9B6B-126A32E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DBF-2764-4B60-8476-B6B4448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A07-25E0-47CE-A821-ED3AAEA9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84D-69F2-473E-AA05-D234073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E6F-E512-4693-A15B-CB4FC39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129-827A-458A-9530-12BB8CC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EA7-2A1F-491B-8D0F-2C5615F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AFF-B025-46A3-8190-FC63DAA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F7E-4512-46ED-8B8C-D1DDC7F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1B4-8644-4DE1-8F7A-95EDD14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BA6-F3ED-4CDD-9A6E-DE233B0C37B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DBA-3CBC-4E40-80BD-DE10EB01671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puesta de Fisher y Ury para multiplicar opciones</a:t>
            </a: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1: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suce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actuales sínto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os hechos que disgustan contrastados con la situación preferid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2: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Diagnostique 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Clasifique los síntomas en categ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Observe qué f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Tome nota de las barreras para solucionar  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teor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3: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la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estrategias de solu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Cuáles son algunos de los remedios teór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Genere ideas amplias sobre lo que podría hac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el mundo re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Paso 4: Ideas para la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odría hac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8080"/>
                </a:solidFill>
                <a:latin typeface="Arial"/>
              </a:rPr>
              <a:t>¿Qué pasos específicos pueden darse para solucionar el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0477" t="16538" r="20477" b="125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06:04Z</dcterms:created>
  <dc:creator>Silvana Herrera G</dc:creator>
  <dc:description/>
  <dc:language>en-US</dc:language>
  <cp:lastModifiedBy>Familiar</cp:lastModifiedBy>
  <dcterms:modified xsi:type="dcterms:W3CDTF">2009-08-28T15:08:25Z</dcterms:modified>
  <cp:revision>4</cp:revision>
  <dc:subject/>
  <dc:title>     Propuesta de Fisher y Ury para multiplicar opciones    </dc:title>
</cp:coreProperties>
</file>