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7AE-626A-4659-8A69-6F60D88D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34D-2CE0-4D3D-9AEE-511A8CA1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690-1F00-4970-B6EE-E1154DBB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C46-1CDE-4C02-9001-610C0ED6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1E86-BFB1-477D-967C-CEF54E66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BACD-6779-4B46-B915-B9488E0E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DBCD-AB40-4799-9BEE-E5BE52B9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12B9-E1F6-4FC7-B2AA-F49194AE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F13F-3BBD-44EB-A385-28947D24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5960-EC69-4C8E-9F74-C578DB5D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5113-6F5B-40D0-9F07-192A0855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E3E-FBB8-4E44-87C9-11884EE9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0202-6BF4-4F66-BE01-D16F3FC0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A67A-4B99-4BF9-82F2-C8426C7F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574A-AC97-408A-AAB6-F9E74F82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02B1-3CE5-41D6-A299-582C410D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8F06-4963-4A81-92AA-29157BB4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B1A-9A04-43FA-B3F7-73CF78D3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63D-2E9F-4E9A-A0C0-2AD2BDB7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BCD-E7AC-4CF5-8A3C-9FC0A423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5DB-FD93-4CD0-A194-8DC6F8FF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B32-303C-4F30-944C-5026BA3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9BF-4109-47DA-BEFF-BCDE506F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596-FD50-480C-990B-DA17F3B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3801-25C6-4F8D-B5FC-A3275B906CE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9B3E-4E92-4011-A77E-9B2EDDE0FA5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puesta de Fisher y Ury para multiplicar opciones</a:t>
            </a: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el mundo re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1: 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suce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os actuales sínto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os hechos que disgustan contrastados con la situación preferid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teor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2: 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Diagnostique el probl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Clasifique los síntomas en categ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Observe qué f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Tome nota de las barreras para solucionar  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teor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3: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a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estrategias de solu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algunos de los remedios teór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Genere ideas amplias sobre lo que podría hac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el mundo re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4: Ideas para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podría hac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pasos específicos pueden darse para solucionar el probl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0477" t="16538" r="20477" b="125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3:06:04Z</dcterms:created>
  <dc:creator>Silvana Herrera G</dc:creator>
  <dc:description/>
  <dc:language>en-US</dc:language>
  <cp:lastModifiedBy>Familiar</cp:lastModifiedBy>
  <dcterms:modified xsi:type="dcterms:W3CDTF">2009-08-28T15:08:25Z</dcterms:modified>
  <cp:revision>4</cp:revision>
  <dc:subject/>
  <dc:title>     Propuesta de Fisher y Ury para multiplicar opciones    </dc:title>
</cp:coreProperties>
</file>