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73D0-E68C-4C51-9196-0ED83A239A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B730-A5D6-4CB5-9963-0E285EC8C23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2217-1A2E-4FFF-9CCA-6E9A14BCA0F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580D-3445-406A-BF9B-5F281D4CD20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1B75-CE19-4275-8ED1-5DF4AA1C019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D623-8CA0-4C66-BF4A-B4ABD1E081A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6738-C99E-43EF-8268-1880904C800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E1A3-F7FD-45B8-86AA-3443D43D80F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9DCD-573C-47E8-8653-5ACB92BDAA9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275D-7C56-4B44-ACCB-EE03A5E3DF8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D3A4-10EC-4433-B00C-86B02B18E5C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E293-DF68-4B82-9A45-7EF7E9E14EE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2BC8-8360-42C2-9F8B-899459A70D6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8B72-A96C-4B44-8935-58B1C1ED5C8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E3BE-8CCF-498E-B16F-C3D31A93E10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9883-5C0C-4EAB-B516-0F444E3F98E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BDF1-17EF-4132-929D-A88FEB00DD9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A089-0292-4604-A342-F7C2B28FEEB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8A7A-9366-40A8-922D-090881DA537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E1F4-50E5-44D2-A4B4-8F87D1D05FC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62EA-5C1B-4252-A12F-CB7DE6E9B48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23A4-0868-4876-9A71-948FF7C0913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8C9B-6D50-4E9F-81EB-EABB12013EB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76B1-2357-495F-AD2B-E733991C103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9535-7926-4BE6-A05D-DB75CF57266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47D2-1104-4DE5-8A25-4D283D09236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DEBA-AB0C-40CD-955B-BD8498CCFDD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2402-5CD9-42BD-A95A-70DAA2912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C6C69-E8F8-49CF-BC9F-71B42F2C7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C137A-46DB-4CE9-8C85-2A259AD7A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54382-58A5-41A2-9976-18757FEBC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67AE1-2374-454A-AC87-F5EAEB300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DCB4D-1A41-4A01-9CB9-787D3CB5A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CCCDD-360C-4B40-8995-FD70B7D9A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A196B-C9D6-439D-83EE-C1EFDFB2C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FC8C6-F839-4004-9432-2DD3C89C3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AB83D-8668-4ADA-B483-A09D7435F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28DD-0212-4327-91B3-066108B31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98040-C0B5-461D-A3DE-B2B4FAEB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D0786-33F4-4646-8694-25534408F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68F06-BD18-4C82-B34A-A7DE5801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84365-1310-4F10-8D21-B02332BEF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7C4E0-E12F-4591-8BFC-D0B9FB83A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FB920-FC4A-4943-9D17-EF34C318A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83DF8-689B-4D39-A98D-82DF26A1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2BDD-266D-49D5-842E-9E9C73590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EC31-1D1D-4923-8920-25C7F9F9D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1D2B6-07E3-404D-A880-2BA77D64D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BE84-A033-45D8-B254-74185E5E1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42DB3-AB0B-413B-9594-10BEC1F2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E729-DD88-4C09-8F53-1E99BF7C7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A7D3-C217-44D0-B46B-ACD105B6A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D313-BDD5-43B6-AD28-AC4B9E50794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84000" y="1483920"/>
            <a:ext cx="5899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i="1" lang="en-US" sz="6000" spc="-1" strike="noStrike">
                <a:solidFill>
                  <a:srgbClr val="000000"/>
                </a:solidFill>
                <a:latin typeface="Arial"/>
              </a:rPr>
              <a:t>Una mirada  analítica a los conflictos</a:t>
            </a:r>
            <a:endParaRPr b="0" lang="en-US" sz="6000" spc="-1" strike="noStrike">
              <a:solidFill>
                <a:srgbClr val="000000"/>
              </a:solidFill>
              <a:latin typeface="Arial"/>
            </a:endParaRPr>
          </a:p>
        </p:txBody>
      </p:sp>
      <p:sp>
        <p:nvSpPr>
          <p:cNvPr id="98" name="Rectangle 3"/>
          <p:cNvSpPr/>
          <p:nvPr/>
        </p:nvSpPr>
        <p:spPr>
          <a:xfrm>
            <a:off x="2143080" y="4214880"/>
            <a:ext cx="6477120" cy="171432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fesor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sca Quirog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quipo Asesor:                                                                     Carolina Guerrero -  Néstor Guerrero - </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manuel Osses - Sofía Schus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rcRect l="10666" t="27511" r="3995" b="1821"/>
          <a:stretch/>
        </p:blipFill>
        <p:spPr>
          <a:xfrm>
            <a:off x="1571760" y="1461960"/>
            <a:ext cx="6715080" cy="4896000"/>
          </a:xfrm>
          <a:prstGeom prst="rect">
            <a:avLst/>
          </a:prstGeom>
          <a:ln w="12600">
            <a:solidFill>
              <a:srgbClr val="336666"/>
            </a:solidFill>
            <a:miter/>
          </a:ln>
        </p:spPr>
      </p:pic>
      <p:sp>
        <p:nvSpPr>
          <p:cNvPr id="124" name="Rectangle 2"/>
          <p:cNvSpPr/>
          <p:nvPr/>
        </p:nvSpPr>
        <p:spPr>
          <a:xfrm>
            <a:off x="1571760" y="357120"/>
            <a:ext cx="7010280" cy="152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Escalada del Conflicto</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Latente</a:t>
            </a:r>
            <a:endParaRPr b="0" lang="en-US" sz="4200" spc="-1" strike="noStrike">
              <a:solidFill>
                <a:srgbClr val="000000"/>
              </a:solidFill>
              <a:latin typeface="Arial"/>
            </a:endParaRPr>
          </a:p>
        </p:txBody>
      </p:sp>
      <p:sp>
        <p:nvSpPr>
          <p:cNvPr id="126" name="PlaceHolder 2"/>
          <p:cNvSpPr>
            <a:spLocks noGrp="1"/>
          </p:cNvSpPr>
          <p:nvPr>
            <p:ph/>
          </p:nvPr>
        </p:nvSpPr>
        <p:spPr>
          <a:xfrm>
            <a:off x="323640" y="1844640"/>
            <a:ext cx="8435880" cy="4525920"/>
          </a:xfrm>
          <a:prstGeom prst="rect">
            <a:avLst/>
          </a:prstGeom>
          <a:noFill/>
          <a:ln w="0">
            <a:noFill/>
          </a:ln>
        </p:spPr>
        <p:txBody>
          <a:bodyPr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actores, en una situación de conflicto, no han manifestado explícitamente sus posiciones en torno a un evento o situación especifica. Es decir, en la fase de latencia,  existen todos los elementos necesarios para que se desate el conflicto sin la manifestación explícita de las posiciones por parte de los actor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os conflictos latentes adquiere  relevancia la </a:t>
            </a:r>
            <a:r>
              <a:rPr b="0" i="1" lang="es-ES_tradnl" sz="2100" spc="-1" strike="noStrike">
                <a:solidFill>
                  <a:srgbClr val="000000"/>
                </a:solidFill>
                <a:latin typeface="Arial"/>
              </a:rPr>
              <a:t>prevención del conflicto</a:t>
            </a:r>
            <a:r>
              <a:rPr b="0" lang="es-ES_tradnl" sz="2100" spc="-1" strike="noStrike">
                <a:solidFill>
                  <a:srgbClr val="000000"/>
                </a:solidFill>
                <a:latin typeface="Arial"/>
              </a:rPr>
              <a:t>, como  una herramienta, que permite contener el desarrollo de los mismos. Para ello es necesario  distinguir con claridad que la prevención  no implica en ningún caso la evasión del conflicto. La prevención, a diferencia de la evasión, es un proceso activo, desarrollado unilateralmente por los actores, orientado a generar y a potenciar las condiciones de coopera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6666"/>
                </a:solidFill>
                <a:latin typeface="Arial"/>
              </a:rPr>
              <a:t>Prevención </a:t>
            </a:r>
            <a:r>
              <a:rPr b="1" lang="es-ES_tradnl" sz="3400" spc="-1" strike="noStrike" u="sng">
                <a:solidFill>
                  <a:srgbClr val="336666"/>
                </a:solidFill>
                <a:uFillTx/>
                <a:latin typeface="Arial"/>
              </a:rPr>
              <a:t>no</a:t>
            </a:r>
            <a:r>
              <a:rPr b="1" lang="es-ES_tradnl" sz="3400" spc="-1" strike="noStrike">
                <a:solidFill>
                  <a:srgbClr val="336666"/>
                </a:solidFill>
                <a:latin typeface="Arial"/>
              </a:rPr>
              <a:t> es evasión</a:t>
            </a:r>
            <a:r>
              <a:rPr b="0" lang="es-ES_tradnl" sz="4200" spc="-1" strike="noStrike">
                <a:solidFill>
                  <a:srgbClr val="008000"/>
                </a:solidFill>
                <a:latin typeface="Arial"/>
              </a:rPr>
              <a:t>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herramienta efectiva para la prevención del conflicto, lo constituye el desarrollo de </a:t>
            </a:r>
            <a:r>
              <a:rPr b="1" lang="es-ES_tradnl" sz="2100" spc="-1" strike="noStrike">
                <a:solidFill>
                  <a:srgbClr val="000000"/>
                </a:solidFill>
                <a:latin typeface="Arial"/>
              </a:rPr>
              <a:t>alertas tempranas</a:t>
            </a:r>
            <a:r>
              <a:rPr b="0" lang="es-ES_tradnl" sz="2100" spc="-1" strike="noStrike">
                <a:solidFill>
                  <a:srgbClr val="000000"/>
                </a:solidFill>
                <a:latin typeface="Arial"/>
              </a:rPr>
              <a:t>, el cual presupone:</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ar con espacios de interacción que permitan el encuentro entre los actores que, de acuerdo a su naturaleza y comportamiento, se vinculan permanente.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nocer escenarios probables y determinar las posibles posiciones de los actores en éstos en función de sus intereses.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terminar estrategias de acción cooperativas para cada uno de los escenarios identificados, potenciando aquellos aspectos donde exista complementariedad de intereses.</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Conflicto Manifiesto</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flictos manifiestos son aquellos en que los actores hacen explícitas sus posiciones divergentes en torno a un evento o situación especifica que desencadena el conflicto. En este caso, el conflicto ya se ha desatado y por tanto, no procede la prevención, sino que es necesaria la resolución del conflicto. Evitar el conflicto en este caso resulta especialmente crítico, ya que ello suele conducirlo  a una vorágine que suma cada vez más actores (no involucrados en un comienzo) incrementando  su dimensión e intens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Institucionalizado</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trata de un conflicto institucionalizado cuando la situación conflictiva se vuelve constante, es decir, los  actores hacen explícitas sus posiciones divergentes en torno a un evento o situación especifica permanentemente, tornándose habitual la tensión. En este tipo de situaciones es imposible evitar o evadir el conflicto, ya que se trata de un fenómeno estructural, innegable y evidente para todos los actores involucrados. En tales situaciones, la resolución del conflicto se torna compleja, por lo que sólo es factible contener y la situación  conflictiva con el ánimo de atenuar sus consecuenci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álisis de Conflictos:</a:t>
            </a:r>
            <a:br>
              <a:rPr sz="4400"/>
            </a:br>
            <a:r>
              <a:rPr b="1" lang="en-US" sz="4400" spc="-1" strike="noStrike">
                <a:solidFill>
                  <a:srgbClr val="000000"/>
                </a:solidFill>
                <a:latin typeface="Arial"/>
              </a:rPr>
              <a:t>Metodología propuesta</a:t>
            </a:r>
            <a:br>
              <a:rPr sz="4400"/>
            </a:br>
            <a:endParaRPr b="0" lang="en-US" sz="4400" spc="-1" strike="noStrike">
              <a:solidFill>
                <a:srgbClr val="000000"/>
              </a:solidFill>
              <a:latin typeface="Arial"/>
            </a:endParaRPr>
          </a:p>
        </p:txBody>
      </p:sp>
      <p:sp>
        <p:nvSpPr>
          <p:cNvPr id="13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Intereses- Posi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333360"/>
            <a:ext cx="6716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tores</a:t>
            </a:r>
            <a:endParaRPr b="0" lang="en-US" sz="3400" spc="-1" strike="noStrike">
              <a:solidFill>
                <a:srgbClr val="000000"/>
              </a:solidFill>
              <a:latin typeface="Arial"/>
            </a:endParaRPr>
          </a:p>
        </p:txBody>
      </p:sp>
      <p:sp>
        <p:nvSpPr>
          <p:cNvPr id="136" name="PlaceHolder 2"/>
          <p:cNvSpPr>
            <a:spLocks noGrp="1"/>
          </p:cNvSpPr>
          <p:nvPr>
            <p:ph/>
          </p:nvPr>
        </p:nvSpPr>
        <p:spPr>
          <a:xfrm>
            <a:off x="324000" y="1700280"/>
            <a:ext cx="8229600" cy="25192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n instituciones, sectores, grupos y/o personas que interactúan en un contexto, los cuales cuentan con:</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Intereses que activa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cursos utilizables e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Posición  manifiesta en el conflicto</a:t>
            </a:r>
            <a:r>
              <a:rPr b="0" lang="en-US" sz="1900" spc="-1" strike="noStrike">
                <a:solidFill>
                  <a:srgbClr val="000000"/>
                </a:solidFill>
                <a:latin typeface="Arial"/>
              </a:rPr>
              <a:t>.</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actores se clasifican según: </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37" name="Text Box 5"/>
          <p:cNvSpPr/>
          <p:nvPr/>
        </p:nvSpPr>
        <p:spPr>
          <a:xfrm>
            <a:off x="250920" y="4581360"/>
            <a:ext cx="352908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naturalez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Institucion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oci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olític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Otros</a:t>
            </a:r>
            <a:endParaRPr b="0" lang="en-US" sz="2000" spc="-1" strike="noStrike">
              <a:solidFill>
                <a:srgbClr val="336666"/>
              </a:solidFill>
              <a:latin typeface="Arial"/>
            </a:endParaRPr>
          </a:p>
        </p:txBody>
      </p:sp>
      <p:sp>
        <p:nvSpPr>
          <p:cNvPr id="138" name="Text Box 6"/>
          <p:cNvSpPr/>
          <p:nvPr/>
        </p:nvSpPr>
        <p:spPr>
          <a:xfrm>
            <a:off x="4572000" y="44370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comportamiento en el conflic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rotagonist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Incident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Detonante</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inculante </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áci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y/o estratégico</a:t>
            </a:r>
            <a:endParaRPr b="0" lang="en-US" sz="2000" spc="-1" strike="noStrike">
              <a:solidFill>
                <a:srgbClr val="336666"/>
              </a:solidFill>
              <a:latin typeface="Arial"/>
            </a:endParaRPr>
          </a:p>
        </p:txBody>
      </p:sp>
      <p:sp>
        <p:nvSpPr>
          <p:cNvPr id="139" name="AutoShape 7"/>
          <p:cNvSpPr/>
          <p:nvPr/>
        </p:nvSpPr>
        <p:spPr>
          <a:xfrm rot="5400000">
            <a:off x="4356000" y="90936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6"/>
          <p:cNvSpPr/>
          <p:nvPr/>
        </p:nvSpPr>
        <p:spPr>
          <a:xfrm>
            <a:off x="468360" y="1268280"/>
            <a:ext cx="8351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on las </a:t>
            </a:r>
            <a:r>
              <a:rPr b="0" i="1" lang="es-ES" sz="2000" spc="-1" strike="noStrike" u="sng">
                <a:solidFill>
                  <a:srgbClr val="000000"/>
                </a:solidFill>
                <a:uFillTx/>
                <a:latin typeface="Arial"/>
                <a:ea typeface="Arial"/>
              </a:rPr>
              <a:t>motivaciones</a:t>
            </a:r>
            <a:r>
              <a:rPr b="0" lang="es-ES" sz="2000" spc="-1" strike="noStrike">
                <a:solidFill>
                  <a:srgbClr val="000000"/>
                </a:solidFill>
                <a:latin typeface="Arial"/>
                <a:ea typeface="Arial"/>
              </a:rPr>
              <a:t> del actor, respecto al tema del  conflict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enerales y permanentes</a:t>
            </a:r>
            <a:r>
              <a:rPr b="0" lang="es-ES" sz="2000" spc="-1" strike="noStrike">
                <a:solidFill>
                  <a:srgbClr val="000000"/>
                </a:solidFill>
                <a:latin typeface="Arial"/>
                <a:ea typeface="Arial"/>
              </a:rPr>
              <a:t>,</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Trascienden la duración manifiesta de los conflictos: Previas al desencadenamiento del mismo y permanecen una vez que éste ha finalizad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vers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Un actor posee distintas motivaciones ante un mismo tema, en cada actor siempre es posible reconocer más de un interé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vergentes, divergentes, contradictori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nivel interpersonal e intrapersonal en un conflicto. </a:t>
            </a:r>
            <a:endParaRPr b="0" lang="en-US" sz="2000" spc="-1" strike="noStrike">
              <a:solidFill>
                <a:srgbClr val="336666"/>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Interes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Posición</a:t>
            </a:r>
            <a:br>
              <a:rPr sz="3400"/>
            </a:br>
            <a:endParaRPr b="0" lang="en-US" sz="34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la postura del actor, actitud, demanda conducta, </a:t>
            </a:r>
            <a:r>
              <a:rPr b="0" i="1" lang="es-ES_tradnl" sz="3000" spc="-1" strike="noStrike" u="sng">
                <a:solidFill>
                  <a:srgbClr val="000000"/>
                </a:solidFill>
                <a:uFillTx/>
                <a:latin typeface="Arial"/>
              </a:rPr>
              <a:t>específica y contingente</a:t>
            </a:r>
            <a:r>
              <a:rPr b="0" lang="es-ES_tradnl" sz="3000" spc="-1" strike="noStrike">
                <a:solidFill>
                  <a:srgbClr val="000000"/>
                </a:solidFill>
                <a:latin typeface="Arial"/>
              </a:rPr>
              <a:t> en el conflicto, con el propósito de alcanzar el objetivo definido.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La posición, a diferencia de los intereses, se centra en el conflicto en particular.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108000" y="279360"/>
            <a:ext cx="8604360" cy="5946120"/>
          </a:xfrm>
          <a:prstGeom prst="rect">
            <a:avLst/>
          </a:prstGeom>
          <a:solidFill>
            <a:srgbClr val="ffffff"/>
          </a:solidFill>
          <a:ln w="15840">
            <a:solidFill>
              <a:srgbClr val="0000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ea typeface="Arial"/>
              </a:rPr>
              <a:t>	</a:t>
            </a:r>
            <a:r>
              <a:rPr b="1" lang="es-ES_tradnl" sz="2400" spc="-1" strike="noStrike">
                <a:solidFill>
                  <a:srgbClr val="000000"/>
                </a:solidFill>
                <a:latin typeface="Arial"/>
                <a:ea typeface="Arial"/>
              </a:rPr>
              <a:t>En síntesis</a:t>
            </a:r>
            <a:endParaRPr b="0" lang="en-US" sz="2400" spc="-1" strike="noStrike">
              <a:solidFill>
                <a:srgbClr val="3366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Los conflictos cuentan con </a:t>
            </a:r>
            <a:r>
              <a:rPr b="1" lang="es-ES_tradnl" sz="2400" spc="-1" strike="noStrike">
                <a:solidFill>
                  <a:srgbClr val="000000"/>
                </a:solidFill>
                <a:latin typeface="Arial"/>
                <a:ea typeface="Arial"/>
              </a:rPr>
              <a:t>actores</a:t>
            </a:r>
            <a:r>
              <a:rPr b="0" lang="es-ES_tradnl" sz="2400" spc="-1" strike="noStrike">
                <a:solidFill>
                  <a:srgbClr val="000000"/>
                </a:solidFill>
                <a:latin typeface="Arial"/>
                <a:ea typeface="Arial"/>
              </a:rPr>
              <a:t> que poseen </a:t>
            </a:r>
            <a:r>
              <a:rPr b="1" lang="es-ES_tradnl" sz="2400" spc="-1" strike="noStrike">
                <a:solidFill>
                  <a:srgbClr val="000000"/>
                </a:solidFill>
                <a:latin typeface="Arial"/>
                <a:ea typeface="Arial"/>
              </a:rPr>
              <a:t>intereses</a:t>
            </a:r>
            <a:r>
              <a:rPr b="0" lang="es-ES_tradnl" sz="2400" spc="-1" strike="noStrike">
                <a:solidFill>
                  <a:srgbClr val="000000"/>
                </a:solidFill>
                <a:latin typeface="Arial"/>
                <a:ea typeface="Arial"/>
              </a:rPr>
              <a:t> incompatibles (o convergentes sobre una entidad única), que -en virtud de estos- ante determinados escenarios, se plantean objetivos a alcanzar, adoptando para ello </a:t>
            </a:r>
            <a:r>
              <a:rPr b="1" i="1" lang="es-ES_tradnl" sz="2400" spc="-1" strike="noStrike">
                <a:solidFill>
                  <a:srgbClr val="000000"/>
                </a:solidFill>
                <a:latin typeface="Arial"/>
                <a:ea typeface="Arial"/>
              </a:rPr>
              <a:t>posiciones</a:t>
            </a:r>
            <a:r>
              <a:rPr b="0" lang="es-ES_tradnl" sz="2400" spc="-1" strike="noStrike">
                <a:solidFill>
                  <a:srgbClr val="000000"/>
                </a:solidFill>
                <a:latin typeface="Arial"/>
                <a:ea typeface="Arial"/>
              </a:rPr>
              <a:t> que pretenden hacer prevalecer mediante la movilización de sus </a:t>
            </a:r>
            <a:r>
              <a:rPr b="1" i="1" lang="es-ES_tradnl" sz="2400" spc="-1" strike="noStrike">
                <a:solidFill>
                  <a:srgbClr val="000000"/>
                </a:solidFill>
                <a:latin typeface="Arial"/>
                <a:ea typeface="Arial"/>
              </a:rPr>
              <a:t>recursos</a:t>
            </a:r>
            <a:r>
              <a:rPr b="0" lang="es-ES_tradnl" sz="2400" spc="-1" strike="noStrike">
                <a:solidFill>
                  <a:srgbClr val="000000"/>
                </a:solidFill>
                <a:latin typeface="Arial"/>
                <a:ea typeface="Arial"/>
              </a:rPr>
              <a:t>.</a:t>
            </a: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uando se evita el conflicto una vez que ya se ha explicitado -y/o cuando su manejo es inadecuado- tiende a intensificarse en una escalada de conflictos donde se dificulta en forma creciente la posibilidad de llegar a acuerdos entre los actores. El conflicto bilateral adquiere un carácter multilateral, de situación de crisis… se torna destructiv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mática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pos de conflictos: Enfoques de Estudi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puesta de matriz de análisis de conflictos: actores- intereses- posicio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tapa exploratoria: Preguntas de Raiff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udio de casos: La toma de Peñalolén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atriz de Apreciación política de Conflictos</a:t>
            </a:r>
            <a:endParaRPr b="0" lang="en-US" sz="4200" spc="-1" strike="noStrike">
              <a:solidFill>
                <a:srgbClr val="000000"/>
              </a:solidFill>
              <a:latin typeface="Arial"/>
            </a:endParaRPr>
          </a:p>
        </p:txBody>
      </p:sp>
      <p:sp>
        <p:nvSpPr>
          <p:cNvPr id="146" name="PlaceHolder 2"/>
          <p:cNvSpPr>
            <a:spLocks noGrp="1"/>
          </p:cNvSpPr>
          <p:nvPr>
            <p:ph/>
          </p:nvPr>
        </p:nvSpPr>
        <p:spPr>
          <a:xfrm>
            <a:off x="684000" y="1916280"/>
            <a:ext cx="3439800" cy="411480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ego de recolectada la información, la matriz de apreciación política de los conflictos permite sistematizar los datos recolectados comprendiendo de manera global la situación conflictiva.</a:t>
            </a:r>
            <a:endParaRPr b="0" lang="en-US" sz="2600" spc="-1" strike="noStrike">
              <a:solidFill>
                <a:srgbClr val="000000"/>
              </a:solidFill>
              <a:latin typeface="Arial"/>
            </a:endParaRPr>
          </a:p>
        </p:txBody>
      </p:sp>
      <p:graphicFrame>
        <p:nvGraphicFramePr>
          <p:cNvPr id="147" name=""/>
          <p:cNvGraphicFramePr/>
          <p:nvPr/>
        </p:nvGraphicFramePr>
        <p:xfrm>
          <a:off x="4357800" y="2071800"/>
          <a:ext cx="4208400" cy="3786120"/>
        </p:xfrm>
        <a:graphic>
          <a:graphicData uri="http://schemas.openxmlformats.org/drawingml/2006/table">
            <a:tbl>
              <a:tblPr/>
              <a:tblGrid>
                <a:gridCol w="1052280"/>
                <a:gridCol w="1051200"/>
                <a:gridCol w="1139760"/>
                <a:gridCol w="965160"/>
              </a:tblGrid>
              <a:tr h="75708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Actor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Interes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Posicion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Recurso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tapa Exploratoria:</a:t>
            </a:r>
            <a:endParaRPr b="0" lang="en-US" sz="5400" spc="-1" strike="noStrike">
              <a:solidFill>
                <a:srgbClr val="000000"/>
              </a:solidFill>
              <a:latin typeface="Arial"/>
            </a:endParaRPr>
          </a:p>
        </p:txBody>
      </p:sp>
      <p:sp>
        <p:nvSpPr>
          <p:cNvPr id="1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s de Raiff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763280" y="549000"/>
            <a:ext cx="6923160" cy="55767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dos part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repetitivo el jueg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efectos de vincul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un 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un acuer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ratificación del acuerd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el empleo de amenaz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692000" y="404280"/>
            <a:ext cx="6994440" cy="572148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xisten restricciones de tiempo o costos relacionados con tiem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obligatorios los contrat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privadas o públicas las negociacione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uáles son las normas de gru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la intervención de una tercera parte? ¿En qué c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studio de casos: </a:t>
            </a:r>
            <a:br>
              <a:rPr sz="5400"/>
            </a:br>
            <a:endParaRPr b="0" lang="en-US" sz="5400" spc="-1" strike="noStrike">
              <a:solidFill>
                <a:srgbClr val="000000"/>
              </a:solidFill>
              <a:latin typeface="Arial"/>
            </a:endParaRPr>
          </a:p>
        </p:txBody>
      </p:sp>
      <p:sp>
        <p:nvSpPr>
          <p:cNvPr id="153"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 toma de Peñalolén  </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468360" y="1844640"/>
          <a:ext cx="7848720" cy="4753080"/>
        </p:xfrm>
        <a:graphic>
          <a:graphicData uri="http://schemas.openxmlformats.org/drawingml/2006/table">
            <a:tbl>
              <a:tblPr/>
              <a:tblGrid>
                <a:gridCol w="2160720"/>
                <a:gridCol w="5688000"/>
              </a:tblGrid>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or</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ese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o a viviendas de cal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infraestructura y servicios</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 integrados socialment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poyo del Consejo Municipa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 legitimidad y gobernabil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izar utilidade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5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guridad y  tranquilidad del vecindario</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arrollo urbano del vecindario y l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a:rPr>
              <a:t>La toma de Peñalole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684360" y="1628640"/>
          <a:ext cx="7345080" cy="4753080"/>
        </p:xfrm>
        <a:graphic>
          <a:graphicData uri="http://schemas.openxmlformats.org/drawingml/2006/table">
            <a:tbl>
              <a:tblPr/>
              <a:tblGrid>
                <a:gridCol w="2863800"/>
                <a:gridCol w="4481280"/>
              </a:tblGrid>
              <a:tr h="452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r</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sició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tenerse en el sitio donde está emplazada la tom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3457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ar el conflicto y satisfacer intereses de la comun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orgar una solución habitacional en  otr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ender el terreno al precio más alto posibl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radicación de la toma del territorio colindante  a sus vivienda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 toma de Peñalolé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6920" y="18572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Qué entendemos por conflict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85840" y="1500120"/>
            <a:ext cx="8229600" cy="4476960"/>
          </a:xfrm>
          <a:prstGeom prst="rect">
            <a:avLst/>
          </a:prstGeom>
          <a:noFill/>
          <a:ln w="0">
            <a:noFill/>
          </a:ln>
        </p:spPr>
        <p:txBody>
          <a:bodyPr anchor="t">
            <a:normAutofit fontScale="96000"/>
          </a:bodyPr>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Coser:</a:t>
            </a:r>
            <a:r>
              <a:rPr b="0" lang="es-ES" sz="2100" spc="-1" strike="noStrike">
                <a:solidFill>
                  <a:srgbClr val="000000"/>
                </a:solidFill>
                <a:latin typeface="Arial"/>
              </a:rPr>
              <a:t> “Es una lucha respecto a valores y derechos  sobre estados, poderes y recursos.” (distinción entre conflictos reales e irreales: variable intencionalidad y naturaleza de la hostilidad entre las part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Freund:</a:t>
            </a:r>
            <a:r>
              <a:rPr b="0" lang="es-ES" sz="2100" spc="-1" strike="noStrike">
                <a:solidFill>
                  <a:srgbClr val="000000"/>
                </a:solidFill>
                <a:latin typeface="Arial"/>
              </a:rPr>
              <a:t> “Es un enfrentamiento por choque intencionado entre dos seres o grupos” (distinción entre conflictos polémicos y conflictos agonal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ff"/>
                </a:solidFill>
                <a:latin typeface="Arial"/>
              </a:rPr>
              <a:t>Bobbio:</a:t>
            </a:r>
            <a:r>
              <a:rPr b="0" lang="es-AR" sz="2100" spc="-1" strike="noStrike">
                <a:solidFill>
                  <a:srgbClr val="000000"/>
                </a:solidFill>
                <a:latin typeface="Arial"/>
              </a:rPr>
              <a:t> “Representa </a:t>
            </a:r>
            <a:r>
              <a:rPr b="0" lang="es-ES" sz="2100" spc="-1" strike="noStrike">
                <a:solidFill>
                  <a:srgbClr val="000000"/>
                </a:solidFill>
                <a:latin typeface="Arial"/>
              </a:rPr>
              <a:t>una forma de interacción entre individuos, grupos, organizaciones y colectividades que implica enfrentamientos por el acceso a recursos escasos y su distribución.”</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Howard Ross : </a:t>
            </a:r>
            <a:r>
              <a:rPr b="0" lang="es-ES" sz="2100" spc="-1" strike="noStrike">
                <a:solidFill>
                  <a:srgbClr val="000000"/>
                </a:solidFill>
                <a:latin typeface="Arial"/>
              </a:rPr>
              <a:t>“Acciones de dos o más partes que contienden por el control de materiales escasos o recursos simbólicos” (variable simbólica del conflicto). </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4 CuadroTexto"/>
          <p:cNvSpPr/>
          <p:nvPr/>
        </p:nvSpPr>
        <p:spPr>
          <a:xfrm>
            <a:off x="1714680" y="428760"/>
            <a:ext cx="514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rPr>
              <a:t>Algunas aproximacione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2071800" y="1000080"/>
            <a:ext cx="6767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RESUMEN</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todo conflicto se distinguen partes o individuos, </a:t>
            </a:r>
            <a:r>
              <a:rPr b="0" i="1" lang="es-ES" sz="2000" spc="-1" strike="noStrike">
                <a:solidFill>
                  <a:srgbClr val="000000"/>
                </a:solidFill>
                <a:latin typeface="Arial"/>
                <a:ea typeface="Arial"/>
              </a:rPr>
              <a:t>ACTORES</a:t>
            </a:r>
            <a:r>
              <a:rPr b="0" lang="es-ES" sz="2000" spc="-1" strike="noStrike">
                <a:solidFill>
                  <a:srgbClr val="000000"/>
                </a:solidFill>
                <a:latin typeface="Arial"/>
                <a:ea typeface="Arial"/>
              </a:rPr>
              <a:t>, que entran en </a:t>
            </a:r>
            <a:r>
              <a:rPr b="1" lang="es-ES" sz="2000" spc="-1" strike="noStrike">
                <a:solidFill>
                  <a:srgbClr val="000000"/>
                </a:solidFill>
                <a:latin typeface="Arial"/>
                <a:ea typeface="Arial"/>
              </a:rPr>
              <a:t>UNA RELACIÓN</a:t>
            </a:r>
            <a:r>
              <a:rPr b="0" lang="es-ES" sz="2000" spc="-1" strike="noStrike">
                <a:solidFill>
                  <a:srgbClr val="000000"/>
                </a:solidFill>
                <a:latin typeface="Arial"/>
                <a:ea typeface="Arial"/>
              </a:rPr>
              <a:t> de pugna, confrontación o colisión por:</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5" name="Text Box 3"/>
          <p:cNvSpPr/>
          <p:nvPr/>
        </p:nvSpPr>
        <p:spPr>
          <a:xfrm>
            <a:off x="2143080" y="2786040"/>
            <a:ext cx="65721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divergentes</a:t>
            </a:r>
            <a:r>
              <a:rPr b="0" lang="es-ES" sz="2000" spc="-1" strike="noStrike">
                <a:solidFill>
                  <a:srgbClr val="000000"/>
                </a:solidFill>
                <a:latin typeface="Arial"/>
                <a:ea typeface="Arial"/>
              </a:rPr>
              <a:t> sobre un mismo escenario, donde los actores valoran de manera diferente determinada entidad y al intentar uno imponerle sus apreciaciones a otro se genera la disputa.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convergentes</a:t>
            </a:r>
            <a:r>
              <a:rPr b="0" lang="es-ES" sz="2000" spc="-1" strike="noStrike">
                <a:solidFill>
                  <a:srgbClr val="000000"/>
                </a:solidFill>
                <a:latin typeface="Arial"/>
                <a:ea typeface="Arial"/>
              </a:rPr>
              <a:t>, sobre un bien o recurso escaso, es decir, existe una idéntica estimación (valoración) de un bien, que al ser escaso, torna conflictiva su posesión.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233280" y="1246320"/>
            <a:ext cx="8767800" cy="4363920"/>
            <a:chOff x="233280" y="1246320"/>
            <a:chExt cx="8767800" cy="4363920"/>
          </a:xfrm>
        </p:grpSpPr>
        <p:sp>
          <p:nvSpPr>
            <p:cNvPr id="107" name="AutoShape 3"/>
            <p:cNvSpPr/>
            <p:nvPr/>
          </p:nvSpPr>
          <p:spPr>
            <a:xfrm>
              <a:off x="233280" y="1246320"/>
              <a:ext cx="8675280" cy="436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AutoShape 4"/>
            <p:cNvSpPr/>
            <p:nvPr/>
          </p:nvSpPr>
          <p:spPr>
            <a:xfrm>
              <a:off x="3124440" y="2643120"/>
              <a:ext cx="2334240" cy="1571400"/>
            </a:xfrm>
            <a:custGeom>
              <a:avLst/>
              <a:gdLst>
                <a:gd name="textAreaLeft" fmla="*/ 0 w 2334240"/>
                <a:gd name="textAreaRight" fmla="*/ 2334600 w 2334240"/>
                <a:gd name="textAreaTop" fmla="*/ 392760 h 1571400"/>
                <a:gd name="textAreaBottom" fmla="*/ 1178640 h 157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Intereses o </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Objetivos</a:t>
              </a:r>
              <a:endParaRPr b="0" lang="en-US" sz="2000" spc="-1" strike="noStrike">
                <a:solidFill>
                  <a:srgbClr val="336666"/>
                </a:solidFill>
                <a:latin typeface="Arial"/>
              </a:endParaRPr>
            </a:p>
          </p:txBody>
        </p:sp>
        <p:sp>
          <p:nvSpPr>
            <p:cNvPr id="109" name="Rectangle 5"/>
            <p:cNvSpPr/>
            <p:nvPr/>
          </p:nvSpPr>
          <p:spPr>
            <a:xfrm>
              <a:off x="3013920" y="4388040"/>
              <a:ext cx="277956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vergentes sobre un mismo recurso escaso</a:t>
              </a:r>
              <a:endParaRPr b="0" lang="en-US" sz="2000" spc="-1" strike="noStrike">
                <a:solidFill>
                  <a:srgbClr val="336666"/>
                </a:solidFill>
                <a:latin typeface="Arial"/>
              </a:endParaRPr>
            </a:p>
          </p:txBody>
        </p:sp>
        <p:sp>
          <p:nvSpPr>
            <p:cNvPr id="110" name="Rectangle 6"/>
            <p:cNvSpPr/>
            <p:nvPr/>
          </p:nvSpPr>
          <p:spPr>
            <a:xfrm>
              <a:off x="455040" y="2817720"/>
              <a:ext cx="1445760" cy="139572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Actor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11" name="Rectangle 7"/>
            <p:cNvSpPr/>
            <p:nvPr/>
          </p:nvSpPr>
          <p:spPr>
            <a:xfrm>
              <a:off x="3013920" y="1246320"/>
              <a:ext cx="266904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Divergentes sobre un mismo escenario</a:t>
              </a:r>
              <a:endParaRPr b="0" lang="en-US" sz="2000" spc="-1" strike="noStrike">
                <a:solidFill>
                  <a:srgbClr val="336666"/>
                </a:solidFill>
                <a:latin typeface="Arial"/>
              </a:endParaRPr>
            </a:p>
          </p:txBody>
        </p:sp>
        <p:sp>
          <p:nvSpPr>
            <p:cNvPr id="112" name="AutoShape 8"/>
            <p:cNvSpPr/>
            <p:nvPr/>
          </p:nvSpPr>
          <p:spPr>
            <a:xfrm>
              <a:off x="5458680" y="3166920"/>
              <a:ext cx="1114200" cy="51912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AutoShape 9"/>
            <p:cNvSpPr/>
            <p:nvPr/>
          </p:nvSpPr>
          <p:spPr>
            <a:xfrm>
              <a:off x="6572160" y="2468520"/>
              <a:ext cx="2428920" cy="1744920"/>
            </a:xfrm>
            <a:custGeom>
              <a:avLst/>
              <a:gdLst>
                <a:gd name="textAreaLeft" fmla="*/ 554400 w 2428920"/>
                <a:gd name="textAreaRight" fmla="*/ 1874520 w 2428920"/>
                <a:gd name="textAreaTop" fmla="*/ 398160 h 1744920"/>
                <a:gd name="textAreaBottom" fmla="*/ 1346760 h 174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flicto </a:t>
              </a:r>
              <a:endParaRPr b="0" lang="en-US" sz="2000" spc="-1" strike="noStrike">
                <a:solidFill>
                  <a:srgbClr val="336666"/>
                </a:solidFill>
                <a:latin typeface="Arial"/>
              </a:endParaRPr>
            </a:p>
          </p:txBody>
        </p:sp>
        <p:sp>
          <p:nvSpPr>
            <p:cNvPr id="114" name="AutoShape 10"/>
            <p:cNvSpPr/>
            <p:nvPr/>
          </p:nvSpPr>
          <p:spPr>
            <a:xfrm>
              <a:off x="1901880" y="3166920"/>
              <a:ext cx="1112760" cy="51768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85840" y="2714760"/>
            <a:ext cx="8229600" cy="326232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relaciones entre individuos y grupos, suelen alternarse entre episodios de conflicto y cooperación. Entonces, se debe asumir el </a:t>
            </a:r>
            <a:r>
              <a:rPr b="0" lang="es-ES_tradnl" sz="2000" spc="-1" strike="noStrike" u="sng">
                <a:solidFill>
                  <a:srgbClr val="000000"/>
                </a:solidFill>
                <a:uFillTx/>
                <a:latin typeface="Arial"/>
              </a:rPr>
              <a:t>conflicto como una realidad habitual</a:t>
            </a:r>
            <a:r>
              <a:rPr b="0" lang="es-ES_tradnl" sz="2000" spc="-1" strike="noStrike">
                <a:solidFill>
                  <a:srgbClr val="000000"/>
                </a:solidFill>
                <a:latin typeface="Arial"/>
              </a:rPr>
              <a:t>, manejable e, idealmente, controlable.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Dahrendorf)</a:t>
            </a: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4 CuadroTexto"/>
          <p:cNvSpPr/>
          <p:nvPr/>
        </p:nvSpPr>
        <p:spPr>
          <a:xfrm>
            <a:off x="1643040" y="714240"/>
            <a:ext cx="692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6666"/>
                </a:solidFill>
                <a:latin typeface="Arial"/>
              </a:rPr>
              <a:t>Un elemento a considerar…</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6286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ipos de Conflictos</a:t>
            </a:r>
            <a:endParaRPr b="0" lang="en-US" sz="4800" spc="-1" strike="noStrike">
              <a:solidFill>
                <a:srgbClr val="000000"/>
              </a:solidFill>
              <a:latin typeface="Arial"/>
            </a:endParaRPr>
          </a:p>
        </p:txBody>
      </p:sp>
      <p:sp>
        <p:nvSpPr>
          <p:cNvPr id="118"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foques de Estudio</a:t>
            </a:r>
            <a:endParaRPr b="0" lang="en-US" sz="3000" spc="-1" strike="noStrike">
              <a:solidFill>
                <a:srgbClr val="000000"/>
              </a:solidFill>
              <a:latin typeface="Arial"/>
            </a:endParaRPr>
          </a:p>
        </p:txBody>
      </p:sp>
      <p:graphicFrame>
        <p:nvGraphicFramePr>
          <p:cNvPr id="119" name="Object 2"/>
          <p:cNvGraphicFramePr/>
          <p:nvPr/>
        </p:nvGraphicFramePr>
        <p:xfrm>
          <a:off x="5580000" y="4581360"/>
          <a:ext cx="2438640" cy="1810080"/>
        </p:xfrm>
        <a:graphic>
          <a:graphicData uri="http://schemas.openxmlformats.org/presentationml/2006/ole">
            <p:oleObj r:id="rId1" spid="">
              <p:embed/>
              <p:pic>
                <p:nvPicPr>
                  <p:cNvPr id="120" name="Object 2" descr=""/>
                  <p:cNvPicPr/>
                  <p:nvPr/>
                </p:nvPicPr>
                <p:blipFill>
                  <a:blip r:embed="rId2"/>
                  <a:stretch/>
                </p:blipFill>
                <p:spPr>
                  <a:xfrm>
                    <a:off x="5580000" y="4581360"/>
                    <a:ext cx="2438640" cy="18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Tipología de Conflicto</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dinámica conflictiva tiene carácter ascendente y progresivo: </a:t>
            </a:r>
            <a:r>
              <a:rPr b="0" i="1" lang="es-ES_tradnl" sz="2600" spc="-1" strike="noStrike">
                <a:solidFill>
                  <a:srgbClr val="000000"/>
                </a:solidFill>
                <a:latin typeface="Arial"/>
              </a:rPr>
              <a:t>escalada</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ntro de la escalada se distinguen tres etapas: latencia, manifestación e institucionalización del conflicto. Cada una con una tipología de conflictos:</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Latente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Manifiesto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institucionalizados</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4:42:05Z</dcterms:created>
  <dc:creator>cguerrero</dc:creator>
  <dc:description/>
  <dc:language>en-US</dc:language>
  <cp:lastModifiedBy>Néstor Guerrero</cp:lastModifiedBy>
  <dcterms:modified xsi:type="dcterms:W3CDTF">2009-07-31T08:41:58Z</dcterms:modified>
  <cp:revision>16</cp:revision>
  <dc:subject/>
  <dc:title>Una mirada  analítica a los conflictos</dc:title>
</cp:coreProperties>
</file>