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DCFB-63F4-4FD4-8863-0F874426FF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449E-FE26-4748-93A3-834F6AEFBEA5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7654-3805-41D6-96B7-EA806AC96592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321-6F2C-4E05-9901-819A790E03AA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74E-F871-49F7-AAF2-C39CA6679E80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D333-0E0C-4BB4-94AA-AFF4FC32622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6BA4-0FA3-4F16-8124-5340DA8F812F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7DFB-DD02-42A6-AFCC-D553D27C1A65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9D1A-879F-4E7A-8169-A03488424602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2C3-4C54-4FE7-8268-3CFEED433128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9CA-EF35-405D-9AB5-63524CB4941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281-2D83-4E27-A0F3-9C0088E5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017-2222-40E5-A08B-62111824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8D0-BCA2-4AEB-8B00-DFD00067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801-7C16-4B62-8D5E-1EBB1E70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5AEB-014A-4124-842E-0678A832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8406-6740-4F43-9D01-DE61D8B5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C5D7-D631-4431-8A68-F6EDA12D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D418-A67F-4557-B6AA-81F74579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FA7E-CA61-4026-AF06-BB4D39E2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FD61-D56D-4EEF-B36F-EB871720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C1A4-931D-419A-8E28-2B38224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4F2-921A-4F10-8078-97F320D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A076-EF97-47F0-BFEA-F862A077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89C2-E4B3-40B2-8C71-50B356E9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8A8-73D2-4EAD-AD7C-732D26D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95C4-C6AD-4C80-B635-5D1CB3F0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1A57-3AB5-457A-845F-FE6E0C3B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A90-7F57-4BF5-8F14-6E99BEE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240-0E3C-4FC4-971D-E6E87A8F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028-680B-47CE-A93A-8F8452B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A10-A274-4181-A6FE-59F2E81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612-AC48-441B-B03A-4C60F92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6FD-3C31-46BA-ADFE-B44C06A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EE5-CD0D-48F6-B32C-9E2AAECE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1F0-7A75-4156-A519-8B45DC5B47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DBEE-4F80-4BD6-9490-1EECBD86A199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Taller III: Negociación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fesor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rancisca Quiro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quipo Aseso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Carolina Guerrero -  Néstor Guerrero -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manuel Osses - Sofía Schus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5 Imagen" descr="logo escuela.bmp"/>
          <p:cNvPicPr/>
          <p:nvPr/>
        </p:nvPicPr>
        <p:blipFill>
          <a:blip r:embed="rId1"/>
          <a:srcRect l="0" t="0" r="30030" b="80534"/>
          <a:stretch/>
        </p:blipFill>
        <p:spPr>
          <a:xfrm>
            <a:off x="500040" y="214200"/>
            <a:ext cx="5505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arrollo de trabajos individuales y/o grupales durante las sesi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alizarán dos talleres y una simulación final. Los talleres equivalen  al 60%  y la simulación final equivale el restante 40% de la evaluación fin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aller  pretende entregar una visión teórico-práctica respecto al uso de la negociación  como una herramienta de manejo y resolución de conflictos y de adopción de decisiones colegiadas entre personas o grupos que tienen intereses distintos. Específicamente, pretende brindar al participante las bases de las últimas tendencias en el ámbito mundial de manejo y resolución de conflictos con enfoque integrado y desarrollar habilidades que les permita asesorar a grupos, a aislar sistemáticamente sus diferencias y a construir, en conjunto, alternativas de acciones 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ar la negociación como mecanismo de resolución y manejo de confli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ctar los elementos claves para el análisis de un proceso de negociación y las fases por las que atravi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istinguir los tipos de negociación y los estilos de negociad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y aplicar el Método Harvard de Negociación basada en principios y distinguir sus particularidades en relación a otros métodos de negociación con enfoque integ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car los tipos de discursos y los actos de habla estratégicos en una negociación con actores e intereses diversos en el ámbito públic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nocer las habilidades comunicacionales del negociador(a) efectivo(a) en diferentes coyunturas polít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I Unid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Una mirada  analítica a los confli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s de confli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opuesta de matriz de análisis de conflictos: actores- intereses- 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tapa exploratoria: Preguntas de Raiff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udio de casos: La toma de Peñalole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I Un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La Negociación como método de toma de decisiones y como herramienta de manejo y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ciones y 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y estilo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los de negoci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II Unidad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Planificación y diseño de una estrategia de negoci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tapas del Proceso de Negoci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formación del equipo negociado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tapas del proceso de negociació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l Método Harvard o Método de Negociación en torno a principi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  Los cuatro principios básic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l Proble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Las personas y sus distintas valoraciones respecto al proble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os intereses: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Motivaciones objetivas y subjetiv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as Opcione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xploración de alternativ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os Criterio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laves de objetivid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Negociaciones en contextos difícile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ácticas de “desarme” para convertir el conflicto en coope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Del conflicto a la crisis multisectorial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Estudio de ca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IV Unid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Habilidades  comunicacionales  del Negociador(a) efectivo(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habilidades expresivas: Empatía, asertividad, uso estratégico del léx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rcicios individuales y grupales para identificar las habilidades expresiv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V Unid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Ciclo de simulacion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Juego de ro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lases expositiv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lleres grupales de análisis de situaciones relacionadas al ámbito lab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rcicios de entrenamiento en las temá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ecturas seleccion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udio de cas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arrollo de Simu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5:43:52Z</dcterms:created>
  <dc:creator>cguerrero</dc:creator>
  <dc:description/>
  <dc:language>en-US</dc:language>
  <cp:lastModifiedBy>Néstor Guerrero</cp:lastModifiedBy>
  <dcterms:modified xsi:type="dcterms:W3CDTF">2009-07-19T19:08:11Z</dcterms:modified>
  <cp:revision>5</cp:revision>
  <dc:subject/>
  <dc:title>Taller III: Negociación </dc:title>
</cp:coreProperties>
</file>