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6F9F-797C-47BC-A44F-C9A1E2699B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F78C-FA43-4DC0-B56E-1CBB3FE7C6D7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BEEC-3458-43C7-BF45-5669C9BF56C5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616E-9F9E-4189-BC1E-D5A87CE623AE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B63D-A285-4C0D-B4F7-ACAA2C33AAF3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A571-7DFD-4BB2-B9F4-BCE645588F59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4469-B126-4658-86B8-B7F692986841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F50B-B1CD-4710-B57E-83167E80B946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165B-22F9-4F90-BB66-493FBB074003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FD02-7124-4500-9E12-82670973C6DF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BC08-27AE-42B3-99B8-5FFFDA653D99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9D5-EE48-447E-A666-CED7BD23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99E-F3FF-4D38-9D06-3B30F1A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26C-443D-44B2-8DCD-F8088F68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326-AEFC-45C8-A6A8-ED4077D6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F990-2870-40DE-8C3F-A2760CAF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CC0C-ED25-414B-8124-8923398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C726-2637-4550-9E6C-67476EB4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20F0-90DC-49D1-8F2F-3135D24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B454-B048-4900-982D-DAA7FC2D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7026-760A-4E5B-AF12-1B20AC31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9204-7CFD-4088-90AA-A0F35167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4CD-7C49-4DE9-A5B3-E384EB1C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51C9-FE3C-4637-B559-6DDE804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B5F6-9EC8-4EE0-B3B6-AE50957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6B1F-17FF-4867-8F39-294B8051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7375-F4B0-49B2-8A58-37471969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757F-D70B-41C6-94ED-CB51DA37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08A-6D99-4C40-B026-1F3769B3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B79-B2E1-4CE2-A408-27445E07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57E-AB96-49C7-9DC1-6FA0F3E8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A4F-379F-4452-ACD9-53B42A8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3FD-5124-4325-A0EC-D1226E72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45D-0716-4DF2-BF40-2B908B14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191-A731-412A-80CC-5FA6CB8E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F863-9B0D-4670-8E88-721391EA83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37A5-CD29-41AC-BEEA-A40A287BD424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Taller III: Negociación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rofesor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rancisca Quiro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quipo Asesor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Carolina Guerrero -  Néstor Guerrero -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manuel Osses - Sofía Schus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5 Imagen" descr="logo escuela.bmp"/>
          <p:cNvPicPr/>
          <p:nvPr/>
        </p:nvPicPr>
        <p:blipFill>
          <a:blip r:embed="rId1"/>
          <a:srcRect l="0" t="0" r="30030" b="80534"/>
          <a:stretch/>
        </p:blipFill>
        <p:spPr>
          <a:xfrm>
            <a:off x="500040" y="214200"/>
            <a:ext cx="55054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arrollo de trabajos individuales y/o grupales durante las sesion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realizarán dos talleres y una simulación final. Los talleres equivalen  al 60%  y la simulación final equivale el restante 40% de la evaluación fina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aller  pretende entregar una visión teórico-práctica respecto al uso de la negociación  como una herramienta de manejo y resolución de conflictos y de adopción de decisiones colegiadas entre personas o grupos que tienen intereses distintos. Específicamente, pretende brindar al participante las bases de las últimas tendencias en el ámbito mundial de manejo y resolución de conflictos con enfoque integrado y desarrollar habilidades que les permita asesorar a grupos, a aislar sistemáticamente sus diferencias y a construir, en conjunto, alternativas de acciones  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ar la negociación como mecanismo de resolución y manejo de conflic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tectar los elementos claves para el análisis de un proceso de negociación y las fases por las que atravi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istinguir los tipos de negociación y los estilos de negociado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ocer y aplicar el Método Harvard de Negociación basada en principios y distinguir sus particularidades en relación a otros métodos de negociación con enfoque integ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dentificar los tipos de discursos y los actos de habla estratégicos en una negociación con actores e intereses diversos en el ámbito públic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conocer las habilidades comunicacionales del negociador(a) efectivo(a) en diferentes coyunturas polít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I Unid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Una mirada  analítica a los confli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s de confli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opuesta de matriz de análisis de conflictos: actores- intereses- pos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tapa exploratoria: Preguntas de Raiff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udio de casos: La toma de Peñalole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0661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II Uni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La Negociación como método de toma de decisiones y como herramienta de manejo y resolución de confli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ciones y  enf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y estilos de neg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ilos de negoci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III Unidad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Planificación y diseño de una estrategia de negoci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Etapas del Proceso de Negociac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 formación del equipo negociado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tapas del proceso de negociació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El Método Harvard o Método de Negociación en torno a principi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  Los cuatro principios básic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El Problema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: Las personas y sus distintas valoraciones respecto al problem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Los intereses: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Motivaciones objetivas y subjetiv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Las Opciones: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xploración de alternativ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Los Criterios: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laves de objetivida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Negociaciones en contextos difíciles: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Tácticas de “desarme” para convertir el conflicto en cooper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Del conflicto a la crisis multisectorial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: Estudio de ca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Arial"/>
              </a:rPr>
              <a:t>IV Unida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Arial"/>
              </a:rPr>
              <a:t>Habilidades  comunicacionales  del Negociador(a) efectivo(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habilidades expresivas: Empatía, asertividad, uso estratégico del léx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rcicios individuales y grupales para identificar las habilidades expresiv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V Unid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Ciclo de simulacion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Juego de ro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lases expositiv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lleres grupales de análisis de situaciones relacionadas al ámbito labo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rcicios de entrenamiento en las temát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ecturas seleccion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udio de cas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sarrollo de Simu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5:43:52Z</dcterms:created>
  <dc:creator>cguerrero</dc:creator>
  <dc:description/>
  <dc:language>en-US</dc:language>
  <cp:lastModifiedBy>Néstor Guerrero</cp:lastModifiedBy>
  <dcterms:modified xsi:type="dcterms:W3CDTF">2009-07-19T19:08:11Z</dcterms:modified>
  <cp:revision>5</cp:revision>
  <dc:subject/>
  <dc:title>Taller III: Negociación </dc:title>
</cp:coreProperties>
</file>