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0E44-E67B-4FEE-8BDA-2C83E90BF6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3E81-BFC8-48AC-B6A1-E718995F3C26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E7CF-E76B-4200-B692-929E0C089ECB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B0DA-27A9-4DA3-ACF4-F352F879C4E4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4EA0-FD70-4D9E-AA2D-63531656D37D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251A-D317-44D5-A4EE-AC9E1B0C8C04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4A18-6423-4605-BE32-65BCA1EE2670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6C4B-06E2-4209-A675-29C927DFAF6A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A1EF-9AD8-40EE-9079-107368E8B547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C272-0EA7-46FB-941F-C47908D5C82A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880D-803E-42B6-B220-C46175F4E085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CA5-574A-4E77-9578-EE2F5F4E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99F-020A-4973-8573-9D8DA49F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8DA-C4B2-437F-9803-BAE0AD6B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408-7509-4C60-A290-B89516A3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390D-E9C3-4767-AA85-C97F24E3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3892-D47A-4DB1-99F6-C1E5FB54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1C0-E7D9-4518-ACA5-342C6453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8AB6-059B-4820-ABBB-9C48C432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ADE4-4829-4EA0-9CC7-3593791D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4909-807B-4CAE-8D01-8A894158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9F70-A320-4F68-99DF-4C954222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72B-B5C0-468A-A243-CBBA27AB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6040-F951-4802-9614-D308B3E3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FF73-C055-4A68-9FD7-1976A2AA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ADC1-8C74-4D45-92AF-6311BE6E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E12C-8412-4C6E-AB3E-767D6121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0380-67B5-4EBA-A376-6B483036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9EC-D2E2-4820-BEE7-7AD2A25F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7BB-B99E-469A-8765-ABF77B0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DB2-85E1-4AC5-8D40-66F5D154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DF9-8A0A-4FDD-924D-9EE1FFD3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6F3-8B56-4C38-90AB-1AD4A67C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9A5-CBE3-4EEF-AD6F-99BB8E22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0C7-5EAF-41E1-9375-F2443C11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1A71-5946-44B1-9BE6-4B1A3467B02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F95E-CBED-487A-A0CD-E0045F29B223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Taller III: Negociación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fesor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rancisca Quirog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quipo Asesor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Carolina Guerrero -  Néstor Guerrero -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manuel Osses - Sofía Schus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5 Imagen" descr="logo escuela.bmp"/>
          <p:cNvPicPr/>
          <p:nvPr/>
        </p:nvPicPr>
        <p:blipFill>
          <a:blip r:embed="rId1"/>
          <a:srcRect l="0" t="0" r="30030" b="80534"/>
          <a:stretch/>
        </p:blipFill>
        <p:spPr>
          <a:xfrm>
            <a:off x="500040" y="214200"/>
            <a:ext cx="55054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sarrollo de trabajos individuales y/o grupales durante las sesio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realizarán dos talleres y una simulación final. Los talleres equivalen  al 60%  y la simulación final equivale el restante 40% de la evaluación fina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aller  pretende entregar una visión teórico-práctica respecto al uso de la negociación  como una herramienta de manejo y resolución de conflictos y de adopción de decisiones colegiadas entre personas o grupos que tienen intereses distintos. Específicamente, pretende brindar al participante las bases de las últimas tendencias en el ámbito mundial de manejo y resolución de conflictos con enfoque integrado y desarrollar habilidades que les permita asesorar a grupos, a aislar sistemáticamente sus diferencias y a construir, en conjunto, alternativas de acciones  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ar la negociación como mecanismo de resolución y manejo de confli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tectar los elementos claves para el análisis de un proceso de negociación y las fases por las que atravies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istinguir los tipos de negociación y los estilos de negociad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ocer y aplicar el Método Harvard de Negociación basada en principios y distinguir sus particularidades en relación a otros métodos de negociación con enfoque integ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dentificar los tipos de discursos y los actos de habla estratégicos en una negociación con actores e intereses diversos en el ámbito públic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conocer las habilidades comunicacionales del negociador(a) efectivo(a) en diferentes coyunturas polít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I Unid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Una mirada  analítica a los confli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pos de confli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opuesta de matriz de análisis de conflictos: actores- intereses- pos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tapa exploratoria: Preguntas de Raiff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udio de casos: La toma de Peñalole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06616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I Un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La Negociación como método de toma de decisiones y como herramienta de manejo y resolución de confli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ciones y  enf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y estilos de neg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ilos de negoci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II Unidad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Planificación y diseño de una estrategia de negoci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Etapas del Proceso de Negoci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 formación del equipo negociado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tapas del proceso de negociació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El Método Harvard o Método de Negociación en torno a principi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  Los cuatro principios básic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El Problema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 Las personas y sus distintas valoraciones respecto al problem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Los intereses: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Motivaciones objetivas y subjetiv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Las Opciones: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xploración de alternativa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Los Criterios: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laves de objetivida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Negociaciones en contextos difíciles: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Tácticas de “desarme” para convertir el conflicto en cooper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Del conflicto a la crisis multisectorial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: Estudio de ca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90512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Arial"/>
              </a:rPr>
              <a:t>IV Unida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Arial"/>
              </a:rPr>
              <a:t>Habilidades  comunicacionales  del Negociador(a) efectivo(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s habilidades expresivas: Empatía, asertividad, uso estratégico del léx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rcicios individuales y grupales para identificar las habilidades expresiv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V Unid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Ciclo de simulacion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Juego de ro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lases expositiv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lleres grupales de análisis de situaciones relacionadas al ámbito labo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rcicios de entrenamiento en las temát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ecturas seleccion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udio de cas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sarrollo de Simu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5:43:52Z</dcterms:created>
  <dc:creator>cguerrero</dc:creator>
  <dc:description/>
  <dc:language>en-US</dc:language>
  <cp:lastModifiedBy>Néstor Guerrero</cp:lastModifiedBy>
  <dcterms:modified xsi:type="dcterms:W3CDTF">2009-07-19T19:08:11Z</dcterms:modified>
  <cp:revision>5</cp:revision>
  <dc:subject/>
  <dc:title>Taller III: Negociación </dc:title>
</cp:coreProperties>
</file>