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B349-9063-4D2C-9583-0314DA02D82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6862-1E3C-4291-8EE3-2BCED2F41BD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6AF7-D044-49FF-8B44-727007D2B22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5402-F3E1-4ECC-AF92-252A72F06D7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E50F-9E7E-4B90-836F-BA3436F312C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9A90-4A79-49F1-AA98-5C1F8F5CAED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5387-BBC1-4F78-B404-7BC56E9BC47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0069-8509-4F55-8DDC-3DBFF894E45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F814-F774-4525-A2B2-D2F94DC1FBC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041A-8732-469A-A5EE-AD98E890617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CEAE-0C94-4347-9C32-1124BC2F300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9BFF-84E4-49FC-A5B2-51632783E07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A0B9-6ED3-44FC-90F1-0EE084C29AA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BBC1-2783-47E4-8D1E-DFF73E398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5AA1-DE66-4EC1-A149-565CFF10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9E0C-C5D7-4024-A1F2-4399A687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DA10-FC38-4E50-8596-54929184C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16F9-985F-4FD8-B3BA-AA9CCF9C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60CD-B1CA-4FBA-B923-F7FE2E88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24FC-4356-4285-A557-7C915B02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45C4-65B9-42A7-B707-0025FC65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9248-7793-4C6E-94EE-5D37C017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E089-8307-40DF-9C58-0C785552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2F0A-DD75-471D-8B86-C3332D2E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6A1E-C030-4184-B3A7-FD2F0E1E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ACFF-8BC2-4D08-A4C7-831C9391A72E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214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Calibri"/>
              </a:rPr>
              <a:t>Niveles</a:t>
            </a: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 de responsabilidad individual y colectiva en el fenómeno del Femicidio en el Chile del siglo XX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28840" y="4642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0253f"/>
                </a:solidFill>
                <a:latin typeface="Calibri"/>
              </a:rPr>
              <a:t>Tomás Leyt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0253f"/>
                </a:solidFill>
                <a:latin typeface="Calibri"/>
              </a:rPr>
              <a:t>Amaranta Vandeper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0253f"/>
                </a:solidFill>
                <a:latin typeface="Calibri"/>
              </a:rPr>
              <a:t>Álvaro Viver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4 CuadroTexto"/>
          <p:cNvSpPr/>
          <p:nvPr/>
        </p:nvSpPr>
        <p:spPr>
          <a:xfrm>
            <a:off x="3071880" y="6215040"/>
            <a:ext cx="2928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Calibri"/>
              </a:rPr>
              <a:t>Teoría sociológica y estructura social de Ch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Calibri"/>
              </a:rPr>
              <a:t>Primavera 20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C:\Users\alvaro\Desktop\logo.jpg"/>
          <p:cNvPicPr/>
          <p:nvPr/>
        </p:nvPicPr>
        <p:blipFill>
          <a:blip r:embed="rId1"/>
          <a:stretch/>
        </p:blipFill>
        <p:spPr>
          <a:xfrm>
            <a:off x="420840" y="353880"/>
            <a:ext cx="2657160" cy="938520"/>
          </a:xfrm>
          <a:prstGeom prst="rect">
            <a:avLst/>
          </a:prstGeom>
          <a:ln w="0">
            <a:noFill/>
          </a:ln>
        </p:spPr>
      </p:pic>
      <p:sp>
        <p:nvSpPr>
          <p:cNvPr id="52" name="8 CuadroTexto"/>
          <p:cNvSpPr/>
          <p:nvPr/>
        </p:nvSpPr>
        <p:spPr>
          <a:xfrm>
            <a:off x="2928960" y="500040"/>
            <a:ext cx="2786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Universidad de Ch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Instituto de Asuntos Públ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Escuela de Gobierno y Gestión Pú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6840" y="1599840"/>
            <a:ext cx="82580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Calibri"/>
              </a:rPr>
              <a:t>Patrones cultur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- Concepto de Moral Soci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-“(…)TODO DEPENDE DEL MEDIO CULTURAL EN EL QUE LOS SUJETOS ESTEN INSERTOS Y DE SU ADAPTACIÓN AL MISMO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FUENTE: Farmer, W (1974). “Cultural development and the mankind”  Ed. Egreccia. trad. Cristiano, 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Calibri"/>
              </a:rPr>
              <a:t>Ideas Centr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Calibri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Los sujetos crean cultura, y por ende, patrones cultural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Los patrones comunes son una adaptación mayor a patrones arcaicos y presencia de  neurosis en los agreso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La victimización del género femenino, es un sesgo que obstaculiza una solución de igualdad entre géner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Calibri"/>
              </a:rPr>
              <a:t>Prospeccione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714240" y="1714680"/>
            <a:ext cx="7500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Nuevo prisma para analizar el femicidio y los problemas de géner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Un largo camino queda para redefinir el concepto de femicidio de modo que la nueva definición disminuya la cantidad de femicidios, pero contribuya a encontrar las verdaderas causas de es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Calibri"/>
              </a:rPr>
              <a:t>Pregunta de Investigación</a:t>
            </a: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7859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  <a:ea typeface="Calibri"/>
              </a:rPr>
              <a:t>¿Cuáles son los grados de responsabilidad individual y colectiva en el fenómeno del Femicidio en el Chile del siglo XXI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Calibri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00040" y="142884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OBJETIVOS GENER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Calibri"/>
              </a:rPr>
              <a:t>Caracterizar el rol de HOMBRE y de MUJER susceptible de Femicidi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OBJJETIVOS ESPECIFIC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Calibri"/>
              </a:rPr>
              <a:t>Elaboración de un perfil de Hombre tendiente al Femicid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Calibri"/>
              </a:rPr>
              <a:t>Elaboración de un perfil de Mujer susceptible de Femicidi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Calibri"/>
              </a:rPr>
              <a:t>Caracterización de los Tipos de Femicidi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4240" y="307152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DESVENTAJA DE LA MUJER EN LA SOCIEDAD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4240" y="12855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0253f"/>
                </a:solidFill>
                <a:latin typeface="Calibri"/>
              </a:rPr>
              <a:t>Supuesto fundamental de las investigaciones previa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Calibri"/>
              </a:rPr>
              <a:t>Consideraciones Metodológica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Cualitativ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Explicativ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Explorator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No experiment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91360" indent="-178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91360" indent="-178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42920" y="1357200"/>
            <a:ext cx="88581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Calibri"/>
              </a:rPr>
              <a:t>Revisión bitácora del Femicidio en Chile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: Construida en base al SERNAM Y los Mass Med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Revisión bibliográfica y recolección de Teorí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Los mecanismos de análisis de estos dat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a. “</a:t>
            </a:r>
            <a:r>
              <a:rPr b="1" i="1" lang="es-CL" sz="2800" spc="-1" strike="noStrike" u="sng">
                <a:solidFill>
                  <a:srgbClr val="000000"/>
                </a:solidFill>
                <a:uFillTx/>
                <a:latin typeface="Calibri"/>
              </a:rPr>
              <a:t>Análisis de discurso crítico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” de </a:t>
            </a: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Norman Fairclough 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(análisis semántico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b. Construcción del </a:t>
            </a:r>
            <a:r>
              <a:rPr b="1" i="1" lang="es-CL" sz="2800" spc="-1" strike="noStrike" u="sng">
                <a:solidFill>
                  <a:srgbClr val="000000"/>
                </a:solidFill>
                <a:uFillTx/>
                <a:latin typeface="Calibri"/>
              </a:rPr>
              <a:t>cuadro Ideológico 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de </a:t>
            </a: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Teun Van Dijk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c. Universidad de Glasgow: </a:t>
            </a:r>
            <a:r>
              <a:rPr b="1" i="1" lang="es-CL" sz="2800" spc="-1" strike="noStrike" u="sng">
                <a:solidFill>
                  <a:srgbClr val="000000"/>
                </a:solidFill>
                <a:uFillTx/>
                <a:latin typeface="Calibri"/>
              </a:rPr>
              <a:t>Glasgow Media Gro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Calibri"/>
              </a:rPr>
              <a:t>Consideraciones Metodológica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7120" y="1357200"/>
            <a:ext cx="84297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LA DESVALORIZACIÓN DE LA EXPRESIVIDAD FEMENINA FRENTE A LA INSTITUCIONALIDAD MASCULINA SE ENCUENTRA EXTENDIDA EN TODA LA CULTURA Y LA ESPERANZA DEL FUNCIONALISMO ES QUE PUEDA HABER UNA REVALORACIÓN SISTÉMICA DE LA EXPRESIVIDAD FEMENINA”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FUENTE: GUZMÁN, M. ET ALTERI. (2007) “TEORÍA DE GÉNERO Y DEMARCACIÓN CIENTÍFICA”.  </a:t>
            </a:r>
            <a:br>
              <a:rPr sz="1600"/>
            </a:br>
            <a:br>
              <a:rPr sz="32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Calibri"/>
              </a:rPr>
              <a:t>Poderío masculi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- Surgimiento de los caracteres del género masculin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- Ilusiones de omnipotencia: frustra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- Materialización en otredad y consecuente culpa (suicidio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Calibri"/>
              </a:rPr>
              <a:t>Ideas Centr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Calibri"/>
              </a:rPr>
              <a:t>Ideas Centr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Calibri"/>
              </a:rPr>
              <a:t>Rol Femeni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Subordinación del género femenino al masculino a partir del aprendizaje derivado de la socialización primaria de la crianz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Cierta preeminencia del rol femenino en el desarrollo de los individuos, que luego hacen cultura y, por extensión, susceptibles de femicidi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7:20:47Z</dcterms:created>
  <dc:creator>alvaro</dc:creator>
  <dc:description/>
  <dc:language>en-US</dc:language>
  <cp:lastModifiedBy>alvaro</cp:lastModifiedBy>
  <dcterms:modified xsi:type="dcterms:W3CDTF">2008-11-17T14:15:53Z</dcterms:modified>
  <cp:revision>49</cp:revision>
  <dc:subject/>
  <dc:title>Niveles de responsabilidad individual y colectiva en el fenómeno del Femicidio en el Chile del siglo XXI</dc:title>
</cp:coreProperties>
</file>