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CB7-203C-4AA1-AC9A-C46F641D265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26AB-7AC1-4800-9924-88236FFB119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C880-6A43-4618-B61E-8BE95E5F43D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318-8B0D-4C33-A396-1325A2689D9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DCC6-6223-42E8-ABFE-5D1AC5361CF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91A5-7ECD-4CCA-B4AC-83CD3B2166F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7B4E-CCD1-49D0-B003-83890EAAC06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900-1C59-4237-9BE2-3BA5A0643B8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958-A3EE-4E6F-89FC-67F6EBADB7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FB40-FE3A-45C4-A56E-910DDBBBCD0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D71-AABF-42DB-B288-5E2550B4589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1500-D043-4FB9-9DA8-8C284A9DB33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01A-D45E-40C0-862A-D5CDB06F4F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971-3BB2-4EF6-9E5F-50532736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D1E-EF4D-4373-87BC-F77F9CAD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56D-CB20-4052-8813-DFD621C7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ABF-E37B-494B-87F1-B5643000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218-981C-44AF-B64F-E4C033E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C2B-A2D9-4C83-879D-CBD0F3C7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C54-9579-405C-B2E5-6ACF26AE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393-3D4D-4183-A92E-1F488E54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0CE-2BDC-487C-A5A4-A8A50E6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71F-1AEB-4286-976E-E8343F0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535-8B35-4576-90A2-16BB95B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197-261F-48CE-A2A5-1C6EDDF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E1DE-DF9D-47A9-8DF9-F6EE3552DA4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Niveles</a:t>
            </a: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 de responsabilidad individual y colectiva en el fenómeno del Femicidio en el Chile del siglo XX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Tomás Ley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Amaranta Vandeper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0253f"/>
                </a:solidFill>
                <a:latin typeface="Calibri"/>
              </a:rPr>
              <a:t>Álvaro Viver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3071880" y="6215040"/>
            <a:ext cx="29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Teoría sociológica y estructura social de Ch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Primavera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alvaro\Desktop\logo.jpg"/>
          <p:cNvPicPr/>
          <p:nvPr/>
        </p:nvPicPr>
        <p:blipFill>
          <a:blip r:embed="rId1"/>
          <a:stretch/>
        </p:blipFill>
        <p:spPr>
          <a:xfrm>
            <a:off x="420840" y="353880"/>
            <a:ext cx="2657160" cy="938520"/>
          </a:xfrm>
          <a:prstGeom prst="rect">
            <a:avLst/>
          </a:prstGeom>
          <a:ln w="0">
            <a:noFill/>
          </a:ln>
        </p:spPr>
      </p:pic>
      <p:sp>
        <p:nvSpPr>
          <p:cNvPr id="52" name="8 CuadroTexto"/>
          <p:cNvSpPr/>
          <p:nvPr/>
        </p:nvSpPr>
        <p:spPr>
          <a:xfrm>
            <a:off x="2928960" y="500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Universidad de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Instituto de Asunt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cuela de Gobierno y Gestión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atrones cultu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oncepto de Moral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“(…)TODO DEPENDE DEL MEDIO CULTURAL EN EL QUE LOS SUJETOS ESTEN INSERTOS Y DE SU ADAPTACIÓN AL MISM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ENTE: Farmer, W (1974). “Cultural development and the mankind”  Ed. Egreccia. trad. Cristiano,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sujetos crean cultura, y por ende, patrones cultura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os patrones comunes son una adaptación mayor a patrones arcaicos y presencia de  neurosis en los agre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victimización del género femenino, es un sesgo que obstaculiza una solución de igualdad entre géner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ospeccion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vo prisma para analizar el femicidio y los problemas de gén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 largo camino queda para redefinir el concepto de femicidio de modo que la nueva definición disminuya la cantidad de femicidios, pero contribuya a encontrar las verdaderas causas de e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Pregunta de Investigación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Calibri"/>
              </a:rPr>
              <a:t>¿Cuáles son los grados de responsabilidad individual y colectiva en el fenómeno del Femicidio en el Chile del siglo XX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4288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ETIVOS GE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r el rol de HOMBRE y de MUJER susceptible de Femicidi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OBJJETIVOS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Hombre tendiente al Femici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Elaboración de un perfil de Mujer susceptible de Femicid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Calibri"/>
              </a:rPr>
              <a:t>Caracterización de los Tipos de Femicid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DESVENTAJA DE LA MUJER EN LA SOCIEDA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0253f"/>
                </a:solidFill>
                <a:latin typeface="Calibri"/>
              </a:rPr>
              <a:t>Supuesto fundamental de las investigaciones previ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ualitat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ic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lorato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o experi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91360" indent="-178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1357200"/>
            <a:ext cx="885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Revisión bitácora del Femicidio en Chile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: Construida en base al SERNAM Y los Mass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isión bibliográfica y recolección de Teo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os mecanismos de análisis de estos da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. “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Análisis de discurso crítico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” 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Norman Fairclough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(análisis semántic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b. Construcción del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cuadro Ideológico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Teun Van Dijk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. Universidad de Glasgow: </a:t>
            </a:r>
            <a:r>
              <a:rPr b="1" i="1" lang="es-CL" sz="2800" spc="-1" strike="noStrike" u="sng">
                <a:solidFill>
                  <a:srgbClr val="000000"/>
                </a:solidFill>
                <a:uFillTx/>
                <a:latin typeface="Calibri"/>
              </a:rPr>
              <a:t>Glasgow Media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Consideraciones Metodológic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LA DESVALORIZACIÓN DE LA EXPRESIVIDAD FEMENINA FRENTE A LA INSTITUCIONALIDAD MASCULINA SE ENCUENTRA EXTENDIDA EN TODA LA CULTURA Y LA ESPERANZA DEL FUNCIONALISMO ES QUE PUEDA HABER UNA REVALORACIÓN SISTÉMICA DE LA EXPRESIVIDAD FEMENINA”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UENTE: GUZMÁN, M. ET ALTERI. (2007) “TEORÍA DE GÉNERO Y DEMARCACIÓN CIENTÍFICA”.  </a:t>
            </a:r>
            <a:br>
              <a:rPr sz="16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Poderío mascul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Surgimiento de los caracteres del género masculi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Ilusiones de omnipotencia: fru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aterialización en otredad y consecuente culpa (suicidi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Calibri"/>
              </a:rPr>
              <a:t>Ideas Cent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Rol Femen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ubordinación del género femenino al masculino a partir del aprendizaje derivado de la socialización primaria de la cr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erta preeminencia del rol femenino en el desarrollo de los individuos, que luego hacen cultura y, por extensión, susceptibles de femicid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47Z</dcterms:created>
  <dc:creator>alvaro</dc:creator>
  <dc:description/>
  <dc:language>en-US</dc:language>
  <cp:lastModifiedBy>alvaro</cp:lastModifiedBy>
  <dcterms:modified xsi:type="dcterms:W3CDTF">2008-11-17T14:15:53Z</dcterms:modified>
  <cp:revision>49</cp:revision>
  <dc:subject/>
  <dc:title>Niveles de responsabilidad individual y colectiva en el fenómeno del Femicidio en el Chile del siglo XXI</dc:title>
</cp:coreProperties>
</file>