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997D-D86B-443B-A7F3-B4915D8399A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BFE4-459D-4EFD-B42F-4B0E899BDBA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AA4B-E181-441E-B4A5-45BE4FA96B3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9EE1-17A4-4AE1-AD9E-6D9233A1DB3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686F-D2DD-498A-A7A7-41A778A957E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5B67-A124-4F97-B6F2-1B2A7DD23C7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2F02-4E71-4126-9E65-64131A67E74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8ED9-5A1F-4B25-963D-15B56B050D8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30E9-F9A8-4E18-8ECD-2EC3F1FB4C8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8C67-2EAA-49C6-B583-56F0E6888D4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EBE3-D756-4C64-A718-72D5639FE93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E3FC-C5F5-4A4E-A87D-C11A830DF9E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5190-659B-4390-99C0-788C1CEE313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D91-CBD5-4EAD-A7A4-707D9099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D5E-9CB6-4C39-85EB-659C1730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89D-1B2D-45EC-B86A-20A677A0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7C6-EAD9-4C04-9E61-2FC42B6E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80A-3D3C-495E-B05E-DB288A72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626-6BDD-4393-B6DF-F972A067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809-62E0-4349-A56A-78EE6D6A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A90-B00E-4922-9F42-8DCC0100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25F-0DB1-4B19-B3D0-882DF245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070-53D9-4A08-A4F9-E04688C5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DA90-523D-48D1-B59D-EB4C4B8D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D7E-9A20-481B-883E-8B34F26B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C7BF-247A-4DAE-8A23-8917347A211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Niveles</a:t>
            </a: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 de responsabilidad individual y colectiva en el fenómeno del Femicidio en el Chile del siglo XX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4642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0253f"/>
                </a:solidFill>
                <a:latin typeface="Calibri"/>
              </a:rPr>
              <a:t>Tomás Ley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0253f"/>
                </a:solidFill>
                <a:latin typeface="Calibri"/>
              </a:rPr>
              <a:t>Amaranta Vandeper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0253f"/>
                </a:solidFill>
                <a:latin typeface="Calibri"/>
              </a:rPr>
              <a:t>Álvaro Viver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3071880" y="6215040"/>
            <a:ext cx="292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Teoría sociológica y estructura social de Ch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Primavera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:\Users\alvaro\Desktop\logo.jpg"/>
          <p:cNvPicPr/>
          <p:nvPr/>
        </p:nvPicPr>
        <p:blipFill>
          <a:blip r:embed="rId1"/>
          <a:stretch/>
        </p:blipFill>
        <p:spPr>
          <a:xfrm>
            <a:off x="420840" y="353880"/>
            <a:ext cx="2657160" cy="938520"/>
          </a:xfrm>
          <a:prstGeom prst="rect">
            <a:avLst/>
          </a:prstGeom>
          <a:ln w="0">
            <a:noFill/>
          </a:ln>
        </p:spPr>
      </p:pic>
      <p:sp>
        <p:nvSpPr>
          <p:cNvPr id="52" name="8 CuadroTexto"/>
          <p:cNvSpPr/>
          <p:nvPr/>
        </p:nvSpPr>
        <p:spPr>
          <a:xfrm>
            <a:off x="2928960" y="500040"/>
            <a:ext cx="278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Universidad de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Instituto de Asuntos Pú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scuela de Gobierno y Gestión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6840" y="1599840"/>
            <a:ext cx="8258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Patrones cultu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Concepto de Moral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“(…)TODO DEPENDE DEL MEDIO CULTURAL EN EL QUE LOS SUJETOS ESTEN INSERTOS Y DE SU ADAPTACIÓN AL MISM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FUENTE: Farmer, W (1974). “Cultural development and the mankind”  Ed. Egreccia. trad. Cristiano, 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Ideas Cent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os sujetos crean cultura, y por ende, patrones cultura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os patrones comunes son una adaptación mayor a patrones arcaicos y presencia de  neurosis en los agres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a victimización del género femenino, es un sesgo que obstaculiza una solución de igualdad entre géner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Prospeccion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714240" y="1714680"/>
            <a:ext cx="7500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Nuevo prisma para analizar el femicidio y los problemas de gén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Un largo camino queda para redefinir el concepto de femicidio de modo que la nueva definición disminuya la cantidad de femicidios, pero contribuya a encontrar las verdaderas causas de e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Pregunta de Investigación</a:t>
            </a: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7859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Calibri"/>
              </a:rPr>
              <a:t>¿Cuáles son los grados de responsabilidad individual y colectiva en el fenómeno del Femicidio en el Chile del siglo XX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0040" y="14288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OBJETIVOS GENE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Caracterizar el rol de HOMBRE y de MUJER susceptible de Femicidi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OBJJETIVOS ESPECIF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Elaboración de un perfil de Hombre tendiente al Femicid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Elaboración de un perfil de Mujer susceptible de Femicidi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Caracterización de los Tipos de Femicidi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DESVENTAJA DE LA MUJER EN LA SOCIEDAD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4240" y="1285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0253f"/>
                </a:solidFill>
                <a:latin typeface="Calibri"/>
              </a:rPr>
              <a:t>Supuesto fundamental de las investigaciones previ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Consideraciones Metodológic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Cualitati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xplicativ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xplorato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No experimen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91360" indent="-178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91360" indent="-178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2920" y="1357200"/>
            <a:ext cx="885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Revisión bitácora del Femicidio en Chile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: Construida en base al SERNAM Y los Mass Med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Revisión bibliográfica y recolección de Teorí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Los mecanismos de análisis de estos dat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. “</a:t>
            </a: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Calibri"/>
              </a:rPr>
              <a:t>Análisis de discurso crítico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” de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Norman Fairclough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(análisis semántico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b. Construcción del </a:t>
            </a: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Calibri"/>
              </a:rPr>
              <a:t>cuadro Ideológico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Teun Van Dijk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. Universidad de Glasgow: </a:t>
            </a: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Calibri"/>
              </a:rPr>
              <a:t>Glasgow Media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Consideraciones Metodológic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135720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A DESVALORIZACIÓN DE LA EXPRESIVIDAD FEMENINA FRENTE A LA INSTITUCIONALIDAD MASCULINA SE ENCUENTRA EXTENDIDA EN TODA LA CULTURA Y LA ESPERANZA DEL FUNCIONALISMO ES QUE PUEDA HABER UNA REVALORACIÓN SISTÉMICA DE LA EXPRESIVIDAD FEMENINA”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UENTE: GUZMÁN, M. ET ALTERI. (2007) “TEORÍA DE GÉNERO Y DEMARCACIÓN CIENTÍFICA”.  </a:t>
            </a:r>
            <a:br>
              <a:rPr sz="16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Poderío mascul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Surgimiento de los caracteres del género masculi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Ilusiones de omnipotencia: frustr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Materialización en otredad y consecuente culpa (suicidio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Ideas Cent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Ideas Cent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Rol Femen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ubordinación del género femenino al masculino a partir del aprendizaje derivado de la socialización primaria de la crian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ierta preeminencia del rol femenino en el desarrollo de los individuos, que luego hacen cultura y, por extensión, susceptibles de femicidi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7:20:47Z</dcterms:created>
  <dc:creator>alvaro</dc:creator>
  <dc:description/>
  <dc:language>en-US</dc:language>
  <cp:lastModifiedBy>alvaro</cp:lastModifiedBy>
  <dcterms:modified xsi:type="dcterms:W3CDTF">2008-11-17T14:15:53Z</dcterms:modified>
  <cp:revision>49</cp:revision>
  <dc:subject/>
  <dc:title>Niveles de responsabilidad individual y colectiva en el fenómeno del Femicidio en el Chile del siglo XXI</dc:title>
</cp:coreProperties>
</file>