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F8AB-FBFC-4AAD-A1AC-7E418AF58A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353C-8F29-4EB2-8B4A-F185E450DFE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379-E74E-493E-8ED2-7634925A67B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92D-BFAE-45FD-A4B3-E79813896E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9405-03B8-4694-BC28-3A0238A354C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93E-5C02-4862-96D9-EF563B2407C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15D-65B0-44AD-8433-37368B5DA77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AEC3-8D16-424F-9D06-EA628D40A9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7A2E-6A8A-4A5F-809C-17F16ACF8C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CDF-CEB3-473C-9BBE-F162AF3251E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800A-70EE-46E0-9ADE-BA67C750F2F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AB8-F780-404E-9692-CD7D19CAE7F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45ED-88AE-4B99-877C-9E65A9E9BCE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FFF-2A73-4884-A7E3-C33562E6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236-9679-4368-AA2F-F0BC34B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C25-2AE5-4374-B21D-BB9C844A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467-38CC-42B3-B5BF-C7EC89F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45A-9EAF-4E64-9B5A-0DDCA08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B24-C489-48BE-A4D2-59C60CC5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19D-5B37-431C-95FC-776796E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0A3-B48C-4497-A91E-BEE00389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85F-D29B-4D96-ABE0-00C79090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86E-8B65-4E5B-8A5B-2EBA1930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F27-DC19-40BA-9011-0F205EF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20D-11F6-45DF-B51B-AB67834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54CA-861F-466F-B32C-A82E28C9377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Niveles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 de responsabilidad individual y colectiva en el fenómeno del Femicidio en el Chile del siglo XX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Tomás Ley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Amaranta Vandeper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Álvaro Viver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071880" y="6215040"/>
            <a:ext cx="29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Teoría sociológica y estructura social de Ch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Primavera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alvaro\Desktop\logo.jpg"/>
          <p:cNvPicPr/>
          <p:nvPr/>
        </p:nvPicPr>
        <p:blipFill>
          <a:blip r:embed="rId1"/>
          <a:stretch/>
        </p:blipFill>
        <p:spPr>
          <a:xfrm>
            <a:off x="420840" y="353880"/>
            <a:ext cx="2657160" cy="938520"/>
          </a:xfrm>
          <a:prstGeom prst="rect">
            <a:avLst/>
          </a:prstGeom>
          <a:ln w="0">
            <a:noFill/>
          </a:ln>
        </p:spPr>
      </p:pic>
      <p:sp>
        <p:nvSpPr>
          <p:cNvPr id="52" name="8 CuadroTexto"/>
          <p:cNvSpPr/>
          <p:nvPr/>
        </p:nvSpPr>
        <p:spPr>
          <a:xfrm>
            <a:off x="2928960" y="500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Instituto de Asunt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cuela de Gobierno y Gestión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trones cultu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oncepto de Moral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“(…)TODO DEPENDE DEL MEDIO CULTURAL EN EL QUE LOS SUJETOS ESTEN INSERTOS Y DE SU ADAPTACIÓN AL MISM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ENTE: Farmer, W (1974). “Cultural development and the mankind”  Ed. Egreccia. trad. Cristiano,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sujetos crean cultura, y por ende, patrones cultur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patrones comunes son una adaptación mayor a patrones arcaicos y presencia de  neurosis en los agre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victimización del género femenino, es un sesgo que obstaculiza una solución de igualdad entre gén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ospeccion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vo prisma para analizar el femicidio y los problemas de gé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 largo camino queda para redefinir el concepto de femicidio de modo que la nueva definición disminuya la cantidad de femicidios, pero contribuya a encontrar las verdaderas causas de e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egunta de Investigación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Calibri"/>
              </a:rPr>
              <a:t>¿Cuáles son los grados de responsabilidad individual y colectiva en el fenómeno del Femicidio en el Chile del siglo XX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4288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ETIVOS GE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r el rol de HOMBRE y de MUJER susceptible de Femicidi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JETIVOS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Hombre tendiente al Femici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Mujer susceptible de Femicid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ción de los Tipos de Femicid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ESVENTAJA DE LA MUJER EN LA SOCIE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0253f"/>
                </a:solidFill>
                <a:latin typeface="Calibri"/>
              </a:rPr>
              <a:t>Supuesto fundamental de las investigaciones prev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ualitat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ic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orato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o experi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135720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Revisión bitácora del Femicidio en Chile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Construida en base al SERNAM Y los Mass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isión bibliográfica y recolección de Teo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os mecanismos de análisis de estos da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. “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Análisis de discurso crítico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” 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Norman Fairclough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análisis semántic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b. Construcción del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cuadro Ideológico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Teun Van Dij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. Universidad de Glasgow: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Glasgow Media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DESVALORIZACIÓN DE LA EXPRESIVIDAD FEMENINA FRENTE A LA INSTITUCIONALIDAD MASCULINA SE ENCUENTRA EXTENDIDA EN TODA LA CULTURA Y LA ESPERANZA DEL FUNCIONALISMO ES QUE PUEDA HABER UNA REVALORACIÓN SISTÉMICA DE LA EXPRESIVIDAD FEMENINA”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UENTE: GUZMÁN, M. ET ALTERI. (2007) “TEORÍA DE GÉNERO Y DEMARCACIÓN CIENTÍFICA”.  </a:t>
            </a:r>
            <a:br>
              <a:rPr sz="16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oderío mascul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Surgimiento de los caracteres del género masculi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Ilusiones de omnipotencia: fru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aterialización en otredad y consecuente culpa (suicidi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Rol Femen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ubordinación del género femenino al masculino a partir del aprendizaje derivado de la socialización primaria de la cr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erta preeminencia del rol femenino en el desarrollo de los individuos, que luego hacen cultura y, por extensión, susceptibles de femicid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47Z</dcterms:created>
  <dc:creator>alvaro</dc:creator>
  <dc:description/>
  <dc:language>en-US</dc:language>
  <cp:lastModifiedBy>alvaro</cp:lastModifiedBy>
  <dcterms:modified xsi:type="dcterms:W3CDTF">2008-11-17T14:15:53Z</dcterms:modified>
  <cp:revision>49</cp:revision>
  <dc:subject/>
  <dc:title>Niveles de responsabilidad individual y colectiva en el fenómeno del Femicidio en el Chile del siglo XXI</dc:title>
</cp:coreProperties>
</file>