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B57-61E7-4AEB-B253-0594752D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569-9028-4FBE-B056-E00D81D2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205-6EE3-49A6-B9FD-A9CD74158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63D-56F3-41B2-891F-29FB5B6F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540-A504-4E86-9A74-7EBF0EB8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310-EEB1-4F30-889E-29E306B6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E8B-B325-4D3F-9A5D-AFD0268A1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A27-AF23-489C-B7A7-EEB5841A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7D63-AE3F-4FF4-A78B-CED7662B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99F-0591-4FA8-9EA4-F18CAEB9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4DD1-4D68-4110-BB93-1BED0F6D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229-0C47-4335-ACA3-E9891A05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2185-17DD-4C05-9366-5EB2E1C95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conomía de Transición……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situación cambia a partir de 17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crea el Virreynato de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reformas borbónicas de 17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reconocen  para comercio Trece puertos españoles y 22 en Amér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tre ellos Buenos Aires y Valparaí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sí Buenos Aires está más cercano a Potosí que Lima, esto hace que se desplace el eje comercial del Alto Perú a Buenos Aires y este puerto se convierta en la salida natural del interior Argent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genera así una disputa de poder Capital- Provincias que durará 80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otro lado la penetración inglesa y portuguesa en Brasil tras el descubrimiento de minerales en el sur, también obliga a poblar y fortalecer las ciudades del Río de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período de la Conquista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onquista comprende el período entre 1541 y 1598. año de la insurrección indígena que destruyó las ciudades fundadas por los españoles al sur del  Bío-Bío. Emprendida por Pedro de valdivia con 150 sold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 esta forma durante La Colonia los límites de Chile fueron desde Copiapó por el norte hasta Concepción por el S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Fueron destruidas Imperial, Villarrica, Angol, Valdivia, Osorno y Cañe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principal actividad económica fueron los lavaderos de oro ubicados cerca de Valparaíso (Marga Marga), Concepción (Quilacoya) y otros próximos a Imperial, Villarrica y Valdiv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os primeros años de la conquista (hasta 1560) se extraen 2.000 kilos de oro al año y posteriormente la producción disminuye a 500 kilos anu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os lavaderos trabajaron fundamentalmente indígenas bajo el sistema de encomien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a medida que se agotaba el oro surgió la actividad agropecuaria: vino, charqui, sebo, cordobanes, manzanas y made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tino de estos productos eran: Lima y Potos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 partir del desastre de Curalaba, los españoles crean un ejército regular alrededor de dos mil hombres financiados desde Lima  (real situad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 esta forma y sin evitar permanentes enfrentamientos con los araucanos, Chile sesenta años de su descubrimiento, puede iniciar el período Colon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La Colonia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instituciones Coloniales fue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asa de Contratación  que regulaba el comercio maríti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Consejo de Indias: regulaba asuntos eclesiásticos, civiles, militares y comerci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real Audiencia que era el más alto Tribunal  de Justi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Autoridades Coloniales era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Virre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Capitán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Gobernadores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orregi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Formación de la Ra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pañoles que llegaron a Chile fueron castellanos, extremeños, vascos y andaluces. (rama pater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Indígenas que fueron rápidamente absorbidos por la nueva cultura picunches y huilliches. (rama mater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La colonia  en Chile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569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economía chilena se desarrolló en dos líneas comunes a todas las coloni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exportación de produ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abastecimiento interno y al igual que en el caso argentino  a Potos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urante el siglo XVII se exportó oro, plata  y productos agropecuarios como trigo,  cueros, sebo, charqui éstos últimos al Per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comercio con Lima estaba en manos de mercaderes lime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 Lima se importaba azúcar, cacao, tabaco, y manufacturas españolas y europeas; papel, géneros, muebles, armas, cerrajería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urante la Colonia y como resultado de la disminución de la explotación minera, de la disminución de las encomiendas y de la profesionalización de la guerra, se desarrolla la explotación agropecuaria, en la cual la unidad económica que se  consolida es la hacien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hile está concentrado en el valle Central que se empieza a poblar no por nuevas ciudades sino por las haciendas, propiedad de quienes recibieron las mercedes de tierras y se convirtieron en territorios que se autoabastecían de lo básico y podían comerciar sólo si se encontraban cercanas a las ciudades o a los puertos permitid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censo de la población indígena hizo que se les permitiera vivir en reducciones y en 1683 se acaba la esclavitu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Colonia en Chile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 partir de 1739 se abre la ruta del cabo de Hornos y se abre el comercio de cada colonia con España, favoreciendo a Valparaíso como puerto principal en 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uego reforma de 1778 que permite nuevos puertos en Chile, Coquimbo Talcahuano y también España estimula el comer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isminuyeron algunos impuestos, bajaron los fletes y los seguros. Esto aumento desmesuradamente el comercio y produjo una baja de precios generalizada que llevó a la quiebra a muchos comerci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último se autoriza el comercio directo con puertos extranjeros ( no español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ta política tenía como objetivo estimular la industria española y no favorecer a las colon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ste siglo se desarrolla en Chile la producción de trigo en particular en el valle Central y Concepción por su cercanía a los puer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demás se exportó madera (alerce) de Valdivia y Chiloé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a ganadería adquirió relativa importancia la exportación de charqui, sebo y ques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minería era una actividad dispersa, continuó la exportación de oro y plata, yacimientos en Copiapó, Huasco, Alhué y San José de Maip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Colonia en Chile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industria  estaba destinada al consumo local, textil para vestuario, artesanía o cobre para utensilios de casa, cuero para calzado y artículos para montar, sebo para luz herramientas para la faena agrícola con hierro. Además debía competir con las otras colonias que producían mas o menos lo mism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Obras Públicas se destaca el camino a Valparaíso, El Palacio de la  Moneda (casa de gobierno), la Catedral, los tajamares del Mapocho y el Puente de Cal y Ca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la población se produce el descenso de la población indígena que lleva a eliminar la Encomienda en 1789 y el aumento de la población mesti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l término de la Colonia la población estimada era de 800.000 personas, Santiago tenía 30.0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dicadas básicamente a la agricultura, siendo reemplazado el trabajo semi- esclavo de los indios por un trabajo pobremente remunerado a peones e inquili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 fines de la Colonia las medidas económicas liberadoras obligaron también a iniciar la construcción de un Estado con capacidad de realizar ciertas funciones económicas y por lo tanto de recibir ingresos y administra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Estado ( a cargo de un Gobernador), se buscó tres formas de ingr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1.- El Monopolio o Estanco de productos: tabaco, azogue y pólv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2.- Impuestos que fueron elevados, alcába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3.- Prestamos o donativos solicitados a los adinerado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La Colonia e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tos recursos administrados por una Tesorería General tenían como destino: la mantención del Ejército (40) y administración civil e inversión (60%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dministrativamente se crean las Intendencias, dos Santiago y Concepción y tres Instituciones nuev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asa de Moneda (1750) encargada de acuñar monedas para e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Real Tribunal del Consulado, órgano en que estaban representados los comerciantes una especie de cámara de Comercio Ac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Real Tribunal de Minería encargado de dictar justicia en el sector y también propender al fomento económico de la minerí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5:17:42Z</dcterms:created>
  <dc:creator>.</dc:creator>
  <dc:description/>
  <dc:language>en-US</dc:language>
  <cp:lastModifiedBy>.</cp:lastModifiedBy>
  <dcterms:modified xsi:type="dcterms:W3CDTF">2009-08-17T15:20:41Z</dcterms:modified>
  <cp:revision>1</cp:revision>
  <dc:subject/>
  <dc:title>Economía de Transición……Argentina</dc:title>
</cp:coreProperties>
</file>