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1A2-8CFB-4788-BF3C-D0CB7ED3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08A-9013-468F-AD06-D015BB80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C9B-D0B3-474C-8F5A-CF807AC6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492-9F4B-4925-9394-B9C26BF6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750-C044-4BF2-923C-9E0610A2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AEF-E4EA-4D89-8928-F38D5F26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1FD-C27F-4300-B15B-6515D378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FFD-0747-4AF3-BACD-E07B864F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31B-4CB6-4385-9964-82EC0C7B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F72-80E2-4E5E-8497-0523807B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756-F1C4-487B-BC0E-647DEB50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A56-5835-47D4-BA21-EDA2D79B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7111-D862-4531-9CA1-71AF420FF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61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al modelo neolib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gotamiento del modelo ISI coincide con una crisis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político Golpe militar, término de vigencia Constitución del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, crisis terminal modelo ISI, nuevo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rga preparación para el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venio UC – Chic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quilibrios económicos básicos no resue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iempos de proyectos nuevos cada seis años y excluy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bilidad institucional para canalizar incorporación de sectores medios y b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internacional de guerra f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sudamericano de golpes milit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volución cub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hay densidad nac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hile no escapa a realidad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modelo neo-liberal implementado,  tuvo dos  f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primera muy ortodoxa de 1973 a 198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segunda con mayores elementos de pragmatismo 1982 a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os aspectos básicos del modelo fue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Del estado empresario al estado subsid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iminación de los controles de pre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 del comercio exterior en particular import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del mercado financiero, tasa de interés, actores y nor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ducción del sector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Privatización de empresas y devolución de empresas y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forma tributaria, reducción de impuestos dire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stricción de libertad de as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el control de la inflación se basa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Una política monetaria restri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l tip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l déficit fiscal, eliminado a 197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inflación cercana al 700% anual del año 73, se reduce al 38% en 1978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ijación del tipo de cambio llevó la inflación a 9.5% en 1981 por un corto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se sostiene el cambio congelado y se debe devaluar y la inflación vuelve a elevarse a tasas del 20% anual, reapareciendo el déficit fi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se produce una baja de la inflación menor al esperado por las autoridades a un enorme costo de empleo y actividad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vatización de la banca, en 1973 estaba estat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autoriza la creación de sociedades financieras no sujetas al control de la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libera la tasa de interés y normas sobre control del créd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resultado fue un aumento de las tasas de interés  nacionales muy por sobre la internacional en ese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aumentaron los plazos de los créditos int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tasa de inversión fue menor a la histórica y lo mismo el aho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umento de la deuda externa, en buena parte privada 73%, los créditos relacionados, provocaron la crisis financiera del 1981 y el fin de la primer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total de im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ja de aranceles del 220% en 1973  al 10 %  en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érmino de cuotas y depósitos prev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 compra de div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mo resultado se tuvo un aumento al doble de las importaciones con un creciente aumento de los productos de consumo como calzado y cueros, alimentos, electrodomésticos y automóviles, textiles y un estancamiento en los bienes de capital un 20% superiores en 1981 respecto a 19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tro efecto importante fue que el 20% de ingresos más altos elevó su participación en el consumo del 44% al 51% y el 20% más pobre lo disminuyó del 7,6 al 5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participación de la industria en el PIB disminuyó de 26% en 1970 a 20% en 1981 y también disminuye la ocupación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sultados del perío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IB crece a una tasa promedio d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crecen a una tasa promedio anual  de 13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desempleo promedio  16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reales 1970 =100 en 1981 75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promedio anual  138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Educación disminuye  8,5% entre 1970 y 19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Salud disminuye en igual período en 3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lación entre el 20% más pobre y 20% más rico aumenta de 12,6 veces en 1972 a 19,6 en 19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termina el proceso de reforma agraria el 33% de las tierras es devuelta a sus antiguos dueños  y el 20%  es vendida por 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fines del período se implementa un sistema privado de pen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uda externa equivale a cuatro veces las exportaciones an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nda fase del modelo, aprendiendo de la cri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el ámbito institucional se inicia la reconstrucción  de los movimientos sociales: sindicatos, partidos polí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 los ajust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ambiaria  de devaluaciones periód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el sector agrí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bsidi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gulación del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statización de la deuda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olítica comer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arancel promedio a 35% en 1984 y  15% en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arancel máximo de 3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trigo, azúcar y ace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integro simplificad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ortalecimiento de institucionalidad (creación de Pro-Ch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egul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negociación de la deuda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ímites a prestamos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onitoreo de a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bligación de provisionar créditos ma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interés libre es reemplazada por intervención del Banco Cen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ncipales resultados período 82 -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recimiento PIB 2,9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7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20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mpleo 19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1970= 100 en  1989=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lación 20/20  de  18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02:22Z</dcterms:created>
  <dc:creator>.</dc:creator>
  <dc:description/>
  <dc:language>en-US</dc:language>
  <cp:lastModifiedBy>.</cp:lastModifiedBy>
  <dcterms:modified xsi:type="dcterms:W3CDTF">2009-11-03T16:52:43Z</dcterms:modified>
  <cp:revision>9</cp:revision>
  <dc:subject/>
  <dc:title>Chile: al modelo neoliberal</dc:title>
</cp:coreProperties>
</file>