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9188-F697-4A32-815D-2495E6ADD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EC90-237B-4FE9-B0D2-8D9CBA10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FF79-D63F-4C98-9CE5-11E5F9B84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6672-ED6C-4637-947C-A402A7925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2E53-6558-43B1-8DFF-D4DA267F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1EF3-86B3-48AD-BB0F-F542F167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6235-17CA-43FF-BE1B-285F7ED4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D1C6-E173-4582-AD5E-7552789D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FC06-0BF2-4924-9144-A8BA1429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D931-A8E8-4DB5-87A6-45660CF9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C70E-E229-4847-857D-1BE7248C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CBC7-91D0-40E8-A8F7-6B87043E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4429-0201-41BD-8201-14ABB06BB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5610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hile: al modelo neolib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24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l agotamiento del modelo ISI coincide con una crisis institu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 lo político Golpe militar, término de vigencia Constitución del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 lo económico, crisis terminal modelo ISI, nuevo mode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arga preparación para el camb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nvenio UC – Chica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sequilibrios económicos básicos no resuel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Tiempos de proyectos nuevos cada seis años y excluy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bilidad institucional para canalizar incorporación de sectores medios y baj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ntexto internacional de guerra frí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ntexto sudamericano de golpes milit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a revolución cub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No hay densidad nacion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hile no escapa a realidad mund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73 - 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l modelo neo-liberal implementado,  tuvo dos  fas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La primera muy ortodoxa de 1973 a 198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La segunda con mayores elementos de pragmatismo 1982 a 198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Los aspectos básicos del modelo fuer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Del estado empresario al estado subsidia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liminación de los controles de prec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Apertura  del comercio exterior en particular importac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Liberalización del mercado financiero, tasa de interés, actores y norm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Reducción del sector públ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Privatización de empresas y devolución de empresas y tier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Reforma tributaria, reducción de impuestos direc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Sobre estas bases se asume la primera fa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Control de desequilibrios económicos, en particular la infl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Liberalización sistema financi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Apertura al comercio exteri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73 - 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obre estas bases se asume la primera f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ntrol de desequilibrios económicos, en particular la inf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iberalización sistema financi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pertura al comercio ex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stricción de libertad de asoci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n este período el control de la inflación se basa 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Una política monetaria restri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ntrol del tipo de cam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ducción del déficit fiscal, eliminado a 197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a inflación cercana al 700% anual del año 73, se reduce al 38% en 1978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Fijación del tipo de cambio llevó la inflación a 9.5% en 1981 por un corto perío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No se sostiene el cambio congelado y se debe devaluar y la inflación vuelve a elevarse a tasas del 20% anual, reapareciendo el déficit fis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n este período se produce una baja de la inflación menor al esperado por las autoridades a un enorme costo de empleo y actividad económ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73 - 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Liberalización sistema financie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rivatización de la banca, en 1973 estaba estatiz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e autoriza la creación de sociedades financieras no sujetas al control de la autor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e libera la tasa de interés y normas sobre control del crédi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l resultado fue un aumento de las tasas de interés  nacionales muy por sobre la internacional en ese perío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No aumentaron los plazos de los créditos inter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a tasa de inversión fue menor a la histórica y lo mismo el ahor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l aumento de la deuda externa, en buena parte privada 73%, los créditos relacionados, provocaron la crisis financiera del 1981 y el fin de la primera eta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73 - 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pertura al comercio exteri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iberalización total de import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Baja de aranceles del 220% en 1973  al 10 %  en 19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Término de cuotas y depósitos prev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iberaliza compra de divi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mo resultado se tuvo un aumento al doble de las importaciones con un creciente aumento de los productos de consumo como calzado y cueros, alimentos, electrodomésticos y automóviles, textiles y un estancamiento en los bienes de capital un 20% superiores en 1981 respecto a 197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Otro efecto importante fue que el 20% de ingresos más altos elevó su participación en el consumo del 44% al 51% y el 20% más pobre lo disminuyó del 7,6 al 5,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a participación de la industria en el PIB disminuyó de 26% en 1970 a 20% en 1981 y también disminuye la ocupación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73 - 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Principales resultados del perío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IB crece a una tasa promedio de 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xportaciones crecen a una tasa promedio anual  de 13,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Tasa de desempleo promedio  16,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alarios reales 1970 =100 en 1981 75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Inflación promedio anual  138,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Gasto social en Educación disminuye  8,5% entre 1970 y 198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Gasto social en Salud disminuye en igual período en 34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a relación entre el 20% más pobre y 20% más rico aumenta de 12,6 veces en 1972 a 19,6 en 198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e termina el proceso de reforma agraria el 33% de las tierras es devuelta a sus antiguos dueños  y el 20%  es vendida por el es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 fines del período se implementa un sistema privado de pen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uda externa equivale a cuatro veces las exportaciones anu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82 - 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egunda fase del modelo, aprendiendo de la cri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 el ámbito institucional se inicia la reconstrucción  de los movimientos sociales: sindicatos, partidos polít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 lo económico los ajustes s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olítica cambiaria  de devaluaciones periód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Bandas de precios en el sector agríco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ubsidio a exportaciones no tradi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gulación del sistema financi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statización de la deuda priv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ducción de la inf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Política comerci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umento del arancel promedio a 35% en 1984 y  15% en 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olítica de arancel máximo de 35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Bandas de precios en trigo, azúcar y acei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integro simplificado a exportaciones no tradi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Fortalecimiento de institucionalidad (creación de Pro-Ch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82 - 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Regulación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negociación de la deuda exte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ímites a prestamos relacion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Monitoreo de ac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Obligación de provisionar créditos ma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Tasa de interés libre es reemplazada por intervención del Banco Cent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rincipales resultados período 82 -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recimiento PIB 2,9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xportaciones 7,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Inflación 20,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sempleo 19,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alarios 1970= 100 en  1989= 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lación 20/20  de  18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4:02:22Z</dcterms:created>
  <dc:creator>.</dc:creator>
  <dc:description/>
  <dc:language>en-US</dc:language>
  <cp:lastModifiedBy>.</cp:lastModifiedBy>
  <dcterms:modified xsi:type="dcterms:W3CDTF">2009-11-03T16:52:43Z</dcterms:modified>
  <cp:revision>9</cp:revision>
  <dc:subject/>
  <dc:title>Chile: al modelo neoliberal</dc:title>
</cp:coreProperties>
</file>