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2F3-6F64-4A79-AD95-A6423572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C09-CEEA-4470-A2CE-BF9FFC9D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43B-FC6E-480A-BD19-C8D0C8EA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CC9-0D57-49B1-BDB0-CDCD0889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044-EFC3-4FF3-97EC-7998E1F0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CE0-10CE-4B42-8663-7742C02D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81C-9C2B-4BC2-AFC1-F93249B3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299-38E7-40FF-B29B-25DA909F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695-3EB1-42E5-B57D-637E3CF5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7AC-1C05-4054-B1B6-9EEF7263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52A-A77C-49E2-A8D3-C109D1B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5AE-CFBA-4DAE-BDED-27F4B0D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16F4-DE97-42BE-A301-01C662A7F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61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al modelo neolib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gotamiento del modelo ISI coincide con una crisis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político Golpe militar, término de vigencia Constitución del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, crisis terminal modelo ISI, nuevo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rga preparación para el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venio UC – Chic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quilibrios económicos básicos no resue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iempos de proyectos nuevos cada seis años y excluy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bilidad institucional para canalizar incorporación de sectores medios y b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internacional de guerra f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sudamericano de golpes milit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volución cub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hay densidad nac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hile no escapa a realidad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modelo neo-liberal implementado,  tuvo dos  f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primera muy ortodoxa de 1973 a 19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segunda con mayores elementos de pragmatismo 1982 a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os aspectos básicos del modelo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Del estado empresario al estado subsid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iminación de los controles de pre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 del comercio exterior en particular import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del mercado financiero, tasa de interés, actores y nor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ducción d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Privatización de empresas y devolución de empresas y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forma tributaria, reducción de impuestos dire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stricción de libertad de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el control de la inflación se bas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Una política monetaria restri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l tip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l déficit fiscal, eliminado a 197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inflación cercana al 700% anual del año 73, se reduce al 38% en 197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ijación del tipo de cambio llevó la inflación a 9.5% en 1981 por un corto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se sostiene el cambio congelado y se debe devaluar y la inflación vuelve a elevarse a tasas del 20% anual, reapareciendo el déficit fi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se produce una baja de la inflación menor al esperado por las autoridades a un enorme costo de empleo y actividad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vatización de la banca, en 1973 estaba estat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autoriza la creación de sociedades financieras no sujetas al control de l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libera la tasa de interés y normas sobre control del créd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resultado fue un aumento de las tasas de interés  nacionales muy por sobre la internacional en ese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aumentaron los plazos de los créditos int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tasa de inversión fue menor a la histórica y lo mismo el aho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umento de la deuda externa, en buena parte privada 73%, los créditos relacionados, provocaron la crisis financiera del 1981 y el fin de la primer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total de im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ja de aranceles del 220% en 1973  al 10 %  en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érmino de cuotas y depósitos prev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 compra de div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mo resultado se tuvo un aumento al doble de las importaciones con un creciente aumento de los productos de consumo como calzado y cueros, alimentos, electrodomésticos y automóviles, textiles y un estancamiento en los bienes de capital un 20% superiores en 1981 respecto a 19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tro efecto importante fue que el 20% de ingresos más altos elevó su participación en el consumo del 44% al 51% y el 20% más pobre lo disminuyó del 7,6 al 5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participación de la industria en el PIB disminuyó de 26% en 1970 a 20% en 1981 y también disminuye la ocupación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sultados del perío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IB crece a una tasa promedio d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crecen a una tasa promedio anual  de 13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desempleo promedio  16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reales 1970 =100 en 1981 7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promedio anual  138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Educación disminuye  8,5% entre 1970 y 19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Salud disminuye en igual período en 3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lación entre el 20% más pobre y 20% más rico aumenta de 12,6 veces en 1972 a 19,6 en 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termina el proceso de reforma agraria el 33% de las tierras es devuelta a sus antiguos dueños  y el 20%  es vendida por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fines del período se implementa un sistema privado de pen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uda externa equivale a cuatro veces las exportaciones an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nda fase del modelo, aprendiendo de la cri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el ámbito institucional se inicia la reconstrucción  de los movimientos sociales: sindicatos, partidos polí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 los ajus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ambiaria  de devaluaciones periód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el sector 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bsidi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gulación del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tatización de la deuda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lítica co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arancel promedio a 35% en 1984 y  15% en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arancel máximo de 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trigo, azúcar y ace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integro simplificad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ortalecimiento de institucionalidad (creación de Pro-Ch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egul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negociación de la deud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ímites a prestamos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onitoreo de a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bligación de provisionar créditos ma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interés libre es reemplazada por intervención del Banco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ncipales resultados período 82 -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recimiento PIB 2,9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7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20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mpleo 19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1970= 100 en  1989=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lación 20/20  de  18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02:22Z</dcterms:created>
  <dc:creator>.</dc:creator>
  <dc:description/>
  <dc:language>en-US</dc:language>
  <cp:lastModifiedBy>.</cp:lastModifiedBy>
  <dcterms:modified xsi:type="dcterms:W3CDTF">2009-11-03T16:52:43Z</dcterms:modified>
  <cp:revision>9</cp:revision>
  <dc:subject/>
  <dc:title>Chile: al modelo neoliberal</dc:title>
</cp:coreProperties>
</file>