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59B74-B72C-45A2-8525-F82ACB366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EC6FD-D9AD-4363-A75C-E6105BB8C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9B176-2C44-4110-85FC-CB38F895A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0A27A-8981-4355-9A49-0C05A6623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BDDEF-7FA9-4235-B18A-0107029F9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96BC6-7D07-46D5-BED4-B5629E8DD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2DBA5-54AE-4D1D-AE0C-3590CD9DF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F694E-1C1B-44E3-9D4B-E9CEF88CC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99E0C-2199-41BD-951B-7CC05DDE5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CE72E-A327-42A1-BB7E-2687B3A9F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1EAA6-9771-4B69-B16D-CB7F3DC20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EF946-EDC6-4819-8560-1E82728C3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7F49-9C38-4811-A927-F19C9A42AA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a:t>
            </a:r>
            <a:endParaRPr b="0" lang="en-US" sz="2400" spc="-1" strike="noStrike">
              <a:solidFill>
                <a:srgbClr val="000000"/>
              </a:solidFill>
              <a:latin typeface="Arial"/>
            </a:endParaRPr>
          </a:p>
        </p:txBody>
      </p:sp>
      <p:sp>
        <p:nvSpPr>
          <p:cNvPr id="42" name="PlaceHolder 2"/>
          <p:cNvSpPr>
            <a:spLocks noGrp="1"/>
          </p:cNvSpPr>
          <p:nvPr>
            <p:ph type="subTitle"/>
          </p:nvPr>
        </p:nvSpPr>
        <p:spPr>
          <a:xfrm>
            <a:off x="684360" y="549360"/>
            <a:ext cx="7920000" cy="5759280"/>
          </a:xfrm>
          <a:prstGeom prst="rect">
            <a:avLst/>
          </a:prstGeom>
          <a:noFill/>
          <a:ln w="0">
            <a:noFill/>
          </a:ln>
        </p:spPr>
        <p: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333399"/>
                </a:solidFill>
                <a:latin typeface="Arial"/>
              </a:rPr>
              <a:t>La crisis del 30 termina con la época liberal y la etapa de la economía primario</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xportadora., surge un modelo distinto de desarroll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Se debilita el comercio internacional, la inversión privada, y el movimiento d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capitales internacional.</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 este período (1860 -1930) el comercio internacional se hace en partes iguale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tre materias  primas o productos primarios y manufacturas, la sustitución s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oduce al interior de los productos primarios, entre menos alimentos y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agropecuarias, por minerales  petróle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l efecto económico de este cambio a partir de 1930 pero ya latente desd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incipios del siglo XX, es explicado por el concepto de elasticidad – ingreso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definir). Así, en la medida que la sociedad se desarrolla, el gasto en alimento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disminuye su participación en el ingreso y es reemplazado por bienes má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sofisticados como consumo durable.</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 el caso de las materias primas se dan dos efectos, el reemplazo de naturale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or sintéticas, por menores costos y  por efecto del progreso técnico. </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Como un dato, señalemos que entre 1928 y 1955 las exportaciones mundiales d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oductos primarios aumentó un 14% (excluyendo petróleo) y la de producto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manufacturados un 103% . Entre 1960 y 1970  manufacturas un 199% y producto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imarios un 88%.   </a:t>
            </a: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8</a:t>
            </a:r>
            <a:endParaRPr b="0" lang="en-US" sz="2400" spc="-1" strike="noStrike">
              <a:solidFill>
                <a:srgbClr val="000000"/>
              </a:solidFill>
              <a:latin typeface="Arial"/>
            </a:endParaRPr>
          </a:p>
        </p:txBody>
      </p:sp>
      <p:sp>
        <p:nvSpPr>
          <p:cNvPr id="60"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i la estructura de producción se hubiera transmitido a las exportaciones, la industria debió generar el 70% de ellas y el agro el 30%, al final del período la relación era distinta 75% agro y 25% industri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900 y 1930 el agro creció al 3,5% anual entre el 30 y el 70 a un 1,5% anual, generando dos efectos, el primero deprimir el crecimiento del PIB y el segundo disminuir los saldos exportables y por lo tanto la generación de divisas tan importantes para el crecimiento industri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distribución del ingreso mejoró levemente en el período: a 1961 el 5% de las personas recibía el 30% del ingreso la relación entre el promedio nacional y el 1% más rico era de 15 veces y entre el 10% más pobre y el promedio era de 50 vec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dispersión mayor estaba entre el tramo mas pobre y el mas ric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pasó de 12 millones en 1930 a 26 millones en 1976. Concentrándose en  la Capital Federal 36% a 197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inalmente, entre 1930 y 1970 el PIB creció a una tasa anual de 3% y el PIB por habitante en 1,2%. El crecimiento más lento es entre1930- 50 con un 2,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crecimiento promedio de los países desarrollados fue a una tasa del 5% anu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colapso del modelo refleja la incapacidad de la sociedad argentina para ponerse de acuerdo en un modelo consensuado y reglas del juego claras y estab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a:t>
            </a:r>
            <a:endParaRPr b="0" lang="en-US" sz="2400" spc="-1" strike="noStrike">
              <a:solidFill>
                <a:srgbClr val="000000"/>
              </a:solidFill>
              <a:latin typeface="Arial"/>
            </a:endParaRPr>
          </a:p>
        </p:txBody>
      </p:sp>
      <p:sp>
        <p:nvSpPr>
          <p:cNvPr id="44"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exportaciones de productos primarios disminuyeron su participación en las exportaciones mundiales de 66% en 1930 a 46% en 1960 y a 35% en 197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a en crisis la especialización conocida de países subdesarrollados dedicados a las exportaciones primarias y los desarrollados  a las manufacturas. Es reemplazada por una nueva especialización al interior de los países desarrolla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produce una especialización no entre industrias sino intradustria, al nivel de productos, y principalmente entre los países desarrolla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Otro cambio relevante, tiene que ver con la inversión privada hasta 1930 las potencias invertían en servicios públicos, deuda pública y materias primas, el nuevo modelo los lleva a invertir directamente en manufacturas para satisfacer no el comercio externo sino que los mercados internos y en mayor medida de las economías desarrolla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spuesta más efectiva a estos cambios era la expansión de la industria, capacitación de sus recursos humanos, incorporación de nuevas tecnologías y  convertirse internacionalmente competitivo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000" y="259920"/>
            <a:ext cx="828036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a:t>
            </a:r>
            <a:endParaRPr b="0" lang="en-US" sz="2400" spc="-1" strike="noStrike">
              <a:solidFill>
                <a:srgbClr val="000000"/>
              </a:solidFill>
              <a:latin typeface="Arial"/>
            </a:endParaRPr>
          </a:p>
        </p:txBody>
      </p:sp>
      <p:sp>
        <p:nvSpPr>
          <p:cNvPr id="46" name="PlaceHolder 2"/>
          <p:cNvSpPr>
            <a:spLocks noGrp="1"/>
          </p:cNvSpPr>
          <p:nvPr>
            <p:ph/>
          </p:nvPr>
        </p:nvSpPr>
        <p:spPr>
          <a:xfrm>
            <a:off x="457200" y="836640"/>
            <a:ext cx="8229600" cy="5616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1930, Argentina estaba entre las 15 economías de mejor PIB per cápita del mundo, con una población importante y con un nivel ingreso relevant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bía ampliado y diversificado su nivel de consumo, esto a pesar de no contar con el suficiente desarrollo industrial que modificara la composición de sus exportaciones, así el país participaba de un 3% de las exportaciones mundiales en 1929, representaba sólo el 0,5% en 1970, al perder importancia la producción agropecuar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nuevo cuadro económico imponía incorporar tecnología en el aparato productivo, incluir valor agregado y manufacturas a las exportaciones vincular la demanda a la oferta y generar acumulación de capital, conocimientos y capacidad de gest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modelo antiguo, la demanda crecía impulsada por las exportaciones así también el consumo y la invers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nuevo modelo, es el mercado interno quién asume la conducción de la economía y por lo tanto son las decisiones de políticas económicas y de gobierno las que impulsan el crecimient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roceso adquiere dinamismo al restringir importaciones, hay recursos y capacidad disponible para producir bienes manufacturados sencill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mediano plazo se presentan otros desafíos: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2</a:t>
            </a:r>
            <a:endParaRPr b="0" lang="en-US" sz="2400" spc="-1" strike="noStrike">
              <a:solidFill>
                <a:srgbClr val="000000"/>
              </a:solidFill>
              <a:latin typeface="Arial"/>
            </a:endParaRPr>
          </a:p>
        </p:txBody>
      </p:sp>
      <p:sp>
        <p:nvSpPr>
          <p:cNvPr id="48" name="PlaceHolder 2"/>
          <p:cNvSpPr>
            <a:spLocks noGrp="1"/>
          </p:cNvSpPr>
          <p:nvPr>
            <p:ph/>
          </p:nvPr>
        </p:nvSpPr>
        <p:spPr>
          <a:xfrm>
            <a:off x="468360" y="764640"/>
            <a:ext cx="8229600" cy="538956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Ocupar todos los factores disponib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antener estabilidad de preci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égimen tributario equitativ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Transparencia del gasto públic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ejorar las políticas socia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Identificar sectores líderes de crecimiento y apoyarl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argentino preocupación especial por el federalism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enerar competitividad internacion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que registraba un alto nivel de ingreso y la posibilidad de acceso al progreso técnico con un tamaño y estructura de mercado, tenía sin embargo una dependencia del exterior  para los bienes manufacturados y un sistema productivo básico. La sustitución de importaciones provoca una mayor necesidad de recursos de inversión que el exterior no satisface y los estado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proveyeron de estos recursos ampliando sus medios de pag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enfrenta estas decisiones en medio de un  quiebre institucional luego de 60 años de estabilidad polít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3</a:t>
            </a:r>
            <a:endParaRPr b="0" lang="en-US" sz="2400" spc="-1" strike="noStrike">
              <a:solidFill>
                <a:srgbClr val="000000"/>
              </a:solidFill>
              <a:latin typeface="Arial"/>
            </a:endParaRPr>
          </a:p>
        </p:txBody>
      </p:sp>
      <p:sp>
        <p:nvSpPr>
          <p:cNvPr id="50" name="PlaceHolder 2"/>
          <p:cNvSpPr>
            <a:spLocks noGrp="1"/>
          </p:cNvSpPr>
          <p:nvPr>
            <p:ph/>
          </p:nvPr>
        </p:nvSpPr>
        <p:spPr>
          <a:xfrm>
            <a:off x="457200" y="549000"/>
            <a:ext cx="8229600" cy="61196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862 y 1928 se eligió presidente de la nación cada seis añ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912 se produce la reforma electoral, estableciendo el voto secreto y obligator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ue una época de consensos básicos de los actores sociales: el modelo económico liberal, el predominio de la riqueza agraria y la participación del capital extranjero en la economí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fue un país normalmente alineado con Inglaterra.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golpe de estado de 1930, quebró todas las bases del sistema constitucional argentino y fue el contexto en el cual Argentina enfrentó  las transformaciones inevitables que vení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930 y 1976 hubo 22 presidentes y 48 ministros de economí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oscripción del radicalismo hasta 1943 (fraude patriótic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oscripción del peronismo: 1955 a 1973.</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lpes de estado en 1943,1955,1962,1966 y 197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ecuperación democrática en 1983.</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densidad nacional y la estabilidad institucional faltaron en momentos muy necesarios.</a:t>
            </a:r>
            <a:endParaRPr b="0" lang="en-US" sz="16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Densidad Nacional: Circunstancias que habilitan a una sociedad a movilizar a todos sus miembros, arbitrar conflictos dentro de reglas del juego respetadas, aprovechar sus recursos y tener relaciones simétricas con el exteri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4</a:t>
            </a:r>
            <a:endParaRPr b="0" lang="en-US" sz="2400" spc="-1" strike="noStrike">
              <a:solidFill>
                <a:srgbClr val="000000"/>
              </a:solidFill>
              <a:latin typeface="Arial"/>
            </a:endParaRPr>
          </a:p>
        </p:txBody>
      </p:sp>
      <p:sp>
        <p:nvSpPr>
          <p:cNvPr id="52" name="PlaceHolder 2"/>
          <p:cNvSpPr>
            <a:spLocks noGrp="1"/>
          </p:cNvSpPr>
          <p:nvPr>
            <p:ph/>
          </p:nvPr>
        </p:nvSpPr>
        <p:spPr>
          <a:xfrm>
            <a:off x="457200" y="765000"/>
            <a:ext cx="8229600" cy="5616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uego de la crisis del 30 se abandona el modelo librecambista  y surge un modelo alternativo basado en la intervención del estado , regulación del mercado y sostenimiento de la deman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l período está marcado por  la ausencia de un consenso básico acerca del camino a segui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Dos hechos marcarían la economía del período, Uno positivo, otro negativ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inflación aparecería como un fenómeno desequilibrador y  promotor de violencia. 45-49: 19% tasa media anu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55-59: 3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65-69: 3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70 -75:213%</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industria experimenta, a pesar de la inestabilidad los mayores índices de crecimiento de la histor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el primer período del 30 al 43 Argenti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ogra acuerdo con Inglaterra para mantener exportaciones de carn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Para sostener demanda interna se crean una serie de instituciones reguladoras estatales del mercado y un conjunto de instrumentos, subsidios, cuotas, control de precio con igual fi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Mantiene política fiscal (se crea dirección de vialidad) y monetaria expansiv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crea el Banco Central (1935) para regular crédito y medios de pa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5</a:t>
            </a:r>
            <a:endParaRPr b="0" lang="en-US" sz="2400" spc="-1" strike="noStrike">
              <a:solidFill>
                <a:srgbClr val="000000"/>
              </a:solidFill>
              <a:latin typeface="Arial"/>
            </a:endParaRPr>
          </a:p>
        </p:txBody>
      </p:sp>
      <p:sp>
        <p:nvSpPr>
          <p:cNvPr id="54"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mo resultado se tiene un lento crecimiento del PGB de1,5% como tasa media anual, manteniendo la misma estructura  de los grupos dominantes históric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guerra actúa como un incentivo a la sustitución de importaciones, pero impide la renovación y aumento de máquinas y equip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gunda etapa 1943 a 1955: peronism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Objetivo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omover la industrialización (Se crea Secretaría de Industri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Incrementar el poder adquisitivo de los asalariados, como condición para el desarrollo social.</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Independencia económica, rechazo al capital extranjer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 la primera fase  expansiva (46-48), se aumenta la cantidad de dinero en 250%,el gasto público al doble (30% del PGB), aumenta la participación de los asalariados en el ingreso del 39 al 46% y el Producto  a un ritmo de 5,5% al añ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as cuentas externas  a 1948  el comercio cae un tercio, las reservas bajan de 1600 millones de dólares a 150 y las deudas suben a 1500 millon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a segunda fase 49 a 55, se inicia una severa política de control de ingresos, con control de precios y reajustes cada dos añ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Al concluir el gobierno peronista se había desplazado una cuota importante de poder hacia los trabajadores en particular a los sindicatos, sin afectar el régimen de propiedad, y las actividades básicas sustituvas de importaciónes adquirieron una mayor particip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59920"/>
            <a:ext cx="8229600" cy="2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6</a:t>
            </a:r>
            <a:endParaRPr b="0" lang="en-US" sz="2400" spc="-1" strike="noStrike">
              <a:solidFill>
                <a:srgbClr val="000000"/>
              </a:solidFill>
              <a:latin typeface="Arial"/>
            </a:endParaRPr>
          </a:p>
        </p:txBody>
      </p:sp>
      <p:sp>
        <p:nvSpPr>
          <p:cNvPr id="56"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Perón cae en setiembre de 1955 y el nuevo presidente democrático Frondizi asume en mayo del 58.</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l período intermedio estuvo destinado a desmantelar la mayor parte de las políticas del régimen peronista, debilitar el poder sindical, redistribuir hacia los grupos afectados por Perón, desmantelar el Estado y reinsertarse internacionalment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mo las bases del poder económico no habían sido tocadas ni en el agro ni en la industria la nueva política rápidamente reestablece la situación existente al 4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interviene la CGT,  se incorpora al FMI y al Banco Mundial, se devalúa el peso, encareciendo las importaciones, aumenta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A partir de 1958,  en la Argentina se agudiza la inestabilidad política y los experimentos económicos de corta duración con bajo crecimiento del producto, agudización de las presiones inflacionarias, incapacidad para generar el necesario ahorro interno, crisis permanentes de balanza de pagos, división de la sociedad civil y sucesión de gobiernos civiles y militar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Marzo del 62 golpe milita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63 a 1966 Presidente: Illí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66 a1971 gobierno milita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71 a 1976 segundo gobierno peronist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76 Golpe de Estado y fin del  período de Industrialización por sustitución de import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7</a:t>
            </a:r>
            <a:endParaRPr b="0" lang="en-US" sz="2400" spc="-1" strike="noStrike">
              <a:solidFill>
                <a:srgbClr val="000000"/>
              </a:solidFill>
              <a:latin typeface="Arial"/>
            </a:endParaRPr>
          </a:p>
        </p:txBody>
      </p:sp>
      <p:sp>
        <p:nvSpPr>
          <p:cNvPr id="58"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esultados del Proceso 1930 – 1976</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pierde cierto protagonismo mundi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us exportaciones bajan de 30% del PGB en 1920, a 10%</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inversiones externas pasan de 32% del capital fijo en 1930, a 5% en 1950.</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oferta de bienes manufacturados pasa de42% de la oferta total a  70% en 1970.</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930 y 1970 el aumento del producto se explica en un 70% por la industria y un 17% por el agro que el año 30 aportaba el 4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IB industrial crece 3,6% entre el 30 y el 45; 3,9% entre el 45 y el 60 y 4,4% entre el 60 y 197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puede indicar que en la primera fase de la ISI  (30-50) se produce efectivamente un mayor crecimiento y sustitución en las industrias tradicionales: textil y aliment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el 50 y el 70 son las industrias más dinámicas producción de automóviles, máquinas herramientas, equipos eléctricos y electrónicos. Con fuerte apoyo de subsidiarias extranjeras a partir de 1958.</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ocupación industrial creció en cerca de dos millones de personas entre 1930 y 197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exportaciones manufactureras en la práctica inexistentes al inicio del período llegaron a 20% hacia 19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4:11:36Z</dcterms:created>
  <dc:creator>.</dc:creator>
  <dc:description/>
  <dc:language>en-US</dc:language>
  <cp:lastModifiedBy>.</cp:lastModifiedBy>
  <dcterms:modified xsi:type="dcterms:W3CDTF">2009-10-21T14:10:53Z</dcterms:modified>
  <cp:revision>31</cp:revision>
  <dc:subject/>
  <dc:title>Industrialización por I.S.I.</dc:title>
</cp:coreProperties>
</file>