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47FF3-0D57-4A8A-AC84-25C4FDA61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787F7-1FD3-4F42-A169-811053592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B26AB-FB7D-4C3C-80CF-6AC73F3000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A47CB-A9B7-4B89-956F-D1D5C2C4C8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3B182-6D5B-4A6D-A486-6EC189008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EEED8-FD32-44A7-9A00-E0ED7A19D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569DC-3A9F-47F3-AF91-6384ABD68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52458-1406-4159-835F-DDD33D5B5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18CFE-95C7-4BAE-AD55-8F0BB35BB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6329C-9D9C-4333-BA6F-C8A4126C1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4F5FC-2F03-49DF-8D49-22295CF86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5BE9-76EE-443D-A7C9-245DDCE3C1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B6EF-B6FF-41A6-9E60-C4339FEB59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89000"/>
            <a:ext cx="77724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l salitre</a:t>
            </a:r>
            <a:endParaRPr b="0" lang="en-US" sz="2000" spc="-1" strike="noStrike">
              <a:solidFill>
                <a:srgbClr val="000000"/>
              </a:solidFill>
              <a:latin typeface="Arial"/>
            </a:endParaRPr>
          </a:p>
        </p:txBody>
      </p:sp>
      <p:sp>
        <p:nvSpPr>
          <p:cNvPr id="42" name="PlaceHolder 2"/>
          <p:cNvSpPr>
            <a:spLocks noGrp="1"/>
          </p:cNvSpPr>
          <p:nvPr>
            <p:ph type="subTitle"/>
          </p:nvPr>
        </p:nvSpPr>
        <p:spPr>
          <a:xfrm>
            <a:off x="684360" y="765000"/>
            <a:ext cx="7775280" cy="4873680"/>
          </a:xfrm>
          <a:prstGeom prst="rect">
            <a:avLst/>
          </a:prstGeom>
          <a:noFill/>
          <a:ln w="0">
            <a:noFill/>
          </a:ln>
        </p:spPr>
        <p: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1" lang="es-CL" sz="1600" spc="-1" strike="noStrike">
                <a:solidFill>
                  <a:srgbClr val="333399"/>
                </a:solidFill>
                <a:latin typeface="Arial"/>
              </a:rPr>
              <a:t>Los yacimientos de  salitre más importantes estaban ubicados en el sur de Perú, región de Tarapacá hasta 1880. Ese año este territorio es ocupado por Chile como resultado de la Guerra del Pacífico (1879-1883).</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Hacia 1873  Perú había  creado el estanco Estatal del salitre, comprando las salitreras a sus dueños extranjeros, con papeles a largo plazo. De esta manera a inicios de la guerra La riqueza salitrera proporcionaba la principal fuente de ingresos al Estado peruano.</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nuevo dueño de Tarapacá toma dos medidas relevantes:</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Define nuevos derechos de exportación y</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rivatiza el salitre traspasándolo a quien demostrara la propiedad de los        papeles      emitidos por gobierno peruano. Se generan nuevos dueños en particular especuladores que apostaron a que Chile ganaría la guerra y reprivatizaría el salitre y compraron barato los papeles. Así capitales ingleses que antes de la guerra controlaban el 13% de las salitreras, consolidado el territorio para Chile legaron al 70%.</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 capacidad de producción de salitre  aumentó de 190.000 ton  en 1870 a     810.000 ton en 1879. </a:t>
            </a:r>
            <a:endParaRPr b="0" lang="en-US" sz="1600" spc="-1" strike="noStrike">
              <a:solidFill>
                <a:srgbClr val="000000"/>
              </a:solidFill>
              <a:latin typeface="Arial"/>
            </a:endParaRPr>
          </a:p>
          <a:p>
            <a:pPr>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 </a:t>
            </a:r>
            <a:r>
              <a:rPr b="1" lang="es-CL" sz="1600" spc="-1" strike="noStrike">
                <a:solidFill>
                  <a:srgbClr val="333399"/>
                </a:solidFill>
                <a:latin typeface="Arial"/>
              </a:rPr>
              <a:t>Las exportaciones fueron de 184 mil ton. en 1870 y 323 mil ton. en187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salitre (2)</a:t>
            </a:r>
            <a:endParaRPr b="0" lang="en-US" sz="2000" spc="-1" strike="noStrike">
              <a:solidFill>
                <a:srgbClr val="000000"/>
              </a:solidFill>
              <a:latin typeface="Arial"/>
            </a:endParaRPr>
          </a:p>
        </p:txBody>
      </p:sp>
      <p:sp>
        <p:nvSpPr>
          <p:cNvPr id="44" name="PlaceHolder 2"/>
          <p:cNvSpPr>
            <a:spLocks noGrp="1"/>
          </p:cNvSpPr>
          <p:nvPr>
            <p:ph/>
          </p:nvPr>
        </p:nvSpPr>
        <p:spPr>
          <a:xfrm>
            <a:off x="457200" y="907920"/>
            <a:ext cx="8229600" cy="55454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tre 1880  y 1886 la capacidad de producción se eleva a  1.750 mil ton y las exportaciones a 590 mil ton en 1883 y 451 mil ton en 188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7 Chile exportó 704 mil ton., en 1890 1.063 mil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destino de estas exportaciones eran en la década del 80: 40% Alemania,20% Francia, 13% Inglaterra y 11% Estados Uni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producción alternativa de nitrato de amonio a  cada vez menores costos el precio del salitre había disminuido de US$ 89 la ton, a fines de los 70 a US$ 51 en 1891 y US$ 46 en 19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929 inicios de la Gran Depresión las exportaciones de salitre alcanzaron a 2.898 tons a US$ 62 la to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80 el 26% de las exportaciones chilenas era salitre,  en 1895 era el 69% y en 1915 el 76% y en 1929 el 3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Del total de derechos aduaneros pagados en 1880 el 16&amp; eran derechos de exportaciones,  en 1895 constituían el 66% en 1915 representaba el 76%  en 1930  el 3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 la contribución del salitre a los ingresos de la nación: en 1880  fueron el 4,7% , en 1895 el 56%, en 1915  60,1% y en 1924 el 3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Otras características período</a:t>
            </a:r>
            <a:endParaRPr b="0" lang="en-US" sz="2000" spc="-1" strike="noStrike">
              <a:solidFill>
                <a:srgbClr val="000000"/>
              </a:solidFill>
              <a:latin typeface="Arial"/>
            </a:endParaRPr>
          </a:p>
        </p:txBody>
      </p:sp>
      <p:sp>
        <p:nvSpPr>
          <p:cNvPr id="46"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7000"/>
          </a:bodyPr>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1865 el 78% de la población es rural en 1885  es de 71%, en 1907 es de 62% y en 1930 del 51%.</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el Norte Grande pasa de un 3,5% en 1885 a 6,8%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población urbana se concentra en la zona central alcanzando en promedio el 30% hacia 1930.</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Principales producciones agrícolas                            </a:t>
            </a:r>
            <a:r>
              <a:rPr b="1" lang="es-CL" sz="1600" spc="-1" strike="noStrike">
                <a:solidFill>
                  <a:srgbClr val="ff0000"/>
                </a:solidFill>
                <a:latin typeface="Arial"/>
              </a:rPr>
              <a:t>Crec.anual (%)</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Trigo            77/78   2.876            27/28     7.340      (miles qq)              </a:t>
            </a:r>
            <a:r>
              <a:rPr b="1" lang="es-CL" sz="1600" spc="-1" strike="noStrike">
                <a:solidFill>
                  <a:srgbClr val="ff0000"/>
                </a:solidFill>
                <a:latin typeface="Arial"/>
              </a:rPr>
              <a:t>0.9%</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ebada                     345                            1125                                      </a:t>
            </a:r>
            <a:r>
              <a:rPr b="1" lang="es-CL" sz="1600" spc="-1" strike="noStrike">
                <a:solidFill>
                  <a:srgbClr val="ff0000"/>
                </a:solidFill>
                <a:latin typeface="Arial"/>
              </a:rPr>
              <a:t>1.6%</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Frejoles                    199                              687                                      </a:t>
            </a:r>
            <a:r>
              <a:rPr b="1" lang="es-CL" sz="1600" spc="-1" strike="noStrike">
                <a:solidFill>
                  <a:srgbClr val="ff0000"/>
                </a:solidFill>
                <a:latin typeface="Arial"/>
              </a:rPr>
              <a:t>1.8%</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Papas                        895                            3682                                     </a:t>
            </a:r>
            <a:r>
              <a:rPr b="1" lang="es-CL" sz="1600" spc="-1" strike="noStrike">
                <a:solidFill>
                  <a:srgbClr val="ff0000"/>
                </a:solidFill>
                <a:latin typeface="Arial"/>
              </a:rPr>
              <a:t>2.3%</a:t>
            </a:r>
            <a:r>
              <a:rPr b="1" lang="es-CL" sz="1600" spc="-1" strike="noStrike">
                <a:solidFill>
                  <a:srgbClr val="333399"/>
                </a:solidFill>
                <a:latin typeface="Arial"/>
              </a:rPr>
              <a:t>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Maíz                          178                              519                                     </a:t>
            </a:r>
            <a:r>
              <a:rPr b="1" lang="es-CL" sz="1600" spc="-1" strike="noStrike">
                <a:solidFill>
                  <a:srgbClr val="ff0000"/>
                </a:solidFill>
                <a:latin typeface="Arial"/>
              </a:rPr>
              <a:t>1.3%</a:t>
            </a:r>
            <a:endParaRPr b="0" lang="en-US" sz="16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n  cuanto al sector financiero durante todo el siglo XIX  y hasta 1930 se produce una depreciación del tipo de cambio:    </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1.31 pesos por dólar en 1830 y 8.26 pesos por dólar en 1930.</a:t>
            </a:r>
            <a:endParaRPr b="0" lang="en-US" sz="1600" spc="-1" strike="noStrike">
              <a:solidFill>
                <a:srgbClr val="000000"/>
              </a:solidFill>
              <a:latin typeface="Arial"/>
            </a:endParaRPr>
          </a:p>
          <a:p>
            <a:pPr marL="332640" indent="-33264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44 peniques por peso en 1830  y 6 peniques por peso en 1930</a:t>
            </a:r>
            <a:endParaRPr b="0" lang="en-US" sz="1600" spc="-1" strike="noStrike">
              <a:solidFill>
                <a:srgbClr val="000000"/>
              </a:solidFill>
              <a:latin typeface="Arial"/>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8864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48" name="PlaceHolder 2"/>
          <p:cNvSpPr>
            <a:spLocks noGrp="1"/>
          </p:cNvSpPr>
          <p:nvPr>
            <p:ph/>
          </p:nvPr>
        </p:nvSpPr>
        <p:spPr>
          <a:xfrm>
            <a:off x="457200" y="620640"/>
            <a:ext cx="8229600" cy="5904000"/>
          </a:xfrm>
          <a:prstGeom prst="rect">
            <a:avLst/>
          </a:prstGeom>
          <a:noFill/>
          <a:ln w="0">
            <a:noFill/>
          </a:ln>
        </p:spPr>
        <p:txBody>
          <a:bodyPr lIns="90000" rIns="90000" tIns="46800" bIns="46800" anchor="t">
            <a:normAutofit/>
          </a:bodyPr>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tados Unidos surge como la primera potencia económica mundial después de la I Guerra Mundi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omo resultado de la reconstrucción de post- guerra se produce un período muy expansivo en las economías Hay una gran oferta de créditos  y un alza bursátil que eleva los precios de las acciones, todo motivado por aumentos de la  deman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nte una baja de la Bolsa de N.Y. la reacción fue a  vender los títulos y recuperar los depósitos, esto provocó nuevas caídas y la quiebra de bancos que no pudieron responder a sus clientes, baja la actividad, se produce una inusitada preferencia por el oro y la liquidez, se paraliza en la práctica el comercio exterior y los países endeudados suspenden el pago de la deuda y abandonan la libre convertibilida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provocó una contracción de la producción los ingresos y la ocupación en el mundo desarrollado. Se desploman sus importaciones y por lo tanto las exportaciones de nuestros países, las políticas económicas conocidas hasta ese momento se muestran ineficaces y profundizan la crisi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obliga a tomar medidas proteccionistas, devaluar las monedas, adoptar controles sobre el tipo de cambio, establecer cuotas de importaciones y alzas de aranceles, se abandona el patrón or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Se opta por desvincular la economía interna de las fluctuaciones de la balanza de pagos y alcanzar mayor efectividad con las políticas monetarias y fisca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La Gran Depresión</a:t>
            </a:r>
            <a:endParaRPr b="0" lang="en-US" sz="1800" spc="-1" strike="noStrike">
              <a:solidFill>
                <a:srgbClr val="000000"/>
              </a:solidFill>
              <a:latin typeface="Arial"/>
            </a:endParaRPr>
          </a:p>
        </p:txBody>
      </p:sp>
      <p:sp>
        <p:nvSpPr>
          <p:cNvPr id="50"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l valor de las exportaciones mundiales disminuyó en un 50%, el crecimiento mundial de las exportaciones entre1870 y 1929 había sido de un 3% anu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disminución de los ahorros en los países exportadores de capital y la imposibilidad de los países deudores para servir la deuda, afecto el movimiento de capitales: Francia, Estados Unidos e Inglaterra pasaron de exportadores de capital en 1930 a importadores (recuperadores) en 1932.</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marca el fin de una era abundante en producción capitales e inversione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La crisis afectó en mayor medida a aquellos países mono exportadores de materias primas, pues afecto los términos de intercambio, bajó más el precio de las materias que de los bienes manufactur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Otro efecto fue la disminución de capitales para comprar títulos públicos e inversiones por la caída de las exportaciones. Por un tiempo las inversiones tuvieron destinos ubicados en los hinterland de Estados Unidos e Inglaterr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Aparecieron además los créditos atad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Es posible señalar que la crisis de 1930 trae consigo el término de la economía primaria exportadora.</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Arial"/>
              </a:rPr>
              <a:t>Chile es el país más afectado del mundo, debido a su dependencia del comercio exterior y a la crisis simultánea  del salitre.</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17:16:46Z</dcterms:created>
  <dc:creator>CASA</dc:creator>
  <dc:description/>
  <dc:language>en-US</dc:language>
  <cp:lastModifiedBy>.</cp:lastModifiedBy>
  <dcterms:modified xsi:type="dcterms:W3CDTF">2009-10-07T18:53:03Z</dcterms:modified>
  <cp:revision>14</cp:revision>
  <dc:subject/>
  <dc:title>El salitre</dc:title>
</cp:coreProperties>
</file>