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7BA6-C9C2-4F65-9EFD-2168CFAA216F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203D-FB13-4A87-A5A7-367683109CC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FADB-E69D-4EED-879B-82C0AAF7D49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5D72-F345-4AA4-B89B-A090F38C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6F5-15D1-4777-8D86-B2AB4492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6B52-C48D-4D10-A84F-A1220675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330-50BF-4F21-A07D-1492FBDB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56E0-F86E-4995-AF52-7258530A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260-E369-45BD-950A-1EE86764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ADB-B8B0-4A50-AFE0-A9C5415C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435-39B2-4E54-926F-35D976BC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03EB-C120-4771-9FB5-BB22B48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9EBF-314E-4B18-B410-80941836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D8EC-ED1C-4090-B276-D0ED96BE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5131-71AE-4AF8-8481-2955032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6A55-7FBA-4AF7-B772-2C4EF1155454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La revolución mexic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Invers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aída en la confianza de los inverso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Colapso del orden legal y soc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Ruptura del mercado nac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Quiebre del sistema moneta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*  Incertidumb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A pesar de la guerra no todo fue tan m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capacidad física de producción no fue destruida aunque sí se deterior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xtracción de petróleo en el Golfo de México y la producción del henequén en Yucatán expandió su producció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la producción de petróleo no disminuyó en el perío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l primer boom de petróleo mexicano se alcanzó al principio de los 1920’s (</a:t>
            </a:r>
            <a:r>
              <a:rPr b="1" lang="es-MX" sz="2500" spc="-1" strike="noStrike">
                <a:solidFill>
                  <a:srgbClr val="ff0000"/>
                </a:solidFill>
                <a:latin typeface="Calibri"/>
              </a:rPr>
              <a:t>empresas británicas y americanas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n 1910 la producción mexicana representaba el 1% de la producción mundial y en 1921 representaba el 25% de la producción mundial (segundo después de EU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80% de la producción mexicana de petróleo a E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Compañías extranjeras: 73% de Estados Unidos, 21% británicas, Holandesas 4% y españolas-mexicanas 2%. 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1357200" y="1571760"/>
            <a:ext cx="6572520" cy="459108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500040" y="120168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ción de petróleo en Méxi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58"/>
          <p:cNvSpPr/>
          <p:nvPr/>
        </p:nvSpPr>
        <p:spPr>
          <a:xfrm>
            <a:off x="814320" y="6272280"/>
            <a:ext cx="54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alibri"/>
              </a:rPr>
              <a:t>Moreno-Brid J.C and J.Ros, 2007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139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A pesar de la guerra no todo fue tan mal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xpansión de las exportaciones sólo interrumpido entre 1913 y 1914, incluso a tasas mayores a las del porfiriato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mineral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Productos animales y agrícolas (café,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henequén, ixtle, ganad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643120" y="4500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azones para esta expansión en medio de la Revolución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ubicación de las actividades exportadoras en áreas que no se afectaron por la guerra y que estaban cerca del mar por lo que dependían menos del ferrocarr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Incremento de los precios internaciona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¿Cómo inició la recuperación generalizada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Fin de la hiperinflació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greso al patrón oro estableció las bases para la estabilización de los prec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versión de la Ley de Gresham: el dinero malo (billetes) reemplazados por el dinero bueno (oro y plata) que habían sido retirados por la emisión de papel de Huerta y los revolucionari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Sucedió en unos cuantos día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Contribuyó el hecho de que el presidente Carranza empezara a cobrar impuestos en oro y plata esto significaba que los billetes ya no servían como medios de pago. Esto significó una reforma monetaria y que el nivel de precios se ajustará a la moneda circulan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papel-moneda no pudo circular a gran escala hasta 193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0000"/>
                </a:solidFill>
                <a:latin typeface="Calibri"/>
              </a:rPr>
              <a:t>¿Cómo inició la recuperación generalizada?...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1424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xportación de miner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lata, plomo, zinc y cob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Boom del henequé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mpezó a decrecer en 192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Recuperación de la actividad manufacture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Recuperación inició en 1919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desplazamiento de capital y trabajo de la agricultu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* plantas manufactureras no fueron destruidas durante la revolución: porque eran fuentes de financiamiento, voluntarias o no, y por temor a represalias de los países de origen de las inversiones (Estados Unidos era el principal proveedor de armas de los revolucionari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Grandes empresas no fueron destruidas y su estructura organizacional no se cambio por la revolución. </a:t>
            </a: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 SE MANTUVO LA CONCETRACIÓN OLIGOPOLICA DE LA PRODUCCIÓN Y SIGUIERON MÁS O MENOS LOS MISMOS EMPRESARI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La reducción de la inversión durante el período y la baja de productividad hizo que estas empresas demandaran una política de protección comercial y la creación de bancos destinados a financiar actividades industria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4500720" y="5857920"/>
            <a:ext cx="4143240" cy="9169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¿Vinculo crecimiento, estabilidad política, protección de derechos de propiedad y seguridad en las política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mbio soc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57140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ransformaciones soci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Aunque los principales efectos de la revolución se vieron después de 1930 y hubo poca redistribución de tierras igual sucedieron cosa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peonaje debilitado en algunas regiones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(centro-su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incremento y fortalecimiento de los sindicato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mejora en las condiciones de trabajo: reducción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de la jornada laboral de 12 a 8 horas, crecimiento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sostenido en los salarios reales entre 1920-1929, a 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pesar del estancamiento de la productividad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nicia un período de estancamient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Calibri"/>
              </a:rPr>
              <a:t>Recesión interna con tiempos diferentes a la internacion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La crisis mexicana empezó antes y terminó antes que la mundial (1926-1932) que en EU y Europ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roblemas en la balanza de pagos inician en 1926 debido a la recesión de EU y la reducción de exportaciones de minerales y petróleo (nivel no se recupera hasta los 70’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* Agotamiento de las reservas conocidas, implementación del artículo 27 y descubrimientos petroleros en Venezue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Reducción en la inversión de 12.1% a 4.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PIB se redujo en 24%, producción manufacturera del 9% y de la agricultura del 1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Deflación, caída de 25% en los preci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rédito bancario se contrajo en 28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Caída de los </a:t>
            </a:r>
            <a:r>
              <a:rPr b="0" lang="es-MX" sz="2200" spc="-1" strike="noStrike" u="sng">
                <a:solidFill>
                  <a:srgbClr val="000000"/>
                </a:solidFill>
                <a:uFillTx/>
                <a:latin typeface="Calibri"/>
              </a:rPr>
              <a:t>términos de intercambio</a:t>
            </a:r>
            <a:r>
              <a:rPr b="0" lang="es-MX" sz="2200" spc="-1" strike="noStrike">
                <a:solidFill>
                  <a:srgbClr val="000000"/>
                </a:solidFill>
                <a:latin typeface="Calibri"/>
              </a:rPr>
              <a:t> afectando a los mineral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Caída de los ingresos fiscales: ingresos por petróleo y metales representaban 1/3 de los ingresos fiscale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El gobierno buscaba el balance fiscal y si se podía superávit fisca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Contracción del gasto público e incremento de impuest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Afectó al gatos corriente: despidos y reducción de salarios en el empleo públic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La inversión pública en mantener los sistemas de ferrocarriles y las carreteras. Esto evitó el deterioro del potencial de crecimiento futuro de la economía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Respuesta del gobierno ante la crisis..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85640" y="121428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El gobierno buscaba prevenir la depreciación del peso al restringir la acuñación de moneda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Reducción de la impresión de monedas lo que </a:t>
            </a:r>
            <a:r>
              <a:rPr b="0" lang="es-MX" sz="2500" spc="-1" strike="noStrike" u="sng">
                <a:solidFill>
                  <a:srgbClr val="000000"/>
                </a:solidFill>
                <a:uFillTx/>
                <a:latin typeface="Calibri"/>
              </a:rPr>
              <a:t>contrajo más la demanda agregada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 (1929-1932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* Exportaciones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Anteced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Breve cronologí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economía durante el período armado de la revolución (1910-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cuperación de la economí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risis 1926-19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Impacto de la Gran Depresión  (1929-193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5640" y="16426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000000"/>
                </a:solidFill>
                <a:latin typeface="Calibri"/>
              </a:rPr>
              <a:t>Todo esto se agravo por el impacto de la Gran Depresión en los EU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La respuesta de política inicial fue similar a la del período 1926-1929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shock externo fue muy grave y las políticas más estrictas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Exportaciones cayeron en 40%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* Términos de intercambio cayeron en 22% (segunda caída más severa en AL después de Chil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anales de transmisió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564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 gasto público (23%) por la reducción en ingresos fiscales (34%). Sin acceso a crédito externo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El déficit comercial hizo que se contrajera la oferta monetaria (60.2% entre 1929 a 1931), la más grande de LA: deflación resultado de caída en la demanda agregada y el aumento en la tasa de interés y decrecimiento del gasto priva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Calibri"/>
              </a:rPr>
              <a:t>Reducción del PIB en 21% (1928-1932): reducción en la manufactura y gran desempleo (deportaciones de trabajadores mexicanos de EU entre 1930 y 1933 (310000 trabajadores) 6% de la fuerza de trabajo empleada en 1930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Fu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071720" y="1357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alibri"/>
              </a:rPr>
              <a:t>Moreno-Brid J.C and J.Ros, (2007)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xico’s Economic Development in Historical Perspe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Antecede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Porfiriato fase clave en la transición de México de un modelo semifeudal hacia un capitalismo promovido por el Est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No consiguió establecer un pacto social duradero por las disparidades en la distribución del ingreso, las oportunidades, la extensión de la pobr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Represión política y nulas libertades polít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risis económica internacional (190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Calibri"/>
              </a:rPr>
              <a:t>Breve cronología de la revolució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928800" y="1312920"/>
          <a:ext cx="7572240" cy="475920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era revolución social del 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20 período de mayor intensidad en la lucha arm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0-19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belión contra Porfirio Día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erada por Francisco I. Madero (sufragio efectivo no reelecció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lio de Díaz en Parí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-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cuerdo entre los antiguos porfiristas y Mad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3: Asesinato de Madero y su vicepresidente (José María Pino Suárez) y Victoriano Huerta presidente (apoyo de E.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nfasis social de la Revolución: Emiliano Zapata (sur) y Pancho Villa (nort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anda de una reforma agraria, justicia social y edu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uerdos con los revolucionarios liberal-constitucionali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4: Huerta huye a E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5880" y="928800"/>
          <a:ext cx="7572240" cy="5673600"/>
        </p:xfrm>
        <a:graphic>
          <a:graphicData uri="http://schemas.openxmlformats.org/drawingml/2006/table">
            <a:tbl>
              <a:tblPr/>
              <a:tblGrid>
                <a:gridCol w="1568520"/>
                <a:gridCol w="6003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itución de 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nto de partida la Constitución de 1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poder ejecutivo al establecer el poder de veto , al permitirle en circunstancias especiales el emitir decretos pero establecía la no-reel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ringió el papel de los extranjeros en política y en econom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finió la propiedad de la tierra (art.27) y las relaciones laborales (art.12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eció que la nación es la dueña de las tierra, el agua y los recursos del subsuelo (art.27): base para la reforma agraria  (expropiación de latifundios y redistribución en ejidos: tenencia colectiva y explotación privada) e incremento las posibilidades de intervención en minería y petróleo (canceló el Código de 188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. 123:  uno de los artículos más progresistas de la época estableciendo el derecho a organizar y pertenecer a sindicatos, salario mínimo, jornadas laborales de 8 horas, semana laboral de 6 días y pago igual por trabajo igual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Breve cronología de la revolución…3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28800" y="1312920"/>
          <a:ext cx="7572240" cy="4394160"/>
        </p:xfrm>
        <a:graphic>
          <a:graphicData uri="http://schemas.openxmlformats.org/drawingml/2006/table">
            <a:tbl>
              <a:tblPr/>
              <a:tblGrid>
                <a:gridCol w="1568160"/>
                <a:gridCol w="600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ta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-1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que se redujo la intensidad del conflicto armado continuaron levantamientos aislados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9 asesinato de Za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0 asesinato de Carr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 asesinato de V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8 asesinato de Obreg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3,1927 y 1929 levantamientos milit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-1929 Guerra Cristera (Guerra Civil) en el centro-oeste originada por lo anticlerical de la Constitu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chos clave para la consolidación de la paz social y la estabilidad política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Creación del Partido Nacional Revolucionario que incorporó a las fuerzas más relevantes de la Revolución: vehículo de control político y única arena para dirimir diferencias polític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alibri"/>
              </a:rPr>
              <a:t>Consecuencias Económicas 1910-19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Cambio demográfic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sto demográfico de la revolución: 2.1 mill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2/3   por muer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4   por nacimientos que no se di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1/10 (poco menos)por migr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Ruptura del sistema monetari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La cantidad de dinero se multiplicó por 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Huerta para gastos de guer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Emisiones de los diferentes grupos revolucionario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Gobierno de Huerta impuso el préstamos forzados a los banc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Devaluación de las diferentes monedas e hiperinflació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Intervención bancaria en 1916-191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0000"/>
                </a:solidFill>
                <a:latin typeface="Calibri"/>
              </a:rPr>
              <a:t>Consecuencias Económicas 1910-1920…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00000"/>
                </a:solidFill>
                <a:latin typeface="Calibri"/>
              </a:rPr>
              <a:t>Produ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Ruptura del sistema de ferrocarri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Paralización de la producción en algunas área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agricultura: producción de maíz cayo en 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40% entre 1910 y 192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* manufacturas: caída de 25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Bienes de consumo e intermedios afectados, sobre todo los últimos (cierre de empresa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Caída en la productividad y en la confianza de los inversor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15:09:13Z</dcterms:created>
  <dc:creator>Your User Name</dc:creator>
  <dc:description/>
  <dc:language>en-US</dc:language>
  <cp:lastModifiedBy>.</cp:lastModifiedBy>
  <dcterms:modified xsi:type="dcterms:W3CDTF">2009-10-06T17:15:05Z</dcterms:modified>
  <cp:revision>115</cp:revision>
  <dc:subject/>
  <dc:title>La revolución mexicana</dc:title>
</cp:coreProperties>
</file>