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22D68-8CF5-49F4-8A1D-D0900707D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20CB1-A66E-476E-8808-69B8482BE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E935E-62F4-4C94-98CA-36139AF2D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54C23-E082-413E-9361-625F49A2D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FA72F-7AAE-4EB6-A5CE-ED23FDDFA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2717F-1861-44C7-BCC5-9071AAD76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94E6A-D0E3-4BE6-A245-52CF01CEF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81A9-0384-42B2-8DFE-C1404FBE2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3DB9E-865F-402D-8A5F-55785E771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00876-C59D-434D-AC97-128702EB3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B6AFA-BDE7-4B13-8BB6-48FF5558D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0F802-33E2-4284-A3A9-1D32594C7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580D-EA38-4B21-8327-32FE125F886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9000"/>
            <a:ext cx="82296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hile siglo XIX</a:t>
            </a:r>
            <a:endParaRPr b="0" lang="en-US" sz="2400" spc="-1" strike="noStrike">
              <a:solidFill>
                <a:srgbClr val="000000"/>
              </a:solidFill>
              <a:latin typeface="Arial"/>
            </a:endParaRPr>
          </a:p>
        </p:txBody>
      </p:sp>
      <p:sp>
        <p:nvSpPr>
          <p:cNvPr id="42"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blación de Chile  1835: 1.100.0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865: 1.800.000   (22.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907: 3.200.000   ( 135.000 mayoría por anexión territor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hile no tiene inmigraciones importantes como Argentina: 30% extranjer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IX Inglaterra, Francia  y Alemania eran naciones industrializadas e Inglaterra ya constituía una sociedad industrial. (disminución de la población rural, aumento de producción de manufacturas, aumento de productividad y creación de clase empresarial), Inglaterra en esta época y hasta la primera guerra mundial es la primera potencia económica mund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 este un siglo de gran interdependencia de los países latinoamericanos con Europa, gran desarrollo del comercio internacional y economías que se transmiten con rapidez sus períodos de auge y cris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de Arauco finaliza alrededor de 1880 y permite explotación de tierras al sur del Bío-Bío fundamentalmente Octava y Novena Region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Guerra del Pacífico aumenta la superficie del país en un 30% y la explotación del salitre hasta 1920 y del cobre hasta ho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2)</a:t>
            </a:r>
            <a:endParaRPr b="0" lang="en-US" sz="2400" spc="-1" strike="noStrike">
              <a:solidFill>
                <a:srgbClr val="000000"/>
              </a:solidFill>
              <a:latin typeface="Arial"/>
            </a:endParaRPr>
          </a:p>
        </p:txBody>
      </p:sp>
      <p:sp>
        <p:nvSpPr>
          <p:cNvPr id="44"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mitad del siglo XIX Chile se consolidó como un país minero, normalmente mono productor, con generación de excedentes en la agricultura que se colocaban en los mercados internacionales, y una estructura de latifundio, con una economía con un cierto grado de inflación producto del gasto público por sobre los ingresos, un sector empresarial explotó principalmente los recursos natur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ste período Chile tuvo importantes avances en integración del territorio, ferrocarriles, caminos, marina mercante y obras públicas de magnitud. Canales de regadío, puentes edificios públicos, escuela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Chile exportaba cobre a Inglaterra y USA, trigo y harinas  a Europa, productos de menor importancia en sus exportaciones eran cueros, carne salada, sebo, y mader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rincipal socio comercial era Inglaterra destino del 40% de sus exportaciones y origen del 35% de sus importaciones (185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dos tercios de las exportaciones llegaban a la isla y la mitad de las importaciones venían de allá.</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También fue importante Inglaterra en la provisión de créditos y flujos de inversión en particular para explotar la industria del salitr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rincipios del siglo XX se incorpora USA en el sector minero y energía.</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3)</a:t>
            </a:r>
            <a:endParaRPr b="0" lang="en-US" sz="2400" spc="-1" strike="noStrike">
              <a:solidFill>
                <a:srgbClr val="000000"/>
              </a:solidFill>
              <a:latin typeface="Arial"/>
            </a:endParaRPr>
          </a:p>
        </p:txBody>
      </p:sp>
      <p:sp>
        <p:nvSpPr>
          <p:cNvPr id="46"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ector financiero, Chile no manejó adecuadamente el régimen de patrón-oro en prácticamente todo el siglo, primero fijó erradamente la paridad oro-plata con respecto al mercado internacional: 11 de oro por 100 de plata cuando en Europa era 15 de oro por 100 de plata, esto hizo que hubiera fuga de plata y por lo tanto se dificultara el comercio interno al no haber moneda division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a partir de 1850 se acudió a la emisión de papel moneda y producto de las guerras España1865 y Pacífico 1879 se decretó la inconvertibilidad entre 1865 y 1895, con lo cual  se aumentó constantemente la cantidad de dinero privado  y el peso se deprecia de 31 peniques en 1879 a 15 peniques en 189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se promulga la primera Ley de Bancos, llegando a existir 17 a fines de siglo bajo la forma jurídica de S.A. La expansión de los medios de pago por el crédito y la emisión de dinero privado fue significativa y generó inflación a pesar de la restricción impuesta en 1865 de emitir sólo hasta por el monto de las  reserv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ancos fueron importante fuente de recursos para los más acaudalados pero la mayoría sólo tuvo acceso a crédito con la creación de las Cajas de Ahorro y Crédito</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4)</a:t>
            </a:r>
            <a:endParaRPr b="0" lang="en-US" sz="2400" spc="-1" strike="noStrike">
              <a:solidFill>
                <a:srgbClr val="000000"/>
              </a:solidFill>
              <a:latin typeface="Arial"/>
            </a:endParaRPr>
          </a:p>
        </p:txBody>
      </p:sp>
      <p:sp>
        <p:nvSpPr>
          <p:cNvPr id="48"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Minerí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el principal recurso minero era el cobre con una producción de 35.000 toneladas al año y algunas fundiciones la más importante ubicada en Corone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oducción  aumenta anualmente, hasta que la entrada de yacimientos en USA y España hace caer el precio desde 102 centavos la libra a 52 centavos entre 1870 y 187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parte de  la caída es amortiguada por el aumento de la demanda generada por el tendido eléctrico, el telégrafo y la red eléctrica del ferrocarril, creciendo de 150.000 toneladas en 1980 a 1.000.000 de toneladas a principios del nuevo sigl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imismo se descubren los yacimientos de El Teniente en 1904 y Chuquicamata en 1912, ambos explotados con capitales estadounidens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30 Chile empieza la explotación de salitre, producto muy solicitado como fertilizante  e insumo para explosiv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80 Chile por la anexión de Tarapacá inicia un período de país bi-productor, convirtiéndose en el primer exportador de salitre. La afluencia de riqueza no transforma la economía chilena, no hay esfuerzos significativos para promover la industrialización del país. Los ingresos del salitre se distribuyen un tercio para los propietarios (privados), un tercio en gasto de explotación y un tercio para el Estado chileno.</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40464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5)</a:t>
            </a:r>
            <a:endParaRPr b="0" lang="en-US" sz="24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decisión que refleja la escasa mirada de futuro de nuestra clase dirigente es el acuerdo del Congreso en1895 de llevar los impuestos a C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iqueza del salitre permitió la realización de algunas obras públicas, como el camino terrestre  y de ferrocarril a Valparaíso, el Viaducto del Malleco  para conectar el sur de Chile una red de ferrocarril entre Copiapó y Puerto Montt. Muy poco para riqueza genera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stra clase empresarial prefirió traer los productos manufacturados de Europa, incrementando el flujo de divisas al exterior y la des acumulación inter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arbón inicia su explotación en 1870 en la zona de Concepción, usándose en mezcla con el carbón importado como combustible en la industria minera. Su producción a fines del siglo fue de 500.000 tone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l oro y la plata también un leve aumento de producción en el perío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 la industria, de la etapa artesanal de la primera mitad del siglo se pasó a algunas industri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olinos producto de la demanda del  mercado europeo y US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estranzas producto del ferrocarril y de la mecanización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Vestuario y calzado por efecto de la guerr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general el período se caracterizó por una protección para cierto desarrollo industrial y estímulo a la inversión en máquinas y equipos, pero ello no provocó un real empresarial para producir bienes manufactur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resultado de la apertura al exterior, hubo un aumento considerable de la importancia de Valparaíso como puerto principal y desarrollo del comerc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marina mercante nacional con cerca de 90 buques se agregaron empresas de navegación inglesas, alemanas y francesas a ello se sumo la Cía sudamericana de Vapores que logró subsistir y desarrollarse.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ste desarrollo fue importante la producción de salitre y cobre que permitía volver con productos manufacturado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17:54:59Z</dcterms:created>
  <dc:creator>.</dc:creator>
  <dc:description/>
  <dc:language>en-US</dc:language>
  <cp:lastModifiedBy>.</cp:lastModifiedBy>
  <dcterms:modified xsi:type="dcterms:W3CDTF">2009-09-22T17:55:17Z</dcterms:modified>
  <cp:revision>1</cp:revision>
  <dc:subject/>
  <dc:title>Chile siglo XIX</dc:title>
</cp:coreProperties>
</file>