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922D4-E372-4391-8B67-C0307C909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635C6-4A42-4FB3-9387-FABB363F2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FF37C-4E42-4EDB-954D-884E6F79E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1ECDE-08B1-422D-A85A-E882AF789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DFAE-F1C3-42ED-8A3B-AB42151C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C7551-8936-45A2-A189-A5A6ABB2B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4DCEE-9E5D-4042-90B8-9B57862B9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27865-8AE7-4821-B9C1-413990783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00D1A-1712-4431-BE3E-8CB9182BE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4701-E342-42F2-B18F-0E43E5366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8CC15-31BD-427D-9006-82F8F37DE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0367A-5B8C-4E5B-8102-55E3737FE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AFB9-7A9A-462A-BB06-C72028D014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a:t>
            </a:r>
            <a:endParaRPr b="0" lang="en-US" sz="2400" spc="-1" strike="noStrike">
              <a:solidFill>
                <a:srgbClr val="000000"/>
              </a:solidFill>
              <a:latin typeface="Arial"/>
            </a:endParaRPr>
          </a:p>
        </p:txBody>
      </p:sp>
      <p:sp>
        <p:nvSpPr>
          <p:cNvPr id="4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atrón Or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atrón oro era  la forma como se organizó el sistema financiero el siglo XIX</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ntes de eso existió el trueque, que tenía la dificultad d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contrar a alguien que quisiera lo que uno vendía  y que uno quisiera lo que el otro ofrecía.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o siempre se optó por tratar de buscar los bienes más líquidos, es decir aquellos más fácilmente intercambiable. De ahí surge la noción de din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o puede generar riqueza por si mismo  y es aceptado como unidad de camb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urge en  el siglo XIX el oro como  divisa, es decir, como moneda  reconocida, cada país fija el tipo de cambio de su moneda en términos de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illetes y monedas emitidos por los bancos eran convertibles en o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tanto el sistema exigía una gran disciplina de los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la teoría el sistema entregaba una serie de garantías: precios estables inflación controlada, gasto fiscal controlado, tipo de cambio fijo, en definitiva estabilidad económica: cantidad de dinero limitada por la cantidad de reservas de oro.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2)</a:t>
            </a:r>
            <a:endParaRPr b="0" lang="en-US" sz="2400" spc="-1" strike="noStrike">
              <a:solidFill>
                <a:srgbClr val="000000"/>
              </a:solidFill>
              <a:latin typeface="Arial"/>
            </a:endParaRPr>
          </a:p>
        </p:txBody>
      </p:sp>
      <p:sp>
        <p:nvSpPr>
          <p:cNvPr id="44"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castigaba a quienes emitían sin respaldo, si el oro no cubre los papeles emitidos entonces hay que devaluar esto es definir un tipo de cambio en que se entregan mas unidades de monedas locales por unidad de oro, la moneda local vale menos y por lo tanto cuesta más importar (mas monedas locales) es mas barato exportar (se reciben más mone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ero devaluar tiene un costo político alt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r esto se declaraba la inconvertibilidad pero se afectaba la credibil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sistema se cae cuando el Reino Unido se niega a devaluar, empieza a perder oro y USA empieza a recibir el oro y decide emitir dólares. Este exceso va a para a parar a la bolsa aumentando artificialmente el valor de las compañías, l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e produce el desplome de la bolsa, se pierde el 90% del valor el PIB de USA cae un 60% el desempleo llega al 40% y quiebran cerca de 4.000 banc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ados Unidos retoma el patrón oro en 1934 pero ya no a 20 dólares por onza sino que a 35.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3)</a:t>
            </a:r>
            <a:endParaRPr b="0" lang="en-US" sz="2400" spc="-1" strike="noStrike">
              <a:solidFill>
                <a:srgbClr val="000000"/>
              </a:solidFill>
              <a:latin typeface="Arial"/>
            </a:endParaRPr>
          </a:p>
        </p:txBody>
      </p:sp>
      <p:sp>
        <p:nvSpPr>
          <p:cNvPr id="4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Inflación</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define como el alza sostenida del nivel de preci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70 la inflación fue un fenómeno económico presente hasta fines del siglo XX. Sus efectos son devastadores en el sistema económic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istieron numerosas teorías para tratar de explicar y remediar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definitiva la más simple explicación está dada por la ecuación :</a:t>
            </a:r>
            <a:endParaRPr b="0" lang="en-US" sz="16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MV = PQ</a:t>
            </a:r>
            <a:endParaRPr b="0" lang="en-US" sz="20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M </a:t>
            </a:r>
            <a:r>
              <a:rPr b="1" lang="es-ES_tradnl" sz="1400" spc="-1" strike="noStrike">
                <a:solidFill>
                  <a:srgbClr val="333399"/>
                </a:solidFill>
                <a:latin typeface="Arial"/>
              </a:rPr>
              <a:t>es la cantidad de Medios de Pago (dinero) (puede usarse para aumentar gasto)</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2000" spc="-1" strike="noStrike">
                <a:solidFill>
                  <a:srgbClr val="333399"/>
                </a:solidFill>
                <a:latin typeface="Arial"/>
              </a:rPr>
              <a:t>V </a:t>
            </a:r>
            <a:r>
              <a:rPr b="1" lang="es-ES_tradnl" sz="1600" spc="-1" strike="noStrike">
                <a:solidFill>
                  <a:srgbClr val="333399"/>
                </a:solidFill>
                <a:latin typeface="Arial"/>
              </a:rPr>
              <a:t> </a:t>
            </a:r>
            <a:r>
              <a:rPr b="1" lang="es-ES_tradnl" sz="1400" spc="-1" strike="noStrike">
                <a:solidFill>
                  <a:srgbClr val="333399"/>
                </a:solidFill>
                <a:latin typeface="Arial"/>
              </a:rPr>
              <a:t>es la velocidad de circulación del dinero (normalmente constan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P  </a:t>
            </a:r>
            <a:r>
              <a:rPr b="1" lang="es-ES_tradnl" sz="1400" spc="-1" strike="noStrike">
                <a:solidFill>
                  <a:srgbClr val="333399"/>
                </a:solidFill>
                <a:latin typeface="Arial"/>
              </a:rPr>
              <a:t>es el nivel de precios. (Variable de ajuste)</a:t>
            </a:r>
            <a:endParaRPr b="0" lang="en-US" sz="14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 </a:t>
            </a:r>
            <a:r>
              <a:rPr b="1" lang="es-ES_tradnl" sz="2000" spc="-1" strike="noStrike">
                <a:solidFill>
                  <a:srgbClr val="333399"/>
                </a:solidFill>
                <a:latin typeface="Arial"/>
              </a:rPr>
              <a:t>Q  </a:t>
            </a:r>
            <a:r>
              <a:rPr b="1" lang="es-ES_tradnl" sz="1400" spc="-1" strike="noStrike">
                <a:solidFill>
                  <a:srgbClr val="333399"/>
                </a:solidFill>
                <a:latin typeface="Arial"/>
              </a:rPr>
              <a:t>es la producción total en un período ( no tiene cambios de magnitu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ierden con la infl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quellos cuyas remuneraciones no se reajustan automáticament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endeudados en UF</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 benefici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ienes sí pueden reajustan sus precios (comerciantes, exportadore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95280" y="476280"/>
            <a:ext cx="82296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Notas técnicas (4)</a:t>
            </a:r>
            <a:endParaRPr b="0" lang="en-US" sz="2400" spc="-1" strike="noStrike">
              <a:solidFill>
                <a:srgbClr val="000000"/>
              </a:solidFill>
              <a:latin typeface="Arial"/>
            </a:endParaRPr>
          </a:p>
        </p:txBody>
      </p:sp>
      <p:sp>
        <p:nvSpPr>
          <p:cNvPr id="48"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odelos de Desarrollo.</a:t>
            </a:r>
            <a:endParaRPr b="0" lang="en-US" sz="20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explicar el desarrollo de las economí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Qué mecanismos  se deben adoptar para que las personas tengan una vida mejo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iglo XVIII y mediados del XIX se cree que el desarrollo se encuentra en la especialización del trabajo, la competencia de mercado y el libre comercio internacional. (Smith-Ricar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ines del XIX  se incorpora como cusas el progreso tecnológico a través de la necesidad de sobrevivencia de los empresarios generada por la compet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Weber habla de la ética del trabajo y el ahorro asociado al protestantism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Rostow en 1960 define un modelo de 5 etap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sociedad tradicional, básicamente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 la aparición de una clase empresarial y de la innova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 del despegue aumento del ingreso per cápita y del ahorro y la invers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 la del crecimiento económico sosteni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 la del consumo y generación de bienes sofisticado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7:48:10Z</dcterms:created>
  <dc:creator>.</dc:creator>
  <dc:description/>
  <dc:language>en-US</dc:language>
  <cp:lastModifiedBy>.</cp:lastModifiedBy>
  <dcterms:modified xsi:type="dcterms:W3CDTF">2009-09-09T17:48:36Z</dcterms:modified>
  <cp:revision>1</cp:revision>
  <dc:subject/>
  <dc:title>Notas técnicas</dc:title>
</cp:coreProperties>
</file>