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B3A701-4031-4EFF-BD2F-755427E225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92C7D-36F7-49C6-8AD9-28BB3836B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D5D4E4-F8D7-47C4-92D9-5F2E86316A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F4B017-4AB0-4737-9D09-8B81A27315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0E012-8BEB-4B49-882E-3FAD65C94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E886F-24E9-4A24-8980-A2A2C1A33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208F4-D455-429A-AD4E-4CD34C2D5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DFDA3-D52F-48F7-A1E6-95285554B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CA548-439A-4D5D-8132-373CB7E38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6E562-EB50-49A4-AA99-303AB4E1B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3BB0E-08C4-4563-B382-63EDC2F7F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2552E-F2D2-41CD-AE9F-50ABB227C8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56940-8CC0-47DA-8C3D-54D6F531927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Notas técnicas</a:t>
            </a:r>
            <a:endParaRPr b="0" lang="en-US" sz="2400" spc="-1" strike="noStrike">
              <a:solidFill>
                <a:srgbClr val="000000"/>
              </a:solidFill>
              <a:latin typeface="Arial"/>
            </a:endParaRPr>
          </a:p>
        </p:txBody>
      </p:sp>
      <p:sp>
        <p:nvSpPr>
          <p:cNvPr id="42"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Patrón Oro</a:t>
            </a:r>
            <a:endParaRPr b="0" lang="en-US" sz="20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patrón oro era  la forma como se organizó el sistema financiero el siglo XIX</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ntes de eso existió el trueque, que tenía la dificultad de:</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contrar a alguien que quisiera lo que uno vendía  y que uno quisiera lo que el otro ofrecía. </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or eso siempre se optó por tratar de buscar los bienes más líquidos, es decir aquellos más fácilmente intercambiable. De ahí surge la noción de diner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No puede generar riqueza por si mismo  y es aceptado como unidad de cambi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urge en  el siglo XIX el oro como  divisa, es decir, como moneda  reconocida, cada país fija el tipo de cambio de su moneda en términos de or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os billetes y monedas emitidos por los bancos eran convertibles en or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or tanto el sistema exigía una gran disciplina de los banc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la teoría el sistema entregaba una serie de garantías: precios estables inflación controlada, gasto fiscal controlado, tipo de cambio fijo, en definitiva estabilidad económica: cantidad de dinero limitada por la cantidad de reservas de oro. </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Notas técnicas (2)</a:t>
            </a:r>
            <a:endParaRPr b="0" lang="en-US" sz="2400" spc="-1" strike="noStrike">
              <a:solidFill>
                <a:srgbClr val="000000"/>
              </a:solidFill>
              <a:latin typeface="Arial"/>
            </a:endParaRPr>
          </a:p>
        </p:txBody>
      </p:sp>
      <p:sp>
        <p:nvSpPr>
          <p:cNvPr id="44"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sistema castigaba a quienes emitían sin respaldo, si el oro no cubre los papeles emitidos entonces hay que devaluar esto es definir un tipo de cambio en que se entregan mas unidades de monedas locales por unidad de oro, la moneda local vale menos y por lo tanto cuesta más importar (mas monedas locales) es mas barato exportar (se reciben más moned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ero devaluar tiene un costo político alt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or esto se declaraba la inconvertibilidad pero se afectaba la credibilidad.</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sistema se cae cuando el Reino Unido se niega a devaluar, empieza a perder oro y USA empieza a recibir el oro y decide emitir dólares. Este exceso va a para a parar a la bolsa aumentando artificialmente el valor de las compañías, lo </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que produce el desplome de la bolsa, se pierde el 90% del valor el PIB de USA cae un 60% el desempleo llega al 40% y quiebran cerca de 4.000 banc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stados Unidos retoma el patrón oro en 1934 pero ya no a 20 dólares por onza sino que a 35.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259920"/>
            <a:ext cx="82296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Notas técnicas (3)</a:t>
            </a:r>
            <a:endParaRPr b="0" lang="en-US" sz="2400" spc="-1" strike="noStrike">
              <a:solidFill>
                <a:srgbClr val="000000"/>
              </a:solidFill>
              <a:latin typeface="Arial"/>
            </a:endParaRPr>
          </a:p>
        </p:txBody>
      </p:sp>
      <p:sp>
        <p:nvSpPr>
          <p:cNvPr id="46" name="PlaceHolder 2"/>
          <p:cNvSpPr>
            <a:spLocks noGrp="1"/>
          </p:cNvSpPr>
          <p:nvPr>
            <p:ph/>
          </p:nvPr>
        </p:nvSpPr>
        <p:spPr>
          <a:xfrm>
            <a:off x="457200" y="691920"/>
            <a:ext cx="8229600" cy="5832360"/>
          </a:xfrm>
          <a:prstGeom prst="rect">
            <a:avLst/>
          </a:prstGeom>
          <a:noFill/>
          <a:ln w="0">
            <a:noFill/>
          </a:ln>
        </p:spPr>
        <p:txBody>
          <a:bodyPr lIns="90000" rIns="90000" tIns="46800" bIns="46800" anchor="t">
            <a:normAutofit/>
          </a:bodyPr>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La Inflación</a:t>
            </a:r>
            <a:endParaRPr b="0" lang="en-US" sz="20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e  define como el alza sostenida del nivel de preci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 partir de 1870 la inflación fue un fenómeno económico presente hasta fines del siglo XX. Sus efectos son devastadores en el sistema económic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xistieron numerosas teorías para tratar de explicar y remediar la inflació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definitiva la más simple explicación está dada por la ecuación :</a:t>
            </a:r>
            <a:endParaRPr b="0" lang="en-US" sz="1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                                                    </a:t>
            </a:r>
            <a:r>
              <a:rPr b="1" lang="es-ES_tradnl" sz="2000" spc="-1" strike="noStrike">
                <a:solidFill>
                  <a:srgbClr val="333399"/>
                </a:solidFill>
                <a:latin typeface="Arial"/>
              </a:rPr>
              <a:t>MV = PQ</a:t>
            </a:r>
            <a:endParaRPr b="0" lang="en-US" sz="2000" spc="-1" strike="noStrike">
              <a:solidFill>
                <a:srgbClr val="000000"/>
              </a:solidFill>
              <a:latin typeface="Arial"/>
            </a:endParaRPr>
          </a:p>
          <a:p>
            <a:pPr marL="343080" indent="-343080">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 </a:t>
            </a:r>
            <a:r>
              <a:rPr b="1" lang="es-ES_tradnl" sz="2000" spc="-1" strike="noStrike">
                <a:solidFill>
                  <a:srgbClr val="333399"/>
                </a:solidFill>
                <a:latin typeface="Arial"/>
              </a:rPr>
              <a:t>M </a:t>
            </a:r>
            <a:r>
              <a:rPr b="1" lang="es-ES_tradnl" sz="1400" spc="-1" strike="noStrike">
                <a:solidFill>
                  <a:srgbClr val="333399"/>
                </a:solidFill>
                <a:latin typeface="Arial"/>
              </a:rPr>
              <a:t>es la cantidad de Medios de Pago (dinero) (puede usarse para aumentar gasto)</a:t>
            </a:r>
            <a:endParaRPr b="0" lang="en-US" sz="1400" spc="-1" strike="noStrike">
              <a:solidFill>
                <a:srgbClr val="000000"/>
              </a:solidFill>
              <a:latin typeface="Arial"/>
            </a:endParaRPr>
          </a:p>
          <a:p>
            <a:pPr marL="343080" indent="-343080">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 </a:t>
            </a:r>
            <a:r>
              <a:rPr b="1" lang="es-ES_tradnl" sz="2000" spc="-1" strike="noStrike">
                <a:solidFill>
                  <a:srgbClr val="333399"/>
                </a:solidFill>
                <a:latin typeface="Arial"/>
              </a:rPr>
              <a:t>V </a:t>
            </a:r>
            <a:r>
              <a:rPr b="1" lang="es-ES_tradnl" sz="1600" spc="-1" strike="noStrike">
                <a:solidFill>
                  <a:srgbClr val="333399"/>
                </a:solidFill>
                <a:latin typeface="Arial"/>
              </a:rPr>
              <a:t> </a:t>
            </a:r>
            <a:r>
              <a:rPr b="1" lang="es-ES_tradnl" sz="1400" spc="-1" strike="noStrike">
                <a:solidFill>
                  <a:srgbClr val="333399"/>
                </a:solidFill>
                <a:latin typeface="Arial"/>
              </a:rPr>
              <a:t>es la velocidad de circulación del dinero (normalmente constante)</a:t>
            </a:r>
            <a:endParaRPr b="0" lang="en-US" sz="1400" spc="-1" strike="noStrike">
              <a:solidFill>
                <a:srgbClr val="000000"/>
              </a:solidFill>
              <a:latin typeface="Arial"/>
            </a:endParaRPr>
          </a:p>
          <a:p>
            <a:pPr marL="343080" indent="-343080">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 </a:t>
            </a:r>
            <a:r>
              <a:rPr b="1" lang="es-ES_tradnl" sz="2000" spc="-1" strike="noStrike">
                <a:solidFill>
                  <a:srgbClr val="333399"/>
                </a:solidFill>
                <a:latin typeface="Arial"/>
              </a:rPr>
              <a:t>P  </a:t>
            </a:r>
            <a:r>
              <a:rPr b="1" lang="es-ES_tradnl" sz="1400" spc="-1" strike="noStrike">
                <a:solidFill>
                  <a:srgbClr val="333399"/>
                </a:solidFill>
                <a:latin typeface="Arial"/>
              </a:rPr>
              <a:t>es el nivel de precios. (Variable de ajuste)</a:t>
            </a:r>
            <a:endParaRPr b="0" lang="en-US" sz="1400" spc="-1" strike="noStrike">
              <a:solidFill>
                <a:srgbClr val="000000"/>
              </a:solidFill>
              <a:latin typeface="Arial"/>
            </a:endParaRPr>
          </a:p>
          <a:p>
            <a:pPr marL="343080" indent="-343080">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 </a:t>
            </a:r>
            <a:r>
              <a:rPr b="1" lang="es-ES_tradnl" sz="2000" spc="-1" strike="noStrike">
                <a:solidFill>
                  <a:srgbClr val="333399"/>
                </a:solidFill>
                <a:latin typeface="Arial"/>
              </a:rPr>
              <a:t>Q  </a:t>
            </a:r>
            <a:r>
              <a:rPr b="1" lang="es-ES_tradnl" sz="1400" spc="-1" strike="noStrike">
                <a:solidFill>
                  <a:srgbClr val="333399"/>
                </a:solidFill>
                <a:latin typeface="Arial"/>
              </a:rPr>
              <a:t>es la producción total en un período ( no tiene cambios de magnitud)</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ierden con la inflació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quellos cuyas remuneraciones no se reajustan automáticamente</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os endeudados en UF</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e beneficia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Quienes sí pueden reajustan sus precios (comerciantes, exportadores)</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95280" y="476280"/>
            <a:ext cx="8229600" cy="28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Notas técnicas (4)</a:t>
            </a:r>
            <a:endParaRPr b="0" lang="en-US" sz="2400" spc="-1" strike="noStrike">
              <a:solidFill>
                <a:srgbClr val="000000"/>
              </a:solidFill>
              <a:latin typeface="Arial"/>
            </a:endParaRPr>
          </a:p>
        </p:txBody>
      </p:sp>
      <p:sp>
        <p:nvSpPr>
          <p:cNvPr id="48"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Modelos de Desarrollo.</a:t>
            </a:r>
            <a:endParaRPr b="0" lang="en-US" sz="20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Como explicar el desarrollo de las economí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Qué mecanismos  se deben adoptar para que las personas tengan una vida mejor?</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l siglo XVIII y mediados del XIX se cree que el desarrollo se encuentra en la especialización del trabajo, la competencia de mercado y el libre comercio internacional. (Smith-Ricard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Fines del XIX  se incorpora como cusas el progreso tecnológico a través de la necesidad de sobrevivencia de los empresarios generada por la competenci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Weber habla de la ética del trabajo y el ahorro asociado al protestantismo. </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Rostow en 1960 define un modelo de 5 etap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 la sociedad tradicional, básicamente agrícol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b) la aparición de una clase empresarial y de la innovació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c) del despegue aumento del ingreso per cápita y del ahorro y la inversió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d) la del crecimiento económico sostenid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 la del consumo y generación de bienes sofisticado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17:48:10Z</dcterms:created>
  <dc:creator>.</dc:creator>
  <dc:description/>
  <dc:language>en-US</dc:language>
  <cp:lastModifiedBy>.</cp:lastModifiedBy>
  <dcterms:modified xsi:type="dcterms:W3CDTF">2009-09-09T17:48:36Z</dcterms:modified>
  <cp:revision>1</cp:revision>
  <dc:subject/>
  <dc:title>Notas técnicas</dc:title>
</cp:coreProperties>
</file>