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716-A193-4DB7-A16A-79F8333C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442-4ADE-46CA-A83A-3C56BB7D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5AD-A28B-48FE-9DBE-A926F4BF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3C0-6C61-4441-A0A9-B2CA5A06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3C9-D6E1-4898-8BA3-9365C242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3C4-617F-495D-9C8C-722ADBB8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E4A-62A3-4DBB-B086-0ED00D5D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219-D755-46E3-B857-8F9FD37A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EB2-95A8-4F5F-BA6F-B1A4E623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9CC-4A70-4294-9EA8-4DAF2831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DF6-9A2D-41E8-98A3-7D07317D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B4F-3991-4F68-8082-7B115AF7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0280-A94E-43EA-A967-DDD348BE8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492360" y="-7012080"/>
            <a:ext cx="16190640" cy="2176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 Chile este período va de 1810 a 1830 con dos etap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1.- la Guerra por la Independencia. 1810-1814  1814-1817 1818 - 18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2.- Formación del Es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Causas y motivaciones de la Independencia similares a las vistas con Argent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proceso político lo resumiremos al final de la se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el campo económico con el objeto de atraer capitales e invers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dicta en 1811 un tratado de Libre Comercio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umenta puertos abiertos a cuatro (valdivia, Talcahuano, Valparaíso y Coquimb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Baja el arancel de Importación a 30%, liberando a las armas, libros, imprentas maquinaria industr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Incentiva el cabotaje nacional con arancel diferenciado 10% a nacionales y 20% a extranje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prohíbe exportación de plata y oro en lingotes sólo acuñ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imita el comercio al detalle a los 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os extranjeros fundamentalmente británicos son dueños de los grandes almacenes y de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términos generales pretendía ser un programa proteccionista y estimulador de la industria nacional, pero dichas medidas fueron superadas por el estímulo al comercio exter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clarada la Independencia se cierra el comercio con Perú, afectando las exportaciones en particular las agrícolas y las importaciones con su efecto en el nivel de v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 en la década del 20 que se restablece el comercio pero ya con Europa, Inglaterra y Francia y con Estados Un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crea una gran oferta de productos manufacturados importados, el establecimiento de grandes comerciantes ingleses en Valparaíso y junto con ello la asfixia de todo intento de desarrollar industria nacional incapaz de competir  con las grandes pote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agricultura pierde importancia en esta época muy afectada por la guerra y por la carencia de mano de obra derivada del conflic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ólo se recuperará en la segunda mitad del siglo  producto de acontecimientos exter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este período, el campo se desorganiza y se abandonan tier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la minería, se produjo la llegada de nuevos empresarios que aportaron su conocimiento básicamente comercial del negocio. Hubo algunos adelantos técnicos menores y de poca significación para la produ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e descubrieron dos nuevos yacimientos de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el caso del cobre, el aumento de la demanda mundial provocó el interés de compañías británicas por su explotación, esta casi fracasó por la diferencia de remuneraciones con los 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te fue el primer intento conocido de extraer cobre por empresas extranje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gasto bélico presionó durante hasta 1826 el presupuesto nacional, se aumentó el número de soldados y la producción e importación de equip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aumento de los ingresos fiscales tuvo como fu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.- el aumento de los impuestos ordinarios y creación de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.- las contribuciones forz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3.- contribuciones volunta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servicio de la deuda equivalía a la mitad del presup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e consigue el primer préstamo internacional en 1822 con un banco ing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imposibilidad de cancelar las cuotas hace que se licite el estanco del Tabaco a Portales y Cía. Quien fracasa en este objetivo y debe liquidar el contrato, de aquí viene el nombre de Estanqueros a los adherentes a Por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4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la búqueda de un modelo económico se produce una extranjerización de la economía , el comercio es tomado por los ingleses a 1825 se cree que había 3000 de ellos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atraso en las técnicas comerciales, la partida doble se aplica desde 1885, el desconocimiento de las letras de cambio, la ausencia de bancos y de modelos legales para formar sociedades, provocaron este retraso y perdida de po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 así como ganada la independencia, el Estado  tiene un activo papel como determinador de impuestos mantención de situaciones monopólicas y leyes de privileg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Una ley en 1840 protege la producción de bienes manufacturados dando el monopolio al empresario favorec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to se produce en un ambiente de cierta confusión en que se es liberal en algunas cuestiones y proteccionista en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Conviene señalar que el período 1830  1860 va a ser de un extraordinario crecimiento del comercio mund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Al final de este período se produce un aumento significativo de la demanda por cobre el cual luego de corregirse el impuesto a la exportación se empieza a convertir en producto de ex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En este caso se incorpora un avance tecnológico ( nuevos Hornos) que permiten  fundir minerales que en el sistema antiguo se desprecia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3:05:47Z</dcterms:created>
  <dc:creator>CASA</dc:creator>
  <dc:description/>
  <dc:language>en-US</dc:language>
  <cp:lastModifiedBy>CASA</cp:lastModifiedBy>
  <dcterms:modified xsi:type="dcterms:W3CDTF">2009-08-30T23:08:41Z</dcterms:modified>
  <cp:revision>1</cp:revision>
  <dc:subject/>
  <dc:title>Diapositiva 1</dc:title>
</cp:coreProperties>
</file>