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2888-EA29-4869-A453-45751262BE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F8E6-6A31-46D5-9A5D-9A665C7223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1FA8-EA47-4DCC-91F1-7EB64481F0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AA78-649D-4552-A554-4E88933529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B927-96EA-4839-A510-256CE8BDEF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2DCB-B570-44F2-8153-4307E77C67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DD97-00B0-41D2-9EEF-3BE81884F9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FA26-D81B-4D53-A745-EAEE419FAE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E871-37B4-4003-BB01-F3D9B801FB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E3E1-C0AC-4D9D-B1FA-8765FDA38C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C82B-2F3B-44B6-B230-2217392EC1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AE50-ADBF-429C-AEC3-D1C9810C82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B8BD-7D77-4D58-97E7-B45BA57277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26F8-1B82-4F68-979D-4484D09D49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AA01-F229-4DD0-80CB-C1895823A5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68CB-37EC-4115-8B61-1B007031C8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4D1D-F35E-4D30-9F6A-AA07A26C57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8AB5-8937-40FC-A981-CECBAE4085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04EF-FC81-43F9-9F31-39EDE83D3E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559C-A5E3-40F4-85F1-D10ED0198C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00D0-12B6-477D-A5DF-CCCC2C053D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DC0D-A820-4161-BA51-E726088F16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97C-D1B8-47C1-B0B5-484EA2B5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0B8-6E00-4E39-9424-F6CB0B3B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87D-33BA-4542-8BCD-07F7C51F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2D7-B45F-4F2E-B9FE-961C97EB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D9C-8E62-4D84-9624-B803F162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15C-DFDD-4B2B-9329-A54E2F7A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801-93E1-4E37-A4E9-FE262B08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977-8A22-4129-A142-2CD1FDA6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216-B1CE-4E2D-8994-EB7920E6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6C9-4CF8-4054-9B29-416FFF05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1FC-CD84-4DE2-BCBC-E10274A1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C42-50F6-4BA4-9045-60ADE95C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9768-019D-4401-B0F1-5BA55B16F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66"/>
                </a:solidFill>
                <a:latin typeface="Arial"/>
              </a:rPr>
              <a:t>Mé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Conquista y Col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3. La Colonia…Institucionalidad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9 CuadroTexto"/>
          <p:cNvSpPr/>
          <p:nvPr/>
        </p:nvSpPr>
        <p:spPr>
          <a:xfrm>
            <a:off x="642960" y="10587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rupción ¿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12 Grupo"/>
          <p:cNvGrpSpPr/>
          <p:nvPr/>
        </p:nvGrpSpPr>
        <p:grpSpPr>
          <a:xfrm>
            <a:off x="1571760" y="1623960"/>
            <a:ext cx="7072200" cy="2649600"/>
            <a:chOff x="1571760" y="1623960"/>
            <a:chExt cx="7072200" cy="2649600"/>
          </a:xfrm>
        </p:grpSpPr>
        <p:sp>
          <p:nvSpPr>
            <p:cNvPr id="95" name="10 CuadroTexto"/>
            <p:cNvSpPr/>
            <p:nvPr/>
          </p:nvSpPr>
          <p:spPr>
            <a:xfrm>
              <a:off x="1571760" y="1623960"/>
              <a:ext cx="7072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Alcaldes mayores y corregidores: mediar entre cabildos de indios y españoles dentro de los cabildos y entre estos y la jurisdicción de la Ciudad de México. Actuaban como jueces de primera instancia y mantenían el orden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11 CuadroTexto"/>
            <p:cNvSpPr/>
            <p:nvPr/>
          </p:nvSpPr>
          <p:spPr>
            <a:xfrm>
              <a:off x="2143080" y="2687760"/>
              <a:ext cx="56437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Al principio: nombrados por el rey y con sueldo regula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Encontraron más lucrativo comerciar con los pueblos y comunidades indias. Los virreyes compensaban con estos cargos a miembros de su familia o pagaban servicios prestados. Al final se daba sólo el cargo sin sueldo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argo de regidor vendible a criollos por un donativo al rey (cargo hered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21 CuadroTexto"/>
          <p:cNvSpPr/>
          <p:nvPr/>
        </p:nvSpPr>
        <p:spPr>
          <a:xfrm>
            <a:off x="2500200" y="4540320"/>
            <a:ext cx="6072480" cy="201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1621-1643 Los colonias perdieron el trato diferencial de la Corona y se convirtieron reinos con las mismas obligaciones que la Peníns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Más con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Defensa de ataques comerciales y militares de Inglaterra, Francia y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Fracaso: más autonomía de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4 .La Colonia…econom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7 CuadroTexto"/>
          <p:cNvSpPr/>
          <p:nvPr/>
        </p:nvSpPr>
        <p:spPr>
          <a:xfrm>
            <a:off x="642960" y="8571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ducción de población indígen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CuadroTexto"/>
          <p:cNvSpPr/>
          <p:nvPr/>
        </p:nvSpPr>
        <p:spPr>
          <a:xfrm>
            <a:off x="1571760" y="120816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uptura del orden interno de las comunidades, movilidad geográfica hacia ciudades y centros mineros o zonas de refugios. Mano de obra dispo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mpacto en producción:  actividad económica que usaba menos mano de obra, transformación de campos AGRÍCOLAS en campos GANAD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1 CuadroTexto"/>
          <p:cNvSpPr/>
          <p:nvPr/>
        </p:nvSpPr>
        <p:spPr>
          <a:xfrm>
            <a:off x="642960" y="22860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mpacto del ganado y bestias de carga: Revolución tecnológica que no se vería hasta el ferrocarr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2 CuadroTexto"/>
          <p:cNvSpPr/>
          <p:nvPr/>
        </p:nvSpPr>
        <p:spPr>
          <a:xfrm>
            <a:off x="1571760" y="2946240"/>
            <a:ext cx="7072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impacto de una revolución tecnológica es que se puede producir más con la misma cantidad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Nueva fuente de energía y transporte más eficiente que la hum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enso la caída en la pob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nsformación de mineral en pl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unicaciones y transportes (carretas), permitió cierta vinculación entre reg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7 CuadroTexto"/>
          <p:cNvSpPr/>
          <p:nvPr/>
        </p:nvSpPr>
        <p:spPr>
          <a:xfrm>
            <a:off x="642960" y="4929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rcio, en un principio, mantuvo los rasgos prehispán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9 CuadroTexto"/>
          <p:cNvSpPr/>
          <p:nvPr/>
        </p:nvSpPr>
        <p:spPr>
          <a:xfrm>
            <a:off x="1571760" y="5292720"/>
            <a:ext cx="70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rcados y tiang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smos grupos de mercaderes hasta fines del S.XVI pero aprovechando nuevos medios de transporte y nuevos merc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4. La Colonia…econom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7 CuadroTexto"/>
          <p:cNvSpPr/>
          <p:nvPr/>
        </p:nvSpPr>
        <p:spPr>
          <a:xfrm>
            <a:off x="642960" y="14158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ducción de pl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8 CuadroTexto"/>
          <p:cNvSpPr/>
          <p:nvPr/>
        </p:nvSpPr>
        <p:spPr>
          <a:xfrm>
            <a:off x="1571760" y="2295360"/>
            <a:ext cx="707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sa de Moneda de México: moneda acuñada 1550: 1.5 mill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580: 3.0 mill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600: 4.5 mill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imer productor mundial de plata S.X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producción de plata no disminuye en los S. XVII y XV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inculación con la economía española y europ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ermitió el comercio interno: economías locales con comercio gracias a la pl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0040" y="71280"/>
            <a:ext cx="8186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66"/>
                </a:solidFill>
                <a:latin typeface="Arial"/>
              </a:rPr>
              <a:t>5. Repunte de la población y sociedad (1650-175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7 CuadroTexto"/>
          <p:cNvSpPr/>
          <p:nvPr/>
        </p:nvSpPr>
        <p:spPr>
          <a:xfrm>
            <a:off x="642960" y="7142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punte demográf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CuadroTexto"/>
          <p:cNvSpPr/>
          <p:nvPr/>
        </p:nvSpPr>
        <p:spPr>
          <a:xfrm>
            <a:off x="1571760" y="1046160"/>
            <a:ext cx="70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blación indígena: generó defensas ante enfermedades, última gran epidemia 1578-15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blación mestiza, mulata y criolla: La que más creci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42960" y="2644920"/>
          <a:ext cx="7929720" cy="4046400"/>
        </p:xfrm>
        <a:graphic>
          <a:graphicData uri="http://schemas.openxmlformats.org/drawingml/2006/table">
            <a:tbl>
              <a:tblPr/>
              <a:tblGrid>
                <a:gridCol w="2035080"/>
                <a:gridCol w="1982880"/>
                <a:gridCol w="1982880"/>
                <a:gridCol w="1928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indíg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españ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crio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mesti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6: 1,3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6: 2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0: 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6: 14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4: 8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dad de México 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6: 27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6: 7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ominaba en el no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autonomía: explotaban condición de miserables para ocultar bienes y evadir trib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o de obra, tierra y agua su riqu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desaparecer la encomienda  se convirtieron en: hacendados, comerciantes, profesionales, eclesiásticos, funcionarios reales y servidores públ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ados: no pagaban tributo por lo que no tenían estatuto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m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greso al cl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ceso a la Un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ficios públ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IEROS: transporte de ganado y productos ya sea legal o contraba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ígenas, españoles y mestizos debieron interactuar m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21 CuadroTexto"/>
          <p:cNvSpPr/>
          <p:nvPr/>
        </p:nvSpPr>
        <p:spPr>
          <a:xfrm>
            <a:off x="2928960" y="1903320"/>
            <a:ext cx="53578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Carecía de estatuto jurídico y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Población espuria producto de una unión ilegí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6. Integración territorial de la Colo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7 CuadroTexto"/>
          <p:cNvSpPr/>
          <p:nvPr/>
        </p:nvSpPr>
        <p:spPr>
          <a:xfrm>
            <a:off x="642960" y="109692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iudades capitales y puertos: centros de unión de la red de caminos y ríos navegables que unían áreas agrícolas y ganaderas con los centros miner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CuadroTexto"/>
          <p:cNvSpPr/>
          <p:nvPr/>
        </p:nvSpPr>
        <p:spPr>
          <a:xfrm>
            <a:off x="1571760" y="1928880"/>
            <a:ext cx="707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o no significa que el territorio estuviera integrado: más bien significa que alrededor de un centro minero se desarrollaba agricultura y ganadería que sustentara la actividad mi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usencia de rutas terrestres desarrollo de rutas marítimas que limitaron el comercio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a agricultura y ganadería se desarrollaba de acuerdo a las características productivas y sociales de la reg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fueron constituyendo así características regionales que todavía se pueden observar en la actu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42960" y="4270320"/>
          <a:ext cx="8001000" cy="243828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entro-S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entro-N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de villas y pueblos indios y centros mineros que conviven con ciudades españ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dades españ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ba al norte productos y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 sur al centro productos nativos (grana cochinilla y cacao) y productos chinos (Nao de Ch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ban al centro mineral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ado menor en comunidades indíge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fundio ganadero que sustentó el desarrollo min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7 CuadroTexto"/>
          <p:cNvSpPr/>
          <p:nvPr/>
        </p:nvSpPr>
        <p:spPr>
          <a:xfrm>
            <a:off x="642960" y="139716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teracción entre áreas de producción y concentraciones urbanas: a mayor concentración urbana mayor área agrícola, ganadera y min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CuadroTexto"/>
          <p:cNvSpPr/>
          <p:nvPr/>
        </p:nvSpPr>
        <p:spPr>
          <a:xfrm>
            <a:off x="1571760" y="2073240"/>
            <a:ext cx="707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da actividad productiva permitía que se desarrollaran las de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Trigo y ganado corrían ju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Maíz trans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Agricultura permitía que la minería se desarroll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Tej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 Esta “suficiencia” regional y lo difícil de las comunicaciones terrestres limitaron la creación de un mercado inter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551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CuadroTexto"/>
          <p:cNvSpPr/>
          <p:nvPr/>
        </p:nvSpPr>
        <p:spPr>
          <a:xfrm>
            <a:off x="642960" y="1357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nopolios y prohibición de producció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CuadroTexto"/>
          <p:cNvSpPr/>
          <p:nvPr/>
        </p:nvSpPr>
        <p:spPr>
          <a:xfrm>
            <a:off x="1571760" y="1643040"/>
            <a:ext cx="707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nopolio mercantil: Finales del S.XVI mercaderes ricos se agruparon en una corporación mercantil (Tribunal del Consulado) que controlaba la circulación de: plata productos importados (mercurio, fierro, papel, tejidos y productos agrícolas mediterráne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rza del monopolio: control de productos para la producción minera (azogue y fierro) y bienes de lujo para criollos y penins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hibiciones para producir con el fin de mantener en el monopolio: olivo, viñas. Destrucción de moreras (sed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upresión de comercio con Perú (163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9 CuadroTexto"/>
          <p:cNvSpPr/>
          <p:nvPr/>
        </p:nvSpPr>
        <p:spPr>
          <a:xfrm>
            <a:off x="642960" y="42292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ble monopolio: el de las Casas de Cádiz y Sevilla que hacían los cargamentos y las de las ferias de comerci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s acciones de la Corona implicaron una pérdida de eficiencia y además comprometieron la capacidad productiva de la Nueva Espa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19 Grupo"/>
          <p:cNvGrpSpPr/>
          <p:nvPr/>
        </p:nvGrpSpPr>
        <p:grpSpPr>
          <a:xfrm>
            <a:off x="500040" y="2865600"/>
            <a:ext cx="8429760" cy="2188440"/>
            <a:chOff x="500040" y="2865600"/>
            <a:chExt cx="8429760" cy="2188440"/>
          </a:xfrm>
        </p:grpSpPr>
        <p:sp>
          <p:nvSpPr>
            <p:cNvPr id="128" name="20 CuadroTexto"/>
            <p:cNvSpPr/>
            <p:nvPr/>
          </p:nvSpPr>
          <p:spPr>
            <a:xfrm>
              <a:off x="500040" y="2865600"/>
              <a:ext cx="787392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uptura parcial del monopolio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21 CuadroTexto"/>
            <p:cNvSpPr/>
            <p:nvPr/>
          </p:nvSpPr>
          <p:spPr>
            <a:xfrm>
              <a:off x="1843200" y="3256560"/>
              <a:ext cx="7086600" cy="1797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Se rompió el monopolio de las Casas de Cádiz y Sevilla por el contrabando en complicidad con los mercaderes. Más productos y más barato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Grandes ganancias a comerciantes: ingleses, holandeses e hispanoamerica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slas del Cari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mercio legal creció poco lo que impacto en la decadencia españo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20 CuadroTexto"/>
          <p:cNvSpPr/>
          <p:nvPr/>
        </p:nvSpPr>
        <p:spPr>
          <a:xfrm>
            <a:off x="1143000" y="2143080"/>
            <a:ext cx="3429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¿Qué es un monopolio? ¿Cómo impacta al bienest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1 CuadroTexto"/>
          <p:cNvSpPr/>
          <p:nvPr/>
        </p:nvSpPr>
        <p:spPr>
          <a:xfrm>
            <a:off x="5000760" y="2130480"/>
            <a:ext cx="34588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¿Por qué el monopolio? ¿Cómo se explica históricame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66"/>
                </a:solidFill>
                <a:latin typeface="Arial"/>
              </a:rPr>
              <a:t>8. Caldo de cultivo a la independencia (mediados del S.XV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9 CuadroTexto"/>
          <p:cNvSpPr/>
          <p:nvPr/>
        </p:nvSpPr>
        <p:spPr>
          <a:xfrm>
            <a:off x="642960" y="2205000"/>
            <a:ext cx="7858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fría consecuencias de la política madrileña y los cambios administ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esiva presión fiscal y enfrentamiento entre la administración real y estament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ción indígena en revueltas: signo de que el acuerdo institucional que contaba con el apoyo de gobernadores y caciques indios se empezaba a desquebra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borbónicas afectaron a los reinos españoles: afectaron  los comerciantes y más 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9120" y="200160"/>
            <a:ext cx="8229600" cy="92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66"/>
                </a:solidFill>
                <a:latin typeface="Arial"/>
              </a:rPr>
              <a:t>Índ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200" y="1555560"/>
            <a:ext cx="81471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Fin del imperio mexica – CONQU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antece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institu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repunte de la población y soc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integración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economía otra ve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aldo de cultivo para la in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57200" y="-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7 CuadroTexto"/>
          <p:cNvSpPr/>
          <p:nvPr/>
        </p:nvSpPr>
        <p:spPr>
          <a:xfrm>
            <a:off x="642960" y="5716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uropa: Ideas económicas y políticas S. XVI al S.XV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8 CuadroTexto"/>
          <p:cNvSpPr/>
          <p:nvPr/>
        </p:nvSpPr>
        <p:spPr>
          <a:xfrm>
            <a:off x="1571760" y="1000080"/>
            <a:ext cx="7072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jerencia del Estado en la Economía (proteccionismo, restricciones a la producción, impue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ormación de Estados-Nación fuertes (integración del mercado inter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speridad de una nación depende de la acumulación de c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apital: metales preciosos a través de una balanza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omercial positiva. Favorecer exportaciones sobre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impor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Los reyes desean la mayor cantidad de oro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po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economía un juego de suma cero: potencias europeas luchando por el control de los mercados disponibles en el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apital: metales preciosos a través de una balanza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omercial positiva. Favorecer exportaciones sobre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impor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14240" y="5013360"/>
          <a:ext cx="8215560" cy="1341360"/>
        </p:xfrm>
        <a:graphic>
          <a:graphicData uri="http://schemas.openxmlformats.org/drawingml/2006/table">
            <a:tbl>
              <a:tblPr/>
              <a:tblGrid>
                <a:gridCol w="2738520"/>
                <a:gridCol w="2738520"/>
                <a:gridCol w="2738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ntilismo franc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ntilismo 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ntilismo español (bullionis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iz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o ex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mulación de metales preciosos.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ubrimiento y metales de Amér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Mercantilismo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7 CuadroTexto"/>
          <p:cNvSpPr/>
          <p:nvPr/>
        </p:nvSpPr>
        <p:spPr>
          <a:xfrm>
            <a:off x="642960" y="11304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deas mercantilistas que no necesariamente se respetaron en 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8 CuadroTexto"/>
          <p:cNvSpPr/>
          <p:nvPr/>
        </p:nvSpPr>
        <p:spPr>
          <a:xfrm>
            <a:off x="1571760" y="1571760"/>
            <a:ext cx="7072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Todas las materias primas de un país deben ser utilizadas en manufacturas nacionales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prohibiciones a la producció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597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Fomentar una población grande y trabajadora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los mestizos no tienen un estatus legal, no se incorporan en la estructura y ni tributo pagaban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- Que se obstaculicen cuanto sea posible las importaciones de bienes extranjeros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importaciones a la Nueva España!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- Vender el excedente de manufacturas a otros países a cambio de oro y plata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no producción interna y en muchos casos los españoles comerciaban en la Nueva España productos de otro países por conseguir oro y plata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7 CuadroTexto"/>
          <p:cNvSpPr/>
          <p:nvPr/>
        </p:nvSpPr>
        <p:spPr>
          <a:xfrm>
            <a:off x="642960" y="45720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mpresarios beneficiados: monopolios, prohibiciones a las importaciones, pobreza de trabaj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biernos beneficiados: costo de los aranceles y pago de los mercad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7 Flecha izquierda"/>
          <p:cNvSpPr/>
          <p:nvPr/>
        </p:nvSpPr>
        <p:spPr>
          <a:xfrm>
            <a:off x="6643800" y="5643720"/>
            <a:ext cx="1928880" cy="85716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1. Conquista de México Tenochtitlán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CuadroTexto"/>
          <p:cNvSpPr/>
          <p:nvPr/>
        </p:nvSpPr>
        <p:spPr>
          <a:xfrm>
            <a:off x="642960" y="857160"/>
            <a:ext cx="7858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reformas de inicios del S.XVI incrementó la carga de los pueblos dominados por la Triple Alianza (Tenochtitlán, Texcoco y Tlacopá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tés partió de Cuba en una tercera expedición a territorio Mexi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conquistadores impresionados por México-Tenochtitlán por ser tan grande como Sev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embarco de Hernán Cortés en Veracruz dio inicio a la conquista de México (1519-15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6 CuadroTexto"/>
          <p:cNvSpPr/>
          <p:nvPr/>
        </p:nvSpPr>
        <p:spPr>
          <a:xfrm>
            <a:off x="1571760" y="3460680"/>
            <a:ext cx="7072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imera victoria en Tabasco, entrega de joyas, algodón, 20 muchachas entre ellas Malitzin (Malinche, hablaba náhuatl y maya y aprendió españ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ducción le sirvió para tener información sobre el territorio, rivalidades, posibilidades de ali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7 CuadroTexto"/>
          <p:cNvSpPr/>
          <p:nvPr/>
        </p:nvSpPr>
        <p:spPr>
          <a:xfrm>
            <a:off x="2428920" y="4687920"/>
            <a:ext cx="564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lianzas: Cortés ratificaba a los gobernantes y prometía librarlos de los tributos de la Triple Al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tras poblaciones (zapotecos enviaron mensajes a Cortés para hacer alianz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limentaba rivalidades entre familias gobern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1. Conquista de México Tenochtitlán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 CuadroTexto"/>
          <p:cNvSpPr/>
          <p:nvPr/>
        </p:nvSpPr>
        <p:spPr>
          <a:xfrm>
            <a:off x="642960" y="92880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emperador Mexica, Moctezuma, solicita a los conquistadores que se vayan de manera pacífica y ofrece regalos lo que incrementa las expectativas de los conquis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6 CuadroTexto"/>
          <p:cNvSpPr/>
          <p:nvPr/>
        </p:nvSpPr>
        <p:spPr>
          <a:xfrm>
            <a:off x="1571760" y="1843200"/>
            <a:ext cx="70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tercambio de regalos entre mexicas y españoles: los primeros oro, plata, joyas, los españoles espejos y cuentas de vid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CuadroTexto"/>
          <p:cNvSpPr/>
          <p:nvPr/>
        </p:nvSpPr>
        <p:spPr>
          <a:xfrm>
            <a:off x="642960" y="242892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ctezuma no es capaz de asumirse como líder de los mexicas: mezcla de superstición y, ante la inminencia de la derrota, miedo a la destrucción y ma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nzó a pedir tributo en oro a los pueblos sometidos para darlo a los Españ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0 CuadroTexto"/>
          <p:cNvSpPr/>
          <p:nvPr/>
        </p:nvSpPr>
        <p:spPr>
          <a:xfrm>
            <a:off x="642960" y="39020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pulsión de españoles de Tenochtitlán después de la matanza del templo mayor (30 de junio de 15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Moctezuma muerto herido por una piedra lanzada por los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ismos Mex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2 CuadroTexto"/>
          <p:cNvSpPr/>
          <p:nvPr/>
        </p:nvSpPr>
        <p:spPr>
          <a:xfrm>
            <a:off x="642960" y="50054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tio y caída de Tenochtitlá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3 CuadroTexto"/>
          <p:cNvSpPr/>
          <p:nvPr/>
        </p:nvSpPr>
        <p:spPr>
          <a:xfrm>
            <a:off x="1571760" y="5402160"/>
            <a:ext cx="7072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quistadores preparan el regreso. Consolidan alianza con tlaxcaltecas, chalca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itió la ciudad  y usó bergantines para navegar los canales. Cortaron los suministros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0 caballos, 59 ballesteros y escopeteros, 460 peones de espada y rodela, 75000 aliados indíge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3 días de sitio: mexicas alimentadas de raíces, agua salada, dormían entre los muertos, no querían la 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ída de México Tenochtitlán 13 de agosto de 15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1. Conquista de México Tenochtitlán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5 CuadroTexto"/>
          <p:cNvSpPr/>
          <p:nvPr/>
        </p:nvSpPr>
        <p:spPr>
          <a:xfrm>
            <a:off x="642960" y="7333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caída de Tenochtitlán no significó la conquista española de todo el terri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6 CuadroTexto"/>
          <p:cNvSpPr/>
          <p:nvPr/>
        </p:nvSpPr>
        <p:spPr>
          <a:xfrm>
            <a:off x="1571760" y="134928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si un siglo de expediciones o de empresas de conquis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contado el pago a la Corona, el porcentaje de Cortés, los gastos de la expedición, el pago a la tropa fue de 70 pesos (una espada costaba 50 pesos). Nuevas expediciones impulsadas </a:t>
            </a: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CuadroTexto"/>
          <p:cNvSpPr/>
          <p:nvPr/>
        </p:nvSpPr>
        <p:spPr>
          <a:xfrm>
            <a:off x="642960" y="24271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ordar: la Conquista siguió la forma en la que se realizó la Reconquista española del territorio ocupado por los musulm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 CuadroTexto"/>
          <p:cNvSpPr/>
          <p:nvPr/>
        </p:nvSpPr>
        <p:spPr>
          <a:xfrm>
            <a:off x="1571760" y="3078000"/>
            <a:ext cx="70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quista empresa privada a través de capitul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pitulaciones: contrato por el que la Corona le encomienda a un caudillo realizar un determinado servicio. </a:t>
            </a:r>
            <a:r>
              <a:rPr b="0" i="1" lang="es-MX" sz="1600" spc="-1" strike="noStrike">
                <a:solidFill>
                  <a:srgbClr val="ff0000"/>
                </a:solidFill>
                <a:latin typeface="Arial"/>
              </a:rPr>
              <a:t>NO NECESARIAMENTE LE DA LOS RECURSOS PARA HACERLO Y SE ACUERDA COMO PAGO PARTE DE LO QUE OBTENGA POR CUMPLIR L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5 CuadroTexto"/>
          <p:cNvSpPr/>
          <p:nvPr/>
        </p:nvSpPr>
        <p:spPr>
          <a:xfrm>
            <a:off x="642960" y="43750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vance hacia el norte fue lento por ser territorios fuera del dominio mexica e integrados por grupos nómadas (frontera de guer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6 CuadroTexto"/>
          <p:cNvSpPr/>
          <p:nvPr/>
        </p:nvSpPr>
        <p:spPr>
          <a:xfrm>
            <a:off x="1571760" y="5027760"/>
            <a:ext cx="70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uerra del Mixtón (1540-1542): primer proyecto de la Nueva España para extenderse hacia el norte (30000 hombres entre indígenas y españo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cubrimiento de yacimientos de plata de Zacatecas (154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re 1550 y 1590: Nueva Galicia (Nayarit, Jalisco, Colima, San Luis Potosí y Aguascalientes), Nueva Vizcaya (Chihuahua y Durango), Nuevo León y Nuevo Mé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2. La Col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CuadroTexto"/>
          <p:cNvSpPr/>
          <p:nvPr/>
        </p:nvSpPr>
        <p:spPr>
          <a:xfrm>
            <a:off x="642960" y="7333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la caída de México Tenochtitlán se fundó el Virreinato de la Nueva 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88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2. Colonia 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CuadroTexto"/>
          <p:cNvSpPr/>
          <p:nvPr/>
        </p:nvSpPr>
        <p:spPr>
          <a:xfrm>
            <a:off x="642960" y="10206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ientras se conformaba la colonia se daba al mismo tiempo que en Europa se experimentaba una transformación cultur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6 CuadroTexto"/>
          <p:cNvSpPr/>
          <p:nvPr/>
        </p:nvSpPr>
        <p:spPr>
          <a:xfrm>
            <a:off x="1571760" y="1636560"/>
            <a:ext cx="70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articulación medie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uptura de la cristiandad: América Latina conquistada por una potencia Católica en medio de una Reforma Protestante (S.XV y S.VX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9 CuadroTexto"/>
          <p:cNvSpPr/>
          <p:nvPr/>
        </p:nvSpPr>
        <p:spPr>
          <a:xfrm>
            <a:off x="642960" y="27352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cos conquist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0 CuadroTexto"/>
          <p:cNvSpPr/>
          <p:nvPr/>
        </p:nvSpPr>
        <p:spPr>
          <a:xfrm>
            <a:off x="1571760" y="314316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acia 1530: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legaron más con las minas: 10000 a mediados del S. X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Órdenes religiosas para evangelizar de manera pacífica a los indígenas : 800 eclesiástic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2 CuadroTexto"/>
          <p:cNvSpPr/>
          <p:nvPr/>
        </p:nvSpPr>
        <p:spPr>
          <a:xfrm>
            <a:off x="642960" y="437184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ués de menos de medio siglo de la conquista: desarticulación del orden político, social y económico y destrucción, demográfica y cultural: donde había 10 habitantes quedab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3 CuadroTexto"/>
          <p:cNvSpPr/>
          <p:nvPr/>
        </p:nvSpPr>
        <p:spPr>
          <a:xfrm>
            <a:off x="1571760" y="5351400"/>
            <a:ext cx="70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fermedades y epidemias, traslados de población, exceso de trabajo, mala alimentación: de 25 millones de habitantes estimados en 1519 a 2.6 millones en 15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año la idea de los conquistadores de vivir del tributo e impacto la forma en la que se estructuró institucional, social y económicamente el Virrei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3. La Colonia Institu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9 CuadroTexto"/>
          <p:cNvSpPr/>
          <p:nvPr/>
        </p:nvSpPr>
        <p:spPr>
          <a:xfrm>
            <a:off x="642960" y="12142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Encomienda se limitó en 1540: los indios eran personas racionales y no eran sujetos a esclavitu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0 CuadroTexto"/>
          <p:cNvSpPr/>
          <p:nvPr/>
        </p:nvSpPr>
        <p:spPr>
          <a:xfrm>
            <a:off x="1571760" y="181296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ese momento, la mitad del tributo era cobrado por funcionarios reales y no entregado a través de los encomend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570 indígenas vasallos directos del R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dígenas sujetos de contra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7 CuadroTexto"/>
          <p:cNvSpPr/>
          <p:nvPr/>
        </p:nvSpPr>
        <p:spPr>
          <a:xfrm>
            <a:off x="642960" y="28447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sición de los indíge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CuadroTexto"/>
          <p:cNvSpPr/>
          <p:nvPr/>
        </p:nvSpPr>
        <p:spPr>
          <a:xfrm>
            <a:off x="1571760" y="3143160"/>
            <a:ext cx="7072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difusión espiritual a través de las órdenes también difunde la idea de la protección directa del rey. Vinculo rey-indígenas más allá de los conquist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tegidos y amparados por el rey y virrey por ser personas débiles y en condición miserable. Conquistadores molestos al considerarse merecedores de prerrog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ntuvieron usos y costumb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3 CuadroTexto"/>
          <p:cNvSpPr/>
          <p:nvPr/>
        </p:nvSpPr>
        <p:spPr>
          <a:xfrm>
            <a:off x="2428920" y="5043600"/>
            <a:ext cx="5643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 comunidad importante: tributo al encomendero o a los alcaldes mayores españoles era individual pero la comunidad recaudaba según el número de hab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 tributaba según la cantidad de tierra cultivada y bienes poseí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 términos religiosos hubo flexibilidad con la práctica de su religión: rito privado y rito público derivo en sincret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3. La Colonia…Institucionalidad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9 CuadroTexto"/>
          <p:cNvSpPr/>
          <p:nvPr/>
        </p:nvSpPr>
        <p:spPr>
          <a:xfrm>
            <a:off x="642960" y="8571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bild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0 CuadroTexto"/>
          <p:cNvSpPr/>
          <p:nvPr/>
        </p:nvSpPr>
        <p:spPr>
          <a:xfrm>
            <a:off x="1571760" y="1265400"/>
            <a:ext cx="7072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rporaciones municipales del medievo español que fueron llevados a América (institución castell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canismo de representación de las elites locales frente a la burocracia real y medio por el que los vecinos velaban por sus asuntos administrativos y polític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componían de dos alcaldes; de entre 6 y 12 regidores; procurador; mayordomo; escribano público; alguacil mayor; alférez real; fiel ejecutor; corregi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flicto entre Cabildos y Encomend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bildo de la Ciudad de México (15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CuadroTexto"/>
          <p:cNvSpPr/>
          <p:nvPr/>
        </p:nvSpPr>
        <p:spPr>
          <a:xfrm>
            <a:off x="642960" y="3786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bildo de Españoles y Cabildo de Indio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CuadroTexto"/>
          <p:cNvSpPr/>
          <p:nvPr/>
        </p:nvSpPr>
        <p:spPr>
          <a:xfrm>
            <a:off x="1571760" y="4071960"/>
            <a:ext cx="70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mbos fuertes con autoridad y cabeza en su cabil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mbos institución jerárquica, con funciones políticas y sociales particula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3 CuadroTexto"/>
          <p:cNvSpPr/>
          <p:nvPr/>
        </p:nvSpPr>
        <p:spPr>
          <a:xfrm>
            <a:off x="2428920" y="4714920"/>
            <a:ext cx="5643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bildo de Indios: Mantenía la estructura prehispánica: deberes diferenciales entre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ipiltin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macehuales.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os gobernadores indígenas aprobados por la autoridad hispánica porque era el nexo entre la sociedad india y española. Importante autonom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bildo de Españoles: reclamaba autonomía del poder real por considerarse los verdaderos conquistadores y pobladores. Tan fuerte la idea que el Cabildo de la Cd. de México era la cabeza visible de la Nueva España y representaba a todos los cabildos que la integra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2:11:13Z</dcterms:created>
  <dc:creator>npm.piaac</dc:creator>
  <dc:description/>
  <dc:language>en-US</dc:language>
  <cp:lastModifiedBy>npm.piaac</cp:lastModifiedBy>
  <dcterms:modified xsi:type="dcterms:W3CDTF">2009-08-18T18:01:20Z</dcterms:modified>
  <cp:revision>179</cp:revision>
  <dc:subject/>
  <dc:title>México</dc:title>
</cp:coreProperties>
</file>