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C0122-E944-4168-8FF5-36BD88D767D4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CF773-5D91-4C45-98D0-3940B670F717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D5871-C9E3-465F-ABC4-532D6D3C317D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49290-9DD3-4FE9-8E2E-6CCF6FE9B925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9214A-9D30-45F5-95E2-04CAE69C9C75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75B26-1121-4F36-BE56-5382B9A8DD17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ED627-FD4C-4814-94E6-9D27EE0DE0B8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D707E-2AC1-43E0-B7E8-77CCE474A660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3DF23-480B-4EBF-A34D-C86FB2EAF172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52252-F9DE-4D1A-9882-7FE11562E998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2CDA6-7072-4419-BE8D-A983A5D3D9C8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64405-E160-4555-9DC6-5901A077CFFD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8B908-A3B8-4817-B3A1-8AAA8C4D421E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07A2D-F146-4BD7-8593-CD94E875C192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772DB-9641-4676-86AA-43E2F9BDFCD6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6AECC-378F-4A32-B0F2-0E5C282B8D48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53800-7C7E-40E3-A73A-90EC832114CC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7CED0-F14E-4237-A5F9-D02B06B92F35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23460-8289-471F-81EB-DA712ED06248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1AA8F-F650-463B-A194-9153A7FC060A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ED8FB-C0BF-4494-B2CE-2B505179FE12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D81B4-B948-416D-BB0E-464F664BBD16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69637-2556-40A8-BAF2-B570BFA76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591DC-19B4-4D0E-9253-CD5C7B2D8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85D08-AEC2-493A-997E-74CA9F522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A26A0-268C-4086-A9BA-63868A5C2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3A50A-BB8D-4568-A238-CF4350844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10EDB-2370-4114-B88F-B4A68425D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DD1E5-28B0-4EA9-96F9-2B8422B58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C427F-1508-409F-94BB-EB6B871AE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B3BAD-C713-4C18-9FC8-7D1BE550F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EB43C-B65D-4E84-ADCA-68822CD4C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664B7-27AD-4DA4-B8D7-966D4E825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19016-830B-49C5-B1CD-ECA8209A7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D0791-8478-47D4-B932-6286566A71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0066"/>
                </a:solidFill>
                <a:latin typeface="Arial"/>
              </a:rPr>
              <a:t>Méx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0066"/>
                </a:solidFill>
                <a:latin typeface="Arial"/>
              </a:rPr>
              <a:t>Conquista y Colon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2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0066"/>
                </a:solidFill>
                <a:latin typeface="Arial"/>
              </a:rPr>
              <a:t>3. La Colonia…Institucionalidad 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9 CuadroTexto"/>
          <p:cNvSpPr/>
          <p:nvPr/>
        </p:nvSpPr>
        <p:spPr>
          <a:xfrm>
            <a:off x="642960" y="1058760"/>
            <a:ext cx="785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Corrupción ¿?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12 Grupo"/>
          <p:cNvGrpSpPr/>
          <p:nvPr/>
        </p:nvGrpSpPr>
        <p:grpSpPr>
          <a:xfrm>
            <a:off x="1571760" y="1623960"/>
            <a:ext cx="7072200" cy="2649600"/>
            <a:chOff x="1571760" y="1623960"/>
            <a:chExt cx="7072200" cy="2649600"/>
          </a:xfrm>
        </p:grpSpPr>
        <p:sp>
          <p:nvSpPr>
            <p:cNvPr id="95" name="10 CuadroTexto"/>
            <p:cNvSpPr/>
            <p:nvPr/>
          </p:nvSpPr>
          <p:spPr>
            <a:xfrm>
              <a:off x="1571760" y="1623960"/>
              <a:ext cx="707220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88920" indent="-8892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600" spc="-1" strike="noStrike">
                  <a:solidFill>
                    <a:srgbClr val="000000"/>
                  </a:solidFill>
                  <a:latin typeface="Arial"/>
                </a:rPr>
                <a:t>Alcaldes mayores y corregidores: mediar entre cabildos de indios y españoles dentro de los cabildos y entre estos y la jurisdicción de la Ciudad de México. Actuaban como jueces de primera instancia y mantenían el orden.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11 CuadroTexto"/>
            <p:cNvSpPr/>
            <p:nvPr/>
          </p:nvSpPr>
          <p:spPr>
            <a:xfrm>
              <a:off x="2143080" y="2687760"/>
              <a:ext cx="5643720" cy="15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7840" indent="-177840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Arial"/>
                </a:rPr>
                <a:t>Al principio: nombrados por el rey y con sueldo regular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7840" indent="-177840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Arial"/>
                </a:rPr>
                <a:t>Encontraron más lucrativo comerciar con los pueblos y comunidades indias. Los virreyes compensaban con estos cargos a miembros de su familia o pagaban servicios prestados. Al final se daba sólo el cargo sin sueldo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7840" indent="-177840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Arial"/>
                </a:rPr>
                <a:t>Cargo de regidor vendible a criollos por un donativo al rey (cargo heredable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21 CuadroTexto"/>
          <p:cNvSpPr/>
          <p:nvPr/>
        </p:nvSpPr>
        <p:spPr>
          <a:xfrm>
            <a:off x="2500200" y="4540320"/>
            <a:ext cx="6072480" cy="20142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0000"/>
                </a:solidFill>
                <a:latin typeface="Arial"/>
              </a:rPr>
              <a:t>1621-1643 Los colonias perdieron el trato diferencial de la Corona y se convirtieron reinos con las mismas obligaciones que la Peníns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0000"/>
                </a:solidFill>
                <a:latin typeface="Arial"/>
              </a:rPr>
              <a:t>Más contribu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0000"/>
                </a:solidFill>
                <a:latin typeface="Arial"/>
              </a:rPr>
              <a:t>Defensa de ataques comerciales y militares de Inglaterra, Francia y Holan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s-MX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s-MX" sz="1800" spc="-1" strike="noStrike">
                <a:solidFill>
                  <a:srgbClr val="ff0000"/>
                </a:solidFill>
                <a:latin typeface="Arial"/>
              </a:rPr>
              <a:t>Fracaso: más autonomía de 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2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0066"/>
                </a:solidFill>
                <a:latin typeface="Arial"/>
              </a:rPr>
              <a:t>4 .La Colonia…economí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7 CuadroTexto"/>
          <p:cNvSpPr/>
          <p:nvPr/>
        </p:nvSpPr>
        <p:spPr>
          <a:xfrm>
            <a:off x="642960" y="857160"/>
            <a:ext cx="785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Reducción de población indígena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8 CuadroTexto"/>
          <p:cNvSpPr/>
          <p:nvPr/>
        </p:nvSpPr>
        <p:spPr>
          <a:xfrm>
            <a:off x="1571760" y="1208160"/>
            <a:ext cx="70722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Ruptura del orden interno de las comunidades, movilidad geográfica hacia ciudades y centros mineros o zonas de refugios. Mano de obra dispon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Impacto en producción:  actividad económica que usaba menos mano de obra, transformación de campos AGRÍCOLAS en campos GANADER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11 CuadroTexto"/>
          <p:cNvSpPr/>
          <p:nvPr/>
        </p:nvSpPr>
        <p:spPr>
          <a:xfrm>
            <a:off x="642960" y="2286000"/>
            <a:ext cx="785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Impacto del ganado y bestias de carga: Revolución tecnológica que no se vería hasta el ferrocarri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12 CuadroTexto"/>
          <p:cNvSpPr/>
          <p:nvPr/>
        </p:nvSpPr>
        <p:spPr>
          <a:xfrm>
            <a:off x="1571760" y="2946240"/>
            <a:ext cx="70722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El impacto de una revolución tecnológica es que se puede producir más con la misma cantidad de recurs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Nueva fuente de energía y transporte más eficiente que la huma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Compenso la caída en la pobl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Transformación de mineral en pl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Comunicaciones y transportes (carretas), permitió cierta vinculación entre region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17 CuadroTexto"/>
          <p:cNvSpPr/>
          <p:nvPr/>
        </p:nvSpPr>
        <p:spPr>
          <a:xfrm>
            <a:off x="642960" y="4929120"/>
            <a:ext cx="785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Comercio, en un principio, mantuvo los rasgos prehispánicos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19 CuadroTexto"/>
          <p:cNvSpPr/>
          <p:nvPr/>
        </p:nvSpPr>
        <p:spPr>
          <a:xfrm>
            <a:off x="1571760" y="5292720"/>
            <a:ext cx="7072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mercados y tiangu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mismos grupos de mercaderes hasta fines del S.XVI pero aprovechando nuevos medios de transporte y nuevos mercado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2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0066"/>
                </a:solidFill>
                <a:latin typeface="Arial"/>
              </a:rPr>
              <a:t>4. La Colonia…economí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7 CuadroTexto"/>
          <p:cNvSpPr/>
          <p:nvPr/>
        </p:nvSpPr>
        <p:spPr>
          <a:xfrm>
            <a:off x="642960" y="1415880"/>
            <a:ext cx="785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Producción de plata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8 CuadroTexto"/>
          <p:cNvSpPr/>
          <p:nvPr/>
        </p:nvSpPr>
        <p:spPr>
          <a:xfrm>
            <a:off x="1571760" y="2295360"/>
            <a:ext cx="70722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Casa de Moneda de México: moneda acuñada 1550: 1.5 millon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1580: 3.0 millon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1600: 4.5 millo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Primer productor mundial de plata S.XV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La producción de plata no disminuye en los S. XVII y XVII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Vinculación con la economía española y europea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Permitió el comercio interno: economías locales con comercio gracias a la pl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2"/>
          <p:cNvSpPr/>
          <p:nvPr/>
        </p:nvSpPr>
        <p:spPr>
          <a:xfrm>
            <a:off x="500040" y="71280"/>
            <a:ext cx="818676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0066"/>
                </a:solidFill>
                <a:latin typeface="Arial"/>
              </a:rPr>
              <a:t>5. Repunte de la población y sociedad (1650-1750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7 CuadroTexto"/>
          <p:cNvSpPr/>
          <p:nvPr/>
        </p:nvSpPr>
        <p:spPr>
          <a:xfrm>
            <a:off x="642960" y="714240"/>
            <a:ext cx="785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Repunte demográfic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8 CuadroTexto"/>
          <p:cNvSpPr/>
          <p:nvPr/>
        </p:nvSpPr>
        <p:spPr>
          <a:xfrm>
            <a:off x="1571760" y="1046160"/>
            <a:ext cx="7072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Población indígena: generó defensas ante enfermedades, última gran epidemia 1578-158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Población mestiza, mulata y criolla: La que más creció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642960" y="2644920"/>
          <a:ext cx="7929720" cy="4046400"/>
        </p:xfrm>
        <a:graphic>
          <a:graphicData uri="http://schemas.openxmlformats.org/drawingml/2006/table">
            <a:tbl>
              <a:tblPr/>
              <a:tblGrid>
                <a:gridCol w="2035080"/>
                <a:gridCol w="1982880"/>
                <a:gridCol w="1982880"/>
                <a:gridCol w="19288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Población indíge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Población españo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Población criol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Población mestiz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46: 1,300,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46: 2,000,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70: 10,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46: 14,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74: 80,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iudad de México 50,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46: 270,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46: 700,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dominaba en el nor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28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ás autonomía: explotaban condición de miserables para ocultar bienes y evadir tribu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o de obra, tierra y agua su riquez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 desaparecer la encomienda  se convirtieron en: hacendados, comerciantes, profesionales, eclesiásticos, funcionarios reales y servidores públic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ginados: no pagaban tributo por lo que no tenían estatuto soci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n matrimon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ingreso al cler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acceso a la Universida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oficios públic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RIEROS: transporte de ganado y productos ya sea legal o contraband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0708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ígenas, españoles y mestizos debieron interactuar má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12" name="21 CuadroTexto"/>
          <p:cNvSpPr/>
          <p:nvPr/>
        </p:nvSpPr>
        <p:spPr>
          <a:xfrm>
            <a:off x="2928960" y="1903320"/>
            <a:ext cx="5357880" cy="642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0000"/>
                </a:solidFill>
                <a:latin typeface="Arial"/>
              </a:rPr>
              <a:t>Carecía de estatuto jurídico y so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0000"/>
                </a:solidFill>
                <a:latin typeface="Arial"/>
              </a:rPr>
              <a:t>Población espuria producto de una unión ilegíti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2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0066"/>
                </a:solidFill>
                <a:latin typeface="Arial"/>
              </a:rPr>
              <a:t>6. Integración territorial de la Coloni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7 CuadroTexto"/>
          <p:cNvSpPr/>
          <p:nvPr/>
        </p:nvSpPr>
        <p:spPr>
          <a:xfrm>
            <a:off x="642960" y="1096920"/>
            <a:ext cx="7858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Ciudades capitales y puertos: centros de unión de la red de caminos y ríos navegables que unían áreas agrícolas y ganaderas con los centros mineros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8 CuadroTexto"/>
          <p:cNvSpPr/>
          <p:nvPr/>
        </p:nvSpPr>
        <p:spPr>
          <a:xfrm>
            <a:off x="1571760" y="1928880"/>
            <a:ext cx="70722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Esto no significa que el territorio estuviera integrado: más bien significa que alrededor de un centro minero se desarrollaba agricultura y ganadería que sustentara la actividad min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Ausencia de rutas terrestres desarrollo de rutas marítimas que limitaron el comercio inter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Esta agricultura y ganadería se desarrollaba de acuerdo a las características productivas y sociales de la reg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Se fueron constituyendo así características regionales que todavía se pueden observar en la actualid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642960" y="4270320"/>
          <a:ext cx="8001000" cy="2438280"/>
        </p:xfrm>
        <a:graphic>
          <a:graphicData uri="http://schemas.openxmlformats.org/drawingml/2006/table">
            <a:tbl>
              <a:tblPr/>
              <a:tblGrid>
                <a:gridCol w="4000320"/>
                <a:gridCol w="4000680"/>
              </a:tblGrid>
              <a:tr h="45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entro-Su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entro-Nor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d de villas y pueblos indios y centros mineros que conviven con ciudades español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iudades español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viaba al norte productos y hombr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l sur al centro productos nativos (grana cochinilla y cacao) y productos chinos (Nao de China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viaban al centro minerale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nado menor en comunidades indígen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tifundio ganadero que sustentó el desarrollo miner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2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0066"/>
                </a:solidFill>
                <a:latin typeface="Arial"/>
              </a:rPr>
              <a:t>7. La Colonia…Economía (1600-170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7 CuadroTexto"/>
          <p:cNvSpPr/>
          <p:nvPr/>
        </p:nvSpPr>
        <p:spPr>
          <a:xfrm>
            <a:off x="642960" y="1397160"/>
            <a:ext cx="785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Interacción entre áreas de producción y concentraciones urbanas: a mayor concentración urbana mayor área agrícola, ganadera y miner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8 CuadroTexto"/>
          <p:cNvSpPr/>
          <p:nvPr/>
        </p:nvSpPr>
        <p:spPr>
          <a:xfrm>
            <a:off x="1571760" y="2073240"/>
            <a:ext cx="70722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Cada actividad productiva permitía que se desarrollaran las demá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* Trigo y ganado corrían junt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* Maíz transvers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* Agricultura permitía que la minería se desarrolla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* Tejid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- Esta “suficiencia” regional y lo difícil de las comunicaciones terrestres limitaron la creación de un mercado intern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2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0066"/>
                </a:solidFill>
                <a:latin typeface="Arial"/>
              </a:rPr>
              <a:t>7. La Colonia…Economía (1600-170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116000" y="907920"/>
            <a:ext cx="655164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0066"/>
                </a:solidFill>
                <a:latin typeface="Arial"/>
              </a:rPr>
              <a:t>7. La Colonia…Economía (1600-170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7 CuadroTexto"/>
          <p:cNvSpPr/>
          <p:nvPr/>
        </p:nvSpPr>
        <p:spPr>
          <a:xfrm>
            <a:off x="642960" y="1357200"/>
            <a:ext cx="785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Monopolios y prohibición de producción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8 CuadroTexto"/>
          <p:cNvSpPr/>
          <p:nvPr/>
        </p:nvSpPr>
        <p:spPr>
          <a:xfrm>
            <a:off x="1571760" y="1643040"/>
            <a:ext cx="70722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Monopolio mercantil: Finales del S.XVI mercaderes ricos se agruparon en una corporación mercantil (Tribunal del Consulado) que controlaba la circulación de: plata productos importados (mercurio, fierro, papel, tejidos y productos agrícolas mediterráneo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Fuerza del monopolio: control de productos para la producción minera (azogue y fierro) y bienes de lujo para criollos y peninsula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Prohibiciones para producir con el fin de mantener en el monopolio: olivo, viñas. Destrucción de moreras (seda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Supresión de comercio con Perú (163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9 CuadroTexto"/>
          <p:cNvSpPr/>
          <p:nvPr/>
        </p:nvSpPr>
        <p:spPr>
          <a:xfrm>
            <a:off x="642960" y="4229280"/>
            <a:ext cx="7858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Doble monopolio: el de las Casas de Cádiz y Sevilla que hacían los cargamentos y las de las ferias de comercian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Estas acciones de la Corona implicaron una pérdida de eficiencia y además comprometieron la capacidad productiva de la Nueva Españ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2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0066"/>
                </a:solidFill>
                <a:latin typeface="Arial"/>
              </a:rPr>
              <a:t>7. La Colonia…Economía (1600-170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19 Grupo"/>
          <p:cNvGrpSpPr/>
          <p:nvPr/>
        </p:nvGrpSpPr>
        <p:grpSpPr>
          <a:xfrm>
            <a:off x="500040" y="2865600"/>
            <a:ext cx="8429760" cy="2188440"/>
            <a:chOff x="500040" y="2865600"/>
            <a:chExt cx="8429760" cy="2188440"/>
          </a:xfrm>
        </p:grpSpPr>
        <p:sp>
          <p:nvSpPr>
            <p:cNvPr id="128" name="20 CuadroTexto"/>
            <p:cNvSpPr/>
            <p:nvPr/>
          </p:nvSpPr>
          <p:spPr>
            <a:xfrm>
              <a:off x="500040" y="2865600"/>
              <a:ext cx="7873920" cy="3682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55680" indent="-355680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Ruptura parcial del monopolio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21 CuadroTexto"/>
            <p:cNvSpPr/>
            <p:nvPr/>
          </p:nvSpPr>
          <p:spPr>
            <a:xfrm>
              <a:off x="1843200" y="3256560"/>
              <a:ext cx="7086600" cy="17974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MX" sz="1600" spc="-1" strike="noStrike">
                  <a:solidFill>
                    <a:srgbClr val="000000"/>
                  </a:solidFill>
                  <a:latin typeface="Arial"/>
                </a:rPr>
                <a:t>Se rompió el monopolio de las Casas de Cádiz y Sevilla por el contrabando en complicidad con los mercaderes. Más productos y más baratos.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MX" sz="1600" spc="-1" strike="noStrike">
                  <a:solidFill>
                    <a:srgbClr val="000000"/>
                  </a:solidFill>
                  <a:latin typeface="Arial"/>
                </a:rPr>
                <a:t>Grandes ganancias a comerciantes: ingleses, holandeses e hispanoamericano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MX" sz="1600" spc="-1" strike="noStrike">
                  <a:solidFill>
                    <a:srgbClr val="000000"/>
                  </a:solidFill>
                  <a:latin typeface="Arial"/>
                </a:rPr>
                <a:t>Islas del Carib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MX" sz="1600" spc="-1" strike="noStrike">
                  <a:solidFill>
                    <a:srgbClr val="000000"/>
                  </a:solidFill>
                  <a:latin typeface="Arial"/>
                </a:rPr>
                <a:t>Comercio legal creció poco lo que impacto en la decadencia español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" name="20 CuadroTexto"/>
          <p:cNvSpPr/>
          <p:nvPr/>
        </p:nvSpPr>
        <p:spPr>
          <a:xfrm>
            <a:off x="1143000" y="2143080"/>
            <a:ext cx="3429000" cy="642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0000"/>
                </a:solidFill>
                <a:latin typeface="Arial"/>
              </a:rPr>
              <a:t>¿Qué es un monopolio? ¿Cómo impacta al bienesta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21 CuadroTexto"/>
          <p:cNvSpPr/>
          <p:nvPr/>
        </p:nvSpPr>
        <p:spPr>
          <a:xfrm>
            <a:off x="5000760" y="2130480"/>
            <a:ext cx="3458880" cy="642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0000"/>
                </a:solidFill>
                <a:latin typeface="Arial"/>
              </a:rPr>
              <a:t>¿Por qué el monopolio? ¿Cómo se explica históricament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2"/>
          <p:cNvSpPr/>
          <p:nvPr/>
        </p:nvSpPr>
        <p:spPr>
          <a:xfrm>
            <a:off x="457200" y="485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0066"/>
                </a:solidFill>
                <a:latin typeface="Arial"/>
              </a:rPr>
              <a:t>8. Caldo de cultivo a la independencia (mediados del S.XVII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9 CuadroTexto"/>
          <p:cNvSpPr/>
          <p:nvPr/>
        </p:nvSpPr>
        <p:spPr>
          <a:xfrm>
            <a:off x="642960" y="2205000"/>
            <a:ext cx="7858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Sufría consecuencias de la política madrileña y los cambios administrati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Excesiva presión fiscal y enfrentamiento entre la administración real y estamentos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Participación indígena en revueltas: signo de que el acuerdo institucional que contaba con el apoyo de gobernadores y caciques indios se empezaba a desquebraj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Reformas borbónicas afectaron a los reinos españoles: afectaron  los comerciantes y más tribu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19120" y="200160"/>
            <a:ext cx="8229600" cy="92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0066"/>
                </a:solidFill>
                <a:latin typeface="Arial"/>
              </a:rPr>
              <a:t>Índic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1200" y="1555560"/>
            <a:ext cx="8147160" cy="31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99"/>
              </a:spcBef>
              <a:buClr>
                <a:srgbClr val="0000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cc"/>
                </a:solidFill>
                <a:latin typeface="Arial"/>
              </a:rPr>
              <a:t>Fin del imperio mexica – CONQUIS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cc"/>
                </a:solidFill>
                <a:latin typeface="Arial"/>
              </a:rPr>
              <a:t>Colonia…. antecede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cc"/>
                </a:solidFill>
                <a:latin typeface="Arial"/>
              </a:rPr>
              <a:t>Colonia…. institucional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cc"/>
                </a:solidFill>
                <a:latin typeface="Arial"/>
              </a:rPr>
              <a:t>Colonia…. economí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cc"/>
                </a:solidFill>
                <a:latin typeface="Arial"/>
              </a:rPr>
              <a:t>Colonia…. repunte de la población y socie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cc"/>
                </a:solidFill>
                <a:latin typeface="Arial"/>
              </a:rPr>
              <a:t>Colonia…. integración terri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cc"/>
                </a:solidFill>
                <a:latin typeface="Arial"/>
              </a:rPr>
              <a:t>Colonia…. economía otra vez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cc"/>
                </a:solidFill>
                <a:latin typeface="Arial"/>
              </a:rPr>
              <a:t>Caldo de cultivo para la independen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2"/>
          <p:cNvSpPr/>
          <p:nvPr/>
        </p:nvSpPr>
        <p:spPr>
          <a:xfrm>
            <a:off x="457200" y="-214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0066"/>
                </a:solidFill>
                <a:latin typeface="Arial"/>
              </a:rPr>
              <a:t>Mercantilis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7 CuadroTexto"/>
          <p:cNvSpPr/>
          <p:nvPr/>
        </p:nvSpPr>
        <p:spPr>
          <a:xfrm>
            <a:off x="642960" y="571680"/>
            <a:ext cx="785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Europa: Ideas económicas y políticas S. XVI al S.XVII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8 CuadroTexto"/>
          <p:cNvSpPr/>
          <p:nvPr/>
        </p:nvSpPr>
        <p:spPr>
          <a:xfrm>
            <a:off x="1571760" y="1000080"/>
            <a:ext cx="707220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Injerencia del Estado en la Economía (proteccionismo, restricciones a la producción, impuesto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Formación de Estados-Nación fuertes (integración del mercado intern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Prosperidad de una nación depende de la acumulación de capit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1600" spc="-1" strike="noStrike">
                <a:solidFill>
                  <a:srgbClr val="4597a0"/>
                </a:solidFill>
                <a:latin typeface="Arial"/>
              </a:rPr>
              <a:t>Capital: metales preciosos a través de una balanza </a:t>
            </a:r>
            <a:r>
              <a:rPr b="1" lang="es-MX" sz="1600" spc="-1" strike="noStrike">
                <a:solidFill>
                  <a:srgbClr val="4597a0"/>
                </a:solidFill>
                <a:latin typeface="Arial"/>
              </a:rPr>
              <a:t>	</a:t>
            </a:r>
            <a:r>
              <a:rPr b="1" lang="es-MX" sz="1600" spc="-1" strike="noStrike">
                <a:solidFill>
                  <a:srgbClr val="4597a0"/>
                </a:solidFill>
                <a:latin typeface="Arial"/>
              </a:rPr>
              <a:t>	</a:t>
            </a:r>
            <a:r>
              <a:rPr b="1" lang="es-MX" sz="1600" spc="-1" strike="noStrike">
                <a:solidFill>
                  <a:srgbClr val="4597a0"/>
                </a:solidFill>
                <a:latin typeface="Arial"/>
              </a:rPr>
              <a:t>comercial positiva. Favorecer exportaciones sobre </a:t>
            </a:r>
            <a:r>
              <a:rPr b="1" lang="es-MX" sz="1600" spc="-1" strike="noStrike">
                <a:solidFill>
                  <a:srgbClr val="4597a0"/>
                </a:solidFill>
                <a:latin typeface="Arial"/>
              </a:rPr>
              <a:t>	</a:t>
            </a:r>
            <a:r>
              <a:rPr b="1" lang="es-MX" sz="1600" spc="-1" strike="noStrike">
                <a:solidFill>
                  <a:srgbClr val="4597a0"/>
                </a:solidFill>
                <a:latin typeface="Arial"/>
              </a:rPr>
              <a:t>	</a:t>
            </a:r>
            <a:r>
              <a:rPr b="1" lang="es-MX" sz="1600" spc="-1" strike="noStrike">
                <a:solidFill>
                  <a:srgbClr val="4597a0"/>
                </a:solidFill>
                <a:latin typeface="Arial"/>
              </a:rPr>
              <a:t>importacio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4597a0"/>
                </a:solidFill>
                <a:latin typeface="Arial"/>
              </a:rPr>
              <a:t>	</a:t>
            </a:r>
            <a:r>
              <a:rPr b="1" lang="es-MX" sz="1600" spc="-1" strike="noStrike">
                <a:solidFill>
                  <a:srgbClr val="4597a0"/>
                </a:solidFill>
                <a:latin typeface="Arial"/>
              </a:rPr>
              <a:t>Los reyes desean la mayor cantidad de oro </a:t>
            </a:r>
            <a:r>
              <a:rPr b="1" lang="es-MX" sz="1600" spc="-1" strike="noStrike">
                <a:solidFill>
                  <a:srgbClr val="4597a0"/>
                </a:solidFill>
                <a:latin typeface="Arial"/>
              </a:rPr>
              <a:t>	</a:t>
            </a:r>
            <a:r>
              <a:rPr b="1" lang="es-MX" sz="1600" spc="-1" strike="noStrike">
                <a:solidFill>
                  <a:srgbClr val="4597a0"/>
                </a:solidFill>
                <a:latin typeface="Arial"/>
              </a:rPr>
              <a:t>	</a:t>
            </a:r>
            <a:r>
              <a:rPr b="1" lang="es-MX" sz="1600" spc="-1" strike="noStrike">
                <a:solidFill>
                  <a:srgbClr val="4597a0"/>
                </a:solidFill>
                <a:latin typeface="Arial"/>
              </a:rPr>
              <a:t>	</a:t>
            </a:r>
            <a:r>
              <a:rPr b="1" lang="es-MX" sz="1600" spc="-1" strike="noStrike">
                <a:solidFill>
                  <a:srgbClr val="4597a0"/>
                </a:solidFill>
                <a:latin typeface="Arial"/>
              </a:rPr>
              <a:t>po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La economía un juego de suma cero: potencias europeas luchando por el control de los mercados disponibles en el mun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1600" spc="-1" strike="noStrike">
                <a:solidFill>
                  <a:srgbClr val="4597a0"/>
                </a:solidFill>
                <a:latin typeface="Arial"/>
              </a:rPr>
              <a:t>Capital: metales preciosos a través de una balanza </a:t>
            </a:r>
            <a:r>
              <a:rPr b="1" lang="es-MX" sz="1600" spc="-1" strike="noStrike">
                <a:solidFill>
                  <a:srgbClr val="4597a0"/>
                </a:solidFill>
                <a:latin typeface="Arial"/>
              </a:rPr>
              <a:t>	</a:t>
            </a:r>
            <a:r>
              <a:rPr b="1" lang="es-MX" sz="1600" spc="-1" strike="noStrike">
                <a:solidFill>
                  <a:srgbClr val="4597a0"/>
                </a:solidFill>
                <a:latin typeface="Arial"/>
              </a:rPr>
              <a:t>	</a:t>
            </a:r>
            <a:r>
              <a:rPr b="1" lang="es-MX" sz="1600" spc="-1" strike="noStrike">
                <a:solidFill>
                  <a:srgbClr val="4597a0"/>
                </a:solidFill>
                <a:latin typeface="Arial"/>
              </a:rPr>
              <a:t>comercial positiva. Favorecer exportaciones sobre </a:t>
            </a:r>
            <a:r>
              <a:rPr b="1" lang="es-MX" sz="1600" spc="-1" strike="noStrike">
                <a:solidFill>
                  <a:srgbClr val="4597a0"/>
                </a:solidFill>
                <a:latin typeface="Arial"/>
              </a:rPr>
              <a:t>	</a:t>
            </a:r>
            <a:r>
              <a:rPr b="1" lang="es-MX" sz="1600" spc="-1" strike="noStrike">
                <a:solidFill>
                  <a:srgbClr val="4597a0"/>
                </a:solidFill>
                <a:latin typeface="Arial"/>
              </a:rPr>
              <a:t>	</a:t>
            </a:r>
            <a:r>
              <a:rPr b="1" lang="es-MX" sz="1600" spc="-1" strike="noStrike">
                <a:solidFill>
                  <a:srgbClr val="4597a0"/>
                </a:solidFill>
                <a:latin typeface="Arial"/>
              </a:rPr>
              <a:t>importacio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714240" y="5013360"/>
          <a:ext cx="8215560" cy="1341360"/>
        </p:xfrm>
        <a:graphic>
          <a:graphicData uri="http://schemas.openxmlformats.org/drawingml/2006/table">
            <a:tbl>
              <a:tblPr/>
              <a:tblGrid>
                <a:gridCol w="2738520"/>
                <a:gridCol w="2738520"/>
                <a:gridCol w="273852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rcantilismo francé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rcantilismo inglé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rcantilismo español (bullionismo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76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ustrialización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ercio exteri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umulación de metales preciosos. </a:t>
                      </a: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cubrimiento y metales de Améric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2"/>
          <p:cNvSpPr/>
          <p:nvPr/>
        </p:nvSpPr>
        <p:spPr>
          <a:xfrm>
            <a:off x="457200" y="142920"/>
            <a:ext cx="82296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0066"/>
                </a:solidFill>
                <a:latin typeface="Arial"/>
              </a:rPr>
              <a:t>Mercantilismo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7 CuadroTexto"/>
          <p:cNvSpPr/>
          <p:nvPr/>
        </p:nvSpPr>
        <p:spPr>
          <a:xfrm>
            <a:off x="642960" y="1130400"/>
            <a:ext cx="785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Ideas mercantilistas que no necesariamente se respetaron en Amér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8 CuadroTexto"/>
          <p:cNvSpPr/>
          <p:nvPr/>
        </p:nvSpPr>
        <p:spPr>
          <a:xfrm>
            <a:off x="1571760" y="1571760"/>
            <a:ext cx="7072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1600" spc="-1" strike="noStrike">
                <a:solidFill>
                  <a:srgbClr val="4597a0"/>
                </a:solidFill>
                <a:latin typeface="Arial"/>
              </a:rPr>
              <a:t>Todas las materias primas de un país deben ser utilizadas en manufacturas nacionales </a:t>
            </a:r>
            <a:r>
              <a:rPr b="1" lang="es-MX" sz="1600" spc="-1" strike="noStrike">
                <a:solidFill>
                  <a:srgbClr val="c00000"/>
                </a:solidFill>
                <a:latin typeface="Arial"/>
              </a:rPr>
              <a:t>¡prohibiciones a la producció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4597a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4597a0"/>
                </a:solidFill>
                <a:latin typeface="Arial"/>
              </a:rPr>
              <a:t> </a:t>
            </a:r>
            <a:r>
              <a:rPr b="1" lang="es-MX" sz="1600" spc="-1" strike="noStrike">
                <a:solidFill>
                  <a:srgbClr val="4597a0"/>
                </a:solidFill>
                <a:latin typeface="Arial"/>
              </a:rPr>
              <a:t>Fomentar una población grande y trabajadora </a:t>
            </a:r>
            <a:r>
              <a:rPr b="1" lang="es-MX" sz="1600" spc="-1" strike="noStrike">
                <a:solidFill>
                  <a:srgbClr val="c00000"/>
                </a:solidFill>
                <a:latin typeface="Arial"/>
              </a:rPr>
              <a:t>¡los mestizos no tienen un estatus legal, no se incorporan en la estructura y ni tributo pagaban!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4597a0"/>
                </a:solidFill>
                <a:latin typeface="Arial"/>
              </a:rPr>
              <a:t>- Que se obstaculicen cuanto sea posible las importaciones de bienes extranjeros </a:t>
            </a:r>
            <a:r>
              <a:rPr b="1" lang="es-MX" sz="1600" spc="-1" strike="noStrike">
                <a:solidFill>
                  <a:srgbClr val="c00000"/>
                </a:solidFill>
                <a:latin typeface="Arial"/>
              </a:rPr>
              <a:t>¡importaciones a la Nueva España!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4597a0"/>
                </a:solidFill>
                <a:latin typeface="Arial"/>
              </a:rPr>
              <a:t>- Vender el excedente de manufacturas a otros países a cambio de oro y plata </a:t>
            </a:r>
            <a:r>
              <a:rPr b="1" lang="es-MX" sz="1600" spc="-1" strike="noStrike">
                <a:solidFill>
                  <a:srgbClr val="c00000"/>
                </a:solidFill>
                <a:latin typeface="Arial"/>
              </a:rPr>
              <a:t>¡no producción interna y en muchos casos los españoles comerciaban en la Nueva España productos de otro países por conseguir oro y plata!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7 CuadroTexto"/>
          <p:cNvSpPr/>
          <p:nvPr/>
        </p:nvSpPr>
        <p:spPr>
          <a:xfrm>
            <a:off x="642960" y="4572000"/>
            <a:ext cx="7858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Empresarios beneficiados: monopolios, prohibiciones a las importaciones, pobreza de trabajador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Gobiernos beneficiados: costo de los aranceles y pago de los mercade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7 Flecha izquierda"/>
          <p:cNvSpPr/>
          <p:nvPr/>
        </p:nvSpPr>
        <p:spPr>
          <a:xfrm>
            <a:off x="6643800" y="5643720"/>
            <a:ext cx="1928880" cy="857160"/>
          </a:xfrm>
          <a:prstGeom prst="leftArrow">
            <a:avLst>
              <a:gd name="adj1" fmla="val 50000"/>
              <a:gd name="adj2" fmla="val 50007"/>
            </a:avLst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2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0066"/>
                </a:solidFill>
                <a:latin typeface="Arial"/>
              </a:rPr>
              <a:t>1. Conquista de México Tenochtitlán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5 CuadroTexto"/>
          <p:cNvSpPr/>
          <p:nvPr/>
        </p:nvSpPr>
        <p:spPr>
          <a:xfrm>
            <a:off x="642960" y="857160"/>
            <a:ext cx="785808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Las reformas de inicios del S.XVI incrementó la carga de los pueblos dominados por la Triple Alianza (Tenochtitlán, Texcoco y Tlacopá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Cortés partió de Cuba en una tercera expedición a territorio Mexica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Los conquistadores impresionados por México-Tenochtitlán por ser tan grande como Sevil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Desembarco de Hernán Cortés en Veracruz dio inicio a la conquista de México (1519-152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6 CuadroTexto"/>
          <p:cNvSpPr/>
          <p:nvPr/>
        </p:nvSpPr>
        <p:spPr>
          <a:xfrm>
            <a:off x="1571760" y="3460680"/>
            <a:ext cx="70722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Primera victoria en Tabasco, entrega de joyas, algodón, 20 muchachas entre ellas Malitzin (Malinche, hablaba náhuatl y maya y aprendió españo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Traducción le sirvió para tener información sobre el territorio, rivalidades, posibilidades de alianz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7 CuadroTexto"/>
          <p:cNvSpPr/>
          <p:nvPr/>
        </p:nvSpPr>
        <p:spPr>
          <a:xfrm>
            <a:off x="2428920" y="4687920"/>
            <a:ext cx="564336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Alianzas: Cortés ratificaba a los gobernantes y prometía librarlos de los tributos de la Triple Alianz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Otras poblaciones (zapotecos enviaron mensajes a Cortés para hacer alianz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Alimentaba rivalidades entre familias gobernan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0066"/>
                </a:solidFill>
                <a:latin typeface="Arial"/>
              </a:rPr>
              <a:t>1. Conquista de México Tenochtitlán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5 CuadroTexto"/>
          <p:cNvSpPr/>
          <p:nvPr/>
        </p:nvSpPr>
        <p:spPr>
          <a:xfrm>
            <a:off x="642960" y="928800"/>
            <a:ext cx="7858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El emperador Mexica, Moctezuma, solicita a los conquistadores que se vayan de manera pacífica y ofrece regalos lo que incrementa las expectativas de los conquistad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6 CuadroTexto"/>
          <p:cNvSpPr/>
          <p:nvPr/>
        </p:nvSpPr>
        <p:spPr>
          <a:xfrm>
            <a:off x="1571760" y="1843200"/>
            <a:ext cx="7072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Intercambio de regalos entre mexicas y españoles: los primeros oro, plata, joyas, los españoles espejos y cuentas de vidr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8 CuadroTexto"/>
          <p:cNvSpPr/>
          <p:nvPr/>
        </p:nvSpPr>
        <p:spPr>
          <a:xfrm>
            <a:off x="642960" y="2428920"/>
            <a:ext cx="7858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Moctezuma no es capaz de asumirse como líder de los mexicas: mezcla de superstición y, ante la inminencia de la derrota, miedo a la destrucción y matan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Comenzó a pedir tributo en oro a los pueblos sometidos para darlo a los Españo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10 CuadroTexto"/>
          <p:cNvSpPr/>
          <p:nvPr/>
        </p:nvSpPr>
        <p:spPr>
          <a:xfrm>
            <a:off x="642960" y="3902040"/>
            <a:ext cx="7858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Expulsión de españoles de Tenochtitlán después de la matanza del templo mayor (30 de junio de 152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- Moctezuma muerto herido por una piedra lanzada por los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mismos Mex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12 CuadroTexto"/>
          <p:cNvSpPr/>
          <p:nvPr/>
        </p:nvSpPr>
        <p:spPr>
          <a:xfrm>
            <a:off x="642960" y="5005440"/>
            <a:ext cx="785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Sitio y caída de Tenochtitlá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13 CuadroTexto"/>
          <p:cNvSpPr/>
          <p:nvPr/>
        </p:nvSpPr>
        <p:spPr>
          <a:xfrm>
            <a:off x="1571760" y="5402160"/>
            <a:ext cx="70722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Conquistadores preparan el regreso. Consolidan alianza con tlaxcaltecas, chalcas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Sitió la ciudad  y usó bergantines para navegar los canales. Cortaron los suministros de agua dul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90 caballos, 59 ballesteros y escopeteros, 460 peones de espada y rodela, 75000 aliados indígen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93 días de sitio: mexicas alimentadas de raíces, agua salada, dormían entre los muertos, no querían la pa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Caída de México Tenochtitlán 13 de agosto de 15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2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0066"/>
                </a:solidFill>
                <a:latin typeface="Arial"/>
              </a:rPr>
              <a:t>1. Conquista de México Tenochtitlán 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5 CuadroTexto"/>
          <p:cNvSpPr/>
          <p:nvPr/>
        </p:nvSpPr>
        <p:spPr>
          <a:xfrm>
            <a:off x="642960" y="733320"/>
            <a:ext cx="785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La caída de Tenochtitlán no significó la conquista española de todo el territor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6 CuadroTexto"/>
          <p:cNvSpPr/>
          <p:nvPr/>
        </p:nvSpPr>
        <p:spPr>
          <a:xfrm>
            <a:off x="1571760" y="1349280"/>
            <a:ext cx="70722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Casi un siglo de expediciones o de empresas de conquist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Descontado el pago a la Corona, el porcentaje de Cortés, los gastos de la expedición, el pago a la tropa fue de 70 pesos (una espada costaba 50 pesos). Nuevas expediciones impulsadas </a:t>
            </a:r>
            <a:r>
              <a:rPr b="1" lang="es-MX" sz="1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8 CuadroTexto"/>
          <p:cNvSpPr/>
          <p:nvPr/>
        </p:nvSpPr>
        <p:spPr>
          <a:xfrm>
            <a:off x="642960" y="2427120"/>
            <a:ext cx="785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Recordar: la Conquista siguió la forma en la que se realizó la Reconquista española del territorio ocupado por los musulma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11 CuadroTexto"/>
          <p:cNvSpPr/>
          <p:nvPr/>
        </p:nvSpPr>
        <p:spPr>
          <a:xfrm>
            <a:off x="1571760" y="3078000"/>
            <a:ext cx="7072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Conquista empresa privada a través de capitulacio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Capitulaciones: contrato por el que la Corona le encomienda a un caudillo realizar un determinado servicio. </a:t>
            </a:r>
            <a:r>
              <a:rPr b="0" i="1" lang="es-MX" sz="1600" spc="-1" strike="noStrike">
                <a:solidFill>
                  <a:srgbClr val="ff0000"/>
                </a:solidFill>
                <a:latin typeface="Arial"/>
              </a:rPr>
              <a:t>NO NECESARIAMENTE LE DA LOS RECURSOS PARA HACERLO Y SE ACUERDA COMO PAGO PARTE DE LO QUE OBTENGA POR CUMPLIR LA EMPRE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15 CuadroTexto"/>
          <p:cNvSpPr/>
          <p:nvPr/>
        </p:nvSpPr>
        <p:spPr>
          <a:xfrm>
            <a:off x="642960" y="4375080"/>
            <a:ext cx="785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El avance hacia el norte fue lento por ser territorios fuera del dominio mexica e integrados por grupos nómadas (frontera de guerr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16 CuadroTexto"/>
          <p:cNvSpPr/>
          <p:nvPr/>
        </p:nvSpPr>
        <p:spPr>
          <a:xfrm>
            <a:off x="1571760" y="5027760"/>
            <a:ext cx="70722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Guerra del Mixtón (1540-1542): primer proyecto de la Nueva España para extenderse hacia el norte (30000 hombres entre indígenas y español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Descubrimiento de yacimientos de plata de Zacatecas (1546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Entre 1550 y 1590: Nueva Galicia (Nayarit, Jalisco, Colima, San Luis Potosí y Aguascalientes), Nueva Vizcaya (Chihuahua y Durango), Nuevo León y Nuevo Méxic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2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0066"/>
                </a:solidFill>
                <a:latin typeface="Arial"/>
              </a:rPr>
              <a:t>2. La Colon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5 CuadroTexto"/>
          <p:cNvSpPr/>
          <p:nvPr/>
        </p:nvSpPr>
        <p:spPr>
          <a:xfrm>
            <a:off x="642960" y="733320"/>
            <a:ext cx="785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A la caída de México Tenochtitlán se fundó el Virreinato de la Nueva Españ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88360" cy="51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2"/>
          <p:cNvSpPr/>
          <p:nvPr/>
        </p:nvSpPr>
        <p:spPr>
          <a:xfrm>
            <a:off x="457200" y="71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0066"/>
                </a:solidFill>
                <a:latin typeface="Arial"/>
              </a:rPr>
              <a:t>2. Colonia anteceden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5 CuadroTexto"/>
          <p:cNvSpPr/>
          <p:nvPr/>
        </p:nvSpPr>
        <p:spPr>
          <a:xfrm>
            <a:off x="642960" y="1020600"/>
            <a:ext cx="785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Mientras se conformaba la colonia se daba al mismo tiempo que en Europa se experimentaba una transformación cultural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6 CuadroTexto"/>
          <p:cNvSpPr/>
          <p:nvPr/>
        </p:nvSpPr>
        <p:spPr>
          <a:xfrm>
            <a:off x="1571760" y="1636560"/>
            <a:ext cx="7072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Desarticulación medie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Ruptura de la cristiandad: América Latina conquistada por una potencia Católica en medio de una Reforma Protestante (S.XV y S.VX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9 CuadroTexto"/>
          <p:cNvSpPr/>
          <p:nvPr/>
        </p:nvSpPr>
        <p:spPr>
          <a:xfrm>
            <a:off x="642960" y="2735280"/>
            <a:ext cx="785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Pocos conquistador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10 CuadroTexto"/>
          <p:cNvSpPr/>
          <p:nvPr/>
        </p:nvSpPr>
        <p:spPr>
          <a:xfrm>
            <a:off x="1571760" y="3143160"/>
            <a:ext cx="70722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Hacia 1530: 2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Llegaron más con las minas: 10000 a mediados del S. XV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Órdenes religiosas para evangelizar de manera pacífica a los indígenas : 800 eclesiástico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12 CuadroTexto"/>
          <p:cNvSpPr/>
          <p:nvPr/>
        </p:nvSpPr>
        <p:spPr>
          <a:xfrm>
            <a:off x="642960" y="4371840"/>
            <a:ext cx="7858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Después de menos de medio siglo de la conquista: desarticulación del orden político, social y económico y destrucción, demográfica y cultural: donde había 10 habitantes quedaba u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13 CuadroTexto"/>
          <p:cNvSpPr/>
          <p:nvPr/>
        </p:nvSpPr>
        <p:spPr>
          <a:xfrm>
            <a:off x="1571760" y="5351400"/>
            <a:ext cx="7072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Enfermedades y epidemias, traslados de población, exceso de trabajo, mala alimentación: de 25 millones de habitantes estimados en 1519 a 2.6 millones en 154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Daño la idea de los conquistadores de vivir del tributo e impacto la forma en la que se estructuró institucional, social y económicamente el Virreina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2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0066"/>
                </a:solidFill>
                <a:latin typeface="Arial"/>
              </a:rPr>
              <a:t>3. La Colonia Institucional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9 CuadroTexto"/>
          <p:cNvSpPr/>
          <p:nvPr/>
        </p:nvSpPr>
        <p:spPr>
          <a:xfrm>
            <a:off x="642960" y="1214280"/>
            <a:ext cx="785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La Encomienda se limitó en 1540: los indios eran personas racionales y no eran sujetos a esclavitud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10 CuadroTexto"/>
          <p:cNvSpPr/>
          <p:nvPr/>
        </p:nvSpPr>
        <p:spPr>
          <a:xfrm>
            <a:off x="1571760" y="1812960"/>
            <a:ext cx="70722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8920" indent="-8892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En ese momento, la mitad del tributo era cobrado por funcionarios reales y no entregado a través de los encomender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1570 indígenas vasallos directos del Re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Indígenas sujetos de contrat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7 CuadroTexto"/>
          <p:cNvSpPr/>
          <p:nvPr/>
        </p:nvSpPr>
        <p:spPr>
          <a:xfrm>
            <a:off x="642960" y="2844720"/>
            <a:ext cx="785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Posición de los indígenas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8 CuadroTexto"/>
          <p:cNvSpPr/>
          <p:nvPr/>
        </p:nvSpPr>
        <p:spPr>
          <a:xfrm>
            <a:off x="1571760" y="3143160"/>
            <a:ext cx="70722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8920" indent="-8892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La difusión espiritual a través de las órdenes también difunde la idea de la protección directa del rey. Vinculo rey-indígenas más allá de los conquistado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Protegidos y amparados por el rey y virrey por ser personas débiles y en condición miserable. Conquistadores molestos al considerarse merecedores de prerrogativ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Mantuvieron usos y costumbr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13 CuadroTexto"/>
          <p:cNvSpPr/>
          <p:nvPr/>
        </p:nvSpPr>
        <p:spPr>
          <a:xfrm>
            <a:off x="2428920" y="5043600"/>
            <a:ext cx="564336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La comunidad importante: tributo al encomendero o a los alcaldes mayores españoles era individual pero la comunidad recaudaba según el número de habitan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Se tributaba según la cantidad de tierra cultivada y bienes poseíd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En términos religiosos hubo flexibilidad con la práctica de su religión: rito privado y rito público derivo en sincretism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2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0066"/>
                </a:solidFill>
                <a:latin typeface="Arial"/>
              </a:rPr>
              <a:t>3. La Colonia…Institucionalidad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9 CuadroTexto"/>
          <p:cNvSpPr/>
          <p:nvPr/>
        </p:nvSpPr>
        <p:spPr>
          <a:xfrm>
            <a:off x="642960" y="857160"/>
            <a:ext cx="785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Cabildos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10 CuadroTexto"/>
          <p:cNvSpPr/>
          <p:nvPr/>
        </p:nvSpPr>
        <p:spPr>
          <a:xfrm>
            <a:off x="1571760" y="1265400"/>
            <a:ext cx="7072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8920" indent="-8892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Corporaciones municipales del medievo español que fueron llevados a América (institución castellan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Mecanismo de representación de las elites locales frente a la burocracia real y medio por el que los vecinos velaban por sus asuntos administrativos y político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Se componían de dos alcaldes; de entre 6 y 12 regidores; procurador; mayordomo; escribano público; alguacil mayor; alférez real; fiel ejecutor; corregidor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Conflicto entre Cabildos y Encomender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Cabildo de la Ciudad de México (1524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7 CuadroTexto"/>
          <p:cNvSpPr/>
          <p:nvPr/>
        </p:nvSpPr>
        <p:spPr>
          <a:xfrm>
            <a:off x="642960" y="3786120"/>
            <a:ext cx="785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Cabildo de Españoles y Cabildo de Indios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8 CuadroTexto"/>
          <p:cNvSpPr/>
          <p:nvPr/>
        </p:nvSpPr>
        <p:spPr>
          <a:xfrm>
            <a:off x="1571760" y="4071960"/>
            <a:ext cx="7072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8920" indent="-8892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Ambos fuertes con autoridad y cabeza en su cabil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Ambos institución jerárquica, con funciones políticas y sociales particular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13 CuadroTexto"/>
          <p:cNvSpPr/>
          <p:nvPr/>
        </p:nvSpPr>
        <p:spPr>
          <a:xfrm>
            <a:off x="2428920" y="4714920"/>
            <a:ext cx="564336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Cabildo de Indios: Mantenía la estructura prehispánica: deberes diferenciales entre </a:t>
            </a:r>
            <a:r>
              <a:rPr b="0" i="1" lang="es-MX" sz="1400" spc="-1" strike="noStrike">
                <a:solidFill>
                  <a:srgbClr val="000000"/>
                </a:solidFill>
                <a:latin typeface="Arial"/>
              </a:rPr>
              <a:t>pipiltin 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0" i="1" lang="es-MX" sz="1400" spc="-1" strike="noStrike">
                <a:solidFill>
                  <a:srgbClr val="000000"/>
                </a:solidFill>
                <a:latin typeface="Arial"/>
              </a:rPr>
              <a:t>macehuales. 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Los gobernadores indígenas aprobados por la autoridad hispánica porque era el nexo entre la sociedad india y española. Importante autonom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Cabildo de Españoles: reclamaba autonomía del poder real por considerarse los verdaderos conquistadores y pobladores. Tan fuerte la idea que el Cabildo de la Cd. de México era la cabeza visible de la Nueva España y representaba a todos los cabildos que la integraba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4T22:11:13Z</dcterms:created>
  <dc:creator>npm.piaac</dc:creator>
  <dc:description/>
  <dc:language>en-US</dc:language>
  <cp:lastModifiedBy>npm.piaac</cp:lastModifiedBy>
  <dcterms:modified xsi:type="dcterms:W3CDTF">2009-08-18T18:01:20Z</dcterms:modified>
  <cp:revision>179</cp:revision>
  <dc:subject/>
  <dc:title>México</dc:title>
</cp:coreProperties>
</file>