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1FB6-7E6D-453C-B996-FB4AFE5C96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7748-46EB-439D-9D2C-29DD9AE493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DE52-2E7D-4DD9-8EDC-138A086948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C8E-CC9C-487D-AEA3-2E27404FB9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B2E8-4A16-444A-AF9E-ACC7DEA058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84E-55B8-497E-B231-3241027BF0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8761-3BC8-4CA8-8964-0051CDF9B8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A30D-4D37-4931-86A9-2B1A6F9925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4A07-B944-4171-A8A4-494FFFA6D8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D5C2-834B-4992-8B9A-2F75BDDC02F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45B8-0E56-484C-916D-3010D217AA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B4B-8E65-4261-A00F-A87031108D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8483-C667-4C95-B1F8-FE5B1760DA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6FB-AF95-4A53-9131-5E5F4201B6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FD94-A9F8-4A15-859D-A455E7CF4DC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35E6-2E3B-4E94-9F5F-C9BD12E88C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8ACF-05C6-4D7B-9CC6-67A76CE458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304B-12A5-4E1B-81A5-F912E579D8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B7CF-A3BF-4F77-B627-E8F505DB9B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D727-0307-47B9-B54A-4E4A677CFE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555E-6348-4511-8377-86025CADB4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8B3-1700-4057-8A67-ADACDF8CD3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2AC-2D02-4A32-A13B-9F763AF8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136-A468-4F18-B9E6-67E245D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C8D-46DC-4F70-82EB-D35924F3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AE9-FC0F-4DD7-A086-A0DE211E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0A2-99DF-46B9-A103-C8F3D771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DC3-1999-41DA-955C-8EC3E90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B13-2FAB-4D61-B88B-CF495AB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598-ED00-4338-8C06-3FA1C4EF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B5B-F187-4156-8EAB-5ECDE03A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0E1-CCC1-4119-BB19-FB9A490F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DF3-45F9-4357-83DE-ABA747E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F9A-2B70-45B0-8138-CF461FA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90DB-9846-448E-8B4C-A65C5A0F2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Conquista y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42960" y="10587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upción ¿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12 Grupo"/>
          <p:cNvGrpSpPr/>
          <p:nvPr/>
        </p:nvGrpSpPr>
        <p:grpSpPr>
          <a:xfrm>
            <a:off x="1571760" y="1623960"/>
            <a:ext cx="7072200" cy="2649600"/>
            <a:chOff x="1571760" y="1623960"/>
            <a:chExt cx="7072200" cy="2649600"/>
          </a:xfrm>
        </p:grpSpPr>
        <p:sp>
          <p:nvSpPr>
            <p:cNvPr id="95" name="10 CuadroTexto"/>
            <p:cNvSpPr/>
            <p:nvPr/>
          </p:nvSpPr>
          <p:spPr>
            <a:xfrm>
              <a:off x="1571760" y="162396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Alcaldes mayores y corregidores: mediar entre cabildos de indios y españoles dentro de los cabildos y entre estos y la jurisdicción de la Ciudad de México. Actuaban como jueces de primera instancia y mantenían el orden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11 CuadroTexto"/>
            <p:cNvSpPr/>
            <p:nvPr/>
          </p:nvSpPr>
          <p:spPr>
            <a:xfrm>
              <a:off x="2143080" y="2687760"/>
              <a:ext cx="5643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Al principio: nombrados por el rey y con sueldo regula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Encontraron más lucrativo comerciar con los pueblos y comunidades indias. Los virreyes compensaban con estos cargos a miembros de su familia o pagaban servicios prestados. Al final se daba sólo el cargo sin sueldo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Cargo de regidor vendible a criollos por un donativo al rey (cargo heredab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21 CuadroTexto"/>
          <p:cNvSpPr/>
          <p:nvPr/>
        </p:nvSpPr>
        <p:spPr>
          <a:xfrm>
            <a:off x="2500200" y="4540320"/>
            <a:ext cx="6072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1621-1643 Los colonias perdieron el trato diferencial de la Corona y se convirtieron reinos con las mismas obligaciones que la Pení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Más con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Defensa de ataques comerciales y militares de Inglaterra, Francia y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Fracaso: más autonomía de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 .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7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de población indígen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uadroTexto"/>
          <p:cNvSpPr/>
          <p:nvPr/>
        </p:nvSpPr>
        <p:spPr>
          <a:xfrm>
            <a:off x="1571760" y="1208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l orden interno de las comunidades, movilidad geográfica hacia ciudades y centros mineros o zonas de refugios. Mano de obra dispon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mpacto en producción:  actividad económica que usaba menos mano de obra, transformación de campos AGRÍCOLAS en campos GANA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1 CuadroTexto"/>
          <p:cNvSpPr/>
          <p:nvPr/>
        </p:nvSpPr>
        <p:spPr>
          <a:xfrm>
            <a:off x="64296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mpacto del ganado y bestias de carga: Revolución tecnológica que no se vería hasta el ferrocarr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2 CuadroTexto"/>
          <p:cNvSpPr/>
          <p:nvPr/>
        </p:nvSpPr>
        <p:spPr>
          <a:xfrm>
            <a:off x="1571760" y="294624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impacto de una revolución tecnológica es que se puede producir más con la misma cantidad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ueva fuente de energía y transporte más eficiente que la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o la caída en la pob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nsformación de mineral en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transportes (carretas), permitió cierta vinculación entre regi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uadroTexto"/>
          <p:cNvSpPr/>
          <p:nvPr/>
        </p:nvSpPr>
        <p:spPr>
          <a:xfrm>
            <a:off x="642960" y="4929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rcio, en un principio, mantuvo los rasgos prehispán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9 CuadroTexto"/>
          <p:cNvSpPr/>
          <p:nvPr/>
        </p:nvSpPr>
        <p:spPr>
          <a:xfrm>
            <a:off x="1571760" y="529272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rcados y tiang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ismos grupos de mercaderes hasta fines del S.XVI pero aprovechando nuevos medios de transporte y nuevos merc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4. La Colonia…econom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642960" y="14158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ducción de pl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8 CuadroTexto"/>
          <p:cNvSpPr/>
          <p:nvPr/>
        </p:nvSpPr>
        <p:spPr>
          <a:xfrm>
            <a:off x="1571760" y="2295360"/>
            <a:ext cx="707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a de Moneda de México: moneda acuñada 1550: 1.5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80: 3.0 millo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600: 4.5 mill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 productor mundial de plata S.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oducción de plata no disminuye en los S. XVII y XV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inculación con la economía española y europ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ermitió el comercio interno: economías locales con comercio gracias a la pl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0040" y="71280"/>
            <a:ext cx="81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66"/>
                </a:solidFill>
                <a:latin typeface="Arial"/>
              </a:rPr>
              <a:t>5. Repunte de la población y sociedad (1650-175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7 CuadroTexto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punte demográ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1571760" y="10461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indígena: generó defensas ante enfermedades, última gran epidemia 1578-1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blación mestiza, mulata y criolla: La que más creci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42960" y="2644920"/>
          <a:ext cx="7929720" cy="4046400"/>
        </p:xfrm>
        <a:graphic>
          <a:graphicData uri="http://schemas.openxmlformats.org/drawingml/2006/table">
            <a:tbl>
              <a:tblPr/>
              <a:tblGrid>
                <a:gridCol w="2035080"/>
                <a:gridCol w="1982880"/>
                <a:gridCol w="198288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indíg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españ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crio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blación mesti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,3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2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0: 1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1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4: 8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 de México 5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6: 27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6: 7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ominaba en el nor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autonomía: explotaban condición de miserables para ocultar bienes y evadir tribu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o de obra, tierra y agua su riqu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desaparecer la encomienda  se convirtieron en: hacendados, comerciantes, profesionales, eclesiásticos, funcionarios reales y servidore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inados: no pagaban tributo por lo que no tenían estatuto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greso al cl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ceso a la Un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ficios públ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EROS: transporte de ganado y productos ya sea legal o contraba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ígenas, españoles y mestizos debieron interactuar m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21 CuadroTexto"/>
          <p:cNvSpPr/>
          <p:nvPr/>
        </p:nvSpPr>
        <p:spPr>
          <a:xfrm>
            <a:off x="2928960" y="1903320"/>
            <a:ext cx="5357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Carecía de estatuto jurídico y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Población espuria producto de una unión ilegí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6. Integración territorial de la Colo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7 CuadroTexto"/>
          <p:cNvSpPr/>
          <p:nvPr/>
        </p:nvSpPr>
        <p:spPr>
          <a:xfrm>
            <a:off x="642960" y="109692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udades capitales y puertos: centros de unión de la red de caminos y ríos navegables que unían áreas agrícolas y ganaderas con los centros mine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CuadroTexto"/>
          <p:cNvSpPr/>
          <p:nvPr/>
        </p:nvSpPr>
        <p:spPr>
          <a:xfrm>
            <a:off x="1571760" y="192888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o no significa que el territorio estuviera integrado: más bien significa que alrededor de un centro minero se desarrollaba agricultura y ganadería que sustentara la actividad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sencia de rutas terrestres desarrollo de rutas marítimas que limitaron el comercio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a agricultura y ganadería se desarrollaba de acuerdo a las características productivas y sociales de la reg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fueron constituyendo así características regionales que todavía se pueden observar en la actu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42960" y="4270320"/>
          <a:ext cx="8001000" cy="24382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S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entro-N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de villas y pueblos indios y centros mineros que conviven con 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udades españ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 al norte productos y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 sur al centro productos nativos (grana cochinilla y cacao) y productos chinos (Nao de 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aban al centro mineral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do menor en comunidades indíge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fundio ganadero que sustentó el desarrollo mi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7 CuadroTexto"/>
          <p:cNvSpPr/>
          <p:nvPr/>
        </p:nvSpPr>
        <p:spPr>
          <a:xfrm>
            <a:off x="642960" y="13971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teracción entre áreas de producción y concentraciones urbanas: a mayor concentración urbana mayor área agrícola, ganadera y min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CuadroTexto"/>
          <p:cNvSpPr/>
          <p:nvPr/>
        </p:nvSpPr>
        <p:spPr>
          <a:xfrm>
            <a:off x="1571760" y="20732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da actividad productiva permitía que se desarrollaran las dem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rigo y ganado corrían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Maíz trans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Agricultura permitía que la minería se desarroll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* Tej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- Esta “suficiencia” regional y lo difícil de las comunicaciones terrestres limitaron la creación de un mercado inte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551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CuadroTexto"/>
          <p:cNvSpPr/>
          <p:nvPr/>
        </p:nvSpPr>
        <p:spPr>
          <a:xfrm>
            <a:off x="642960" y="1357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nopolios y prohibición de producció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CuadroTexto"/>
          <p:cNvSpPr/>
          <p:nvPr/>
        </p:nvSpPr>
        <p:spPr>
          <a:xfrm>
            <a:off x="1571760" y="1643040"/>
            <a:ext cx="7072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onopolio mercantil: Finales del S.XVI mercaderes ricos se agruparon en una corporación mercantil (Tribunal del Consulado) que controlaba la circulación de: plata productos importados (mercurio, fierro, papel, tejidos y productos agrícolas mediterráne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rza del monopolio: control de productos para la producción minera (azogue y fierro) y bienes de lujo para criollos y peninsu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hibiciones para producir con el fin de mantener en el monopolio: olivo, viñas. Destrucción de moreras (sed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resión de comercio con Perú (16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9 CuadroTexto"/>
          <p:cNvSpPr/>
          <p:nvPr/>
        </p:nvSpPr>
        <p:spPr>
          <a:xfrm>
            <a:off x="642960" y="42292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ble monopolio: el de las Casas de Cádiz y Sevilla que hacían los cargamentos y las de las ferias de comerci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s acciones de la Corona implicaron una pérdida de eficiencia y además comprometieron la capacidad productiva de la Nueva Espa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7. La Colonia…Economía (1600-17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19 Grupo"/>
          <p:cNvGrpSpPr/>
          <p:nvPr/>
        </p:nvGrpSpPr>
        <p:grpSpPr>
          <a:xfrm>
            <a:off x="500040" y="2865600"/>
            <a:ext cx="8429760" cy="2188440"/>
            <a:chOff x="500040" y="2865600"/>
            <a:chExt cx="8429760" cy="2188440"/>
          </a:xfrm>
        </p:grpSpPr>
        <p:sp>
          <p:nvSpPr>
            <p:cNvPr id="128" name="20 CuadroTexto"/>
            <p:cNvSpPr/>
            <p:nvPr/>
          </p:nvSpPr>
          <p:spPr>
            <a:xfrm>
              <a:off x="500040" y="2865600"/>
              <a:ext cx="787392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uptura parcial del monopolio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21 CuadroTexto"/>
            <p:cNvSpPr/>
            <p:nvPr/>
          </p:nvSpPr>
          <p:spPr>
            <a:xfrm>
              <a:off x="1843200" y="3256560"/>
              <a:ext cx="7086600" cy="1797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e rompió el monopolio de las Casas de Cádiz y Sevilla por el contrabando en complicidad con los mercaderes. Más productos y más baratos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Grandes ganancias a comerciantes: ingleses, holandeses e hispanoamerica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Islas del Cari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omercio legal creció poco lo que impacto en la decadencia españo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20 CuadroTexto"/>
          <p:cNvSpPr/>
          <p:nvPr/>
        </p:nvSpPr>
        <p:spPr>
          <a:xfrm>
            <a:off x="1143000" y="2143080"/>
            <a:ext cx="3429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Qué es un monopolio? ¿Cómo impacta al bienest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1 CuadroTexto"/>
          <p:cNvSpPr/>
          <p:nvPr/>
        </p:nvSpPr>
        <p:spPr>
          <a:xfrm>
            <a:off x="5000760" y="2130480"/>
            <a:ext cx="34588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¿Por qué el monopolio? ¿Cómo se explica históricamen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66"/>
                </a:solidFill>
                <a:latin typeface="Arial"/>
              </a:rPr>
              <a:t>8. Caldo de cultivo a la independencia (mediados del S.XV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9 CuadroTexto"/>
          <p:cNvSpPr/>
          <p:nvPr/>
        </p:nvSpPr>
        <p:spPr>
          <a:xfrm>
            <a:off x="642960" y="220500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ría consecuencias de la política madrileña y los cambios administr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esiva presión fiscal y enfrentamiento entre la administración real y estamen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indígena en revueltas: signo de que el acuerdo institucional que contaba con el apoyo de gobernadores y caciques indios se empezaba a desquebr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ormas borbónicas afectaron a los reinos españoles: afectaron  los comerciantes y más 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00160"/>
            <a:ext cx="8229600" cy="92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66"/>
                </a:solidFill>
                <a:latin typeface="Arial"/>
              </a:rPr>
              <a:t>Índ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1200" y="1555560"/>
            <a:ext cx="814716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Fin del imperio mexica – CONQU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stitucion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repunte de la población y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integración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olonia…. economía otra v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aldo de cultivo para la 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57200" y="-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CuadroTexto"/>
          <p:cNvSpPr/>
          <p:nvPr/>
        </p:nvSpPr>
        <p:spPr>
          <a:xfrm>
            <a:off x="642960" y="571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uropa: Ideas económicas y políticas S. XVI al S.XVI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CuadroTexto"/>
          <p:cNvSpPr/>
          <p:nvPr/>
        </p:nvSpPr>
        <p:spPr>
          <a:xfrm>
            <a:off x="1571760" y="1000080"/>
            <a:ext cx="7072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jerencia del Estado en la Economía (proteccionismo, restricciones a la producción, impues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ormación de Estados-Nación fuertes (integración del mercado inte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speridad de una nación depende de la acumulación de c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Los reyes desean la mayor cantidad de oro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economía un juego de suma cero: potencias europeas luchando por el control de los mercados disponibles e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apital: metales preciosos a través de una balanza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comercial positiva. Favorecer exportaciones sobre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import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14240" y="5013360"/>
          <a:ext cx="8215560" cy="1341360"/>
        </p:xfrm>
        <a:graphic>
          <a:graphicData uri="http://schemas.openxmlformats.org/drawingml/2006/table">
            <a:tbl>
              <a:tblPr/>
              <a:tblGrid>
                <a:gridCol w="2738520"/>
                <a:gridCol w="2738520"/>
                <a:gridCol w="27385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franc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ingl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ntilismo español (bullionis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iz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o ex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mulación de metales preciosos.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ubrimiento y metales de Amér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Mercantilismo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 CuadroTexto"/>
          <p:cNvSpPr/>
          <p:nvPr/>
        </p:nvSpPr>
        <p:spPr>
          <a:xfrm>
            <a:off x="642960" y="11304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as mercantilistas que no necesariamente se respetaron en Amé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8 CuadroTexto"/>
          <p:cNvSpPr/>
          <p:nvPr/>
        </p:nvSpPr>
        <p:spPr>
          <a:xfrm>
            <a:off x="1571760" y="157176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Todas las materias primas de un país deben ser utilizadas en manufacturas nacionale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prohibiciones a la producció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597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Fomentar una población grande y trabajador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los mestizos no tienen un estatus legal, no se incorporan en la estructura y ni tributo pagaba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Que se obstaculicen cuanto sea posible las importaciones de bienes extranjeros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importaciones a la Nueva España!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597a0"/>
                </a:solidFill>
                <a:latin typeface="Arial"/>
              </a:rPr>
              <a:t>- Vender el excedente de manufacturas a otros países a cambio de oro y plata </a:t>
            </a: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¡no producción interna y en muchos casos los españoles comerciaban en la Nueva España productos de otro países por conseguir oro y plata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642960" y="4572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mpresarios beneficiados: monopolios, prohibiciones a las importaciones, pobreza de trabaj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biernos beneficiados: costo de los aranceles y pago de los mercad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7 Flecha izquierda"/>
          <p:cNvSpPr/>
          <p:nvPr/>
        </p:nvSpPr>
        <p:spPr>
          <a:xfrm>
            <a:off x="6643800" y="5643720"/>
            <a:ext cx="1928880" cy="857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642960" y="857160"/>
            <a:ext cx="7858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reformas de inicios del S.XVI incrementó la carga de los pueblos dominados por la Triple Alianza (Tenochtitlán, Texcoco y Tlacopá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tés partió de Cuba en una tercera expedición a territorio Mex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conquistadores impresionados por México-Tenochtitlán por ser tan grande como Sev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embarco de Hernán Cortés en Veracruz dio inicio a la conquista de México (1519-15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6 CuadroTexto"/>
          <p:cNvSpPr/>
          <p:nvPr/>
        </p:nvSpPr>
        <p:spPr>
          <a:xfrm>
            <a:off x="1571760" y="346068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imera victoria en Tabasco, entrega de joyas, algodón, 20 muchachas entre ellas Malitzin (Malinche, hablaba náhuatl y maya y aprendió españ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ucción le sirvió para tener información sobre el territorio, rivalidades, posibilidades de ali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2428920" y="4687920"/>
            <a:ext cx="56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anzas: Cortés ratificaba a los gobernantes y prometía librarlos de los tributos de la Triple Al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tras poblaciones (zapotecos enviaron mensajes a Cortés para hacer alianz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imentaba rivalidades entre familias gobern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5 CuadroTexto"/>
          <p:cNvSpPr/>
          <p:nvPr/>
        </p:nvSpPr>
        <p:spPr>
          <a:xfrm>
            <a:off x="642960" y="92880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emperador Mexica, Moctezuma, solicita a los conquistadores que se vayan de manera pacífica y ofrece regalos lo que incrementa las expectativas de los conquis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6 CuadroTexto"/>
          <p:cNvSpPr/>
          <p:nvPr/>
        </p:nvSpPr>
        <p:spPr>
          <a:xfrm>
            <a:off x="1571760" y="184320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rcambio de regalos entre mexicas y españoles: los primeros oro, plata, joyas, los españoles espejos y cuentas de vid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642960" y="242892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ctezuma no es capaz de asumirse como líder de los mexicas: mezcla de superstición y, ante la inminencia de la derrota, miedo a la destrucción y ma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enzó a pedir tributo en oro a los pueblos sometidos para darlo a los Españ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0 CuadroTexto"/>
          <p:cNvSpPr/>
          <p:nvPr/>
        </p:nvSpPr>
        <p:spPr>
          <a:xfrm>
            <a:off x="642960" y="39020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ulsión de españoles de Tenochtitlán después de la matanza del templo mayor (30 de junio de 15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Moctezuma muerto herido por una piedra lanzada por lo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smos Mex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2 CuadroTexto"/>
          <p:cNvSpPr/>
          <p:nvPr/>
        </p:nvSpPr>
        <p:spPr>
          <a:xfrm>
            <a:off x="642960" y="50054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tio y caída de Tenochtitlá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1571760" y="5402160"/>
            <a:ext cx="7072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quistadores preparan el regreso. Consolidan alianza con tlaxcaltecas, chalca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tió la ciudad  y usó bergantines para navegar los canales. Cortaron los suministros de agua dul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0 caballos, 59 ballesteros y escopeteros, 460 peones de espada y rodela, 75000 aliados indíge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93 días de sitio: mexicas alimentadas de raíces, agua salada, dormían entre los muertos, no querían la 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ída de México Tenochtitlán 13 de agosto de 15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1. Conquista de México Tenochtitlá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ída de Tenochtitlán no significó la conquista española de todo el terri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6 CuadroTexto"/>
          <p:cNvSpPr/>
          <p:nvPr/>
        </p:nvSpPr>
        <p:spPr>
          <a:xfrm>
            <a:off x="1571760" y="134928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si un siglo de expediciones o de empresas de conquis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ontado el pago a la Corona, el porcentaje de Cortés, los gastos de la expedición, el pago a la tropa fue de 70 pesos (una espada costaba 50 pesos). Nuevas expediciones impulsadas </a:t>
            </a:r>
            <a:r>
              <a:rPr b="1" lang="es-MX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CuadroTexto"/>
          <p:cNvSpPr/>
          <p:nvPr/>
        </p:nvSpPr>
        <p:spPr>
          <a:xfrm>
            <a:off x="642960" y="24271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rdar: la Conquista siguió la forma en la que se realizó la Reconquista española del territorio ocupado por los musulm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1 CuadroTexto"/>
          <p:cNvSpPr/>
          <p:nvPr/>
        </p:nvSpPr>
        <p:spPr>
          <a:xfrm>
            <a:off x="1571760" y="30780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quista empresa privada a través de capitul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itulaciones: contrato por el que la Corona le encomienda a un caudillo realizar un determinado servicio. </a:t>
            </a:r>
            <a:r>
              <a:rPr b="0" i="1" lang="es-MX" sz="1600" spc="-1" strike="noStrike">
                <a:solidFill>
                  <a:srgbClr val="ff0000"/>
                </a:solidFill>
                <a:latin typeface="Arial"/>
              </a:rPr>
              <a:t>NO NECESARIAMENTE LE DA LOS RECURSOS PARA HACERLO Y SE ACUERDA COMO PAGO PARTE DE LO QUE OBTENGA POR CUMPLIR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5 CuadroTexto"/>
          <p:cNvSpPr/>
          <p:nvPr/>
        </p:nvSpPr>
        <p:spPr>
          <a:xfrm>
            <a:off x="642960" y="43750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vance hacia el norte fue lento por ser territorios fuera del dominio mexica e integrados por grupos nómadas (frontera de guer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6 CuadroTexto"/>
          <p:cNvSpPr/>
          <p:nvPr/>
        </p:nvSpPr>
        <p:spPr>
          <a:xfrm>
            <a:off x="1571760" y="5027760"/>
            <a:ext cx="70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erra del Mixtón (1540-1542): primer proyecto de la Nueva España para extenderse hacia el norte (30000 hombres entre indígenas y españo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cubrimiento de yacimientos de plata de Zacatecas (154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 1550 y 1590: Nueva Galicia (Nayarit, Jalisco, Colima, San Luis Potosí y Aguascalientes), Nueva Vizcaya (Chihuahua y Durango), Nuevo León y Nuevo Mé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La Col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60" y="7333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 la caída de México Tenochtitlán se fundó el Virreinato de la Nueva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8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2. Colonia anteced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CuadroTexto"/>
          <p:cNvSpPr/>
          <p:nvPr/>
        </p:nvSpPr>
        <p:spPr>
          <a:xfrm>
            <a:off x="642960" y="10206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ientras se conformaba la colonia se daba al mismo tiempo que en Europa se experimentaba una transformación cultura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6 CuadroTexto"/>
          <p:cNvSpPr/>
          <p:nvPr/>
        </p:nvSpPr>
        <p:spPr>
          <a:xfrm>
            <a:off x="1571760" y="1636560"/>
            <a:ext cx="70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ticulación medi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uptura de la cristiandad: América Latina conquistada por una potencia Católica en medio de una Reforma Protestante (S.XV y S.V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9 CuadroTexto"/>
          <p:cNvSpPr/>
          <p:nvPr/>
        </p:nvSpPr>
        <p:spPr>
          <a:xfrm>
            <a:off x="642960" y="27352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cos conquist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0 CuadroTexto"/>
          <p:cNvSpPr/>
          <p:nvPr/>
        </p:nvSpPr>
        <p:spPr>
          <a:xfrm>
            <a:off x="1571760" y="31431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ia 1530: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legaron más con las minas: 10000 a mediados del S. X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Órdenes religiosas para evangelizar de manera pacífica a los indígenas : 800 eclesiástic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2 CuadroTexto"/>
          <p:cNvSpPr/>
          <p:nvPr/>
        </p:nvSpPr>
        <p:spPr>
          <a:xfrm>
            <a:off x="642960" y="437184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pués de menos de medio siglo de la conquista: desarticulación del orden político, social y económico y destrucción, demográfica y cultural: donde había 10 habitantes quedab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3 CuadroTexto"/>
          <p:cNvSpPr/>
          <p:nvPr/>
        </p:nvSpPr>
        <p:spPr>
          <a:xfrm>
            <a:off x="1571760" y="5351400"/>
            <a:ext cx="707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fermedades y epidemias, traslados de población, exceso de trabajo, mala alimentación: de 25 millones de habitantes estimados en 1519 a 2.6 millones en 15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año la idea de los conquistadores de vivir del tributo e impacto la forma en la que se estructuró institucional, social y económicamente el Virrein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 Institu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642960" y="12142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ncomienda se limitó en 1540: los indios eran personas racionales y no eran sujetos a esclavitu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0 CuadroTexto"/>
          <p:cNvSpPr/>
          <p:nvPr/>
        </p:nvSpPr>
        <p:spPr>
          <a:xfrm>
            <a:off x="1571760" y="1812960"/>
            <a:ext cx="707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ese momento, la mitad del tributo era cobrado por funcionarios reales y no entregado a través de los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1570 indígenas vasallos directos del R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dígenas sujetos de contra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CuadroTexto"/>
          <p:cNvSpPr/>
          <p:nvPr/>
        </p:nvSpPr>
        <p:spPr>
          <a:xfrm>
            <a:off x="642960" y="28447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sición de los indíge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CuadroTexto"/>
          <p:cNvSpPr/>
          <p:nvPr/>
        </p:nvSpPr>
        <p:spPr>
          <a:xfrm>
            <a:off x="1571760" y="3143160"/>
            <a:ext cx="70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difusión espiritual a través de las órdenes también difunde la idea de la protección directa del rey. Vinculo rey-indígenas más allá de los conquist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tegidos y amparados por el rey y virrey por ser personas débiles y en condición miserable. Conquistadores molestos al considerarse merecedores de prerro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tuvieron usos y costumbr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CuadroTexto"/>
          <p:cNvSpPr/>
          <p:nvPr/>
        </p:nvSpPr>
        <p:spPr>
          <a:xfrm>
            <a:off x="2428920" y="5043600"/>
            <a:ext cx="5643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a comunidad importante: tributo al encomendero o a los alcaldes mayores españoles era individual pero la comunidad recaudaba según el número de hab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 tributaba según la cantidad de tierra cultivada y bienes poseí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 términos religiosos hubo flexibilidad con la práctica de su religión: rito privado y rito público derivo en sincre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66"/>
                </a:solidFill>
                <a:latin typeface="Arial"/>
              </a:rPr>
              <a:t>3. La Colonia…Institucionalidad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9 CuadroTexto"/>
          <p:cNvSpPr/>
          <p:nvPr/>
        </p:nvSpPr>
        <p:spPr>
          <a:xfrm>
            <a:off x="642960" y="85716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0 CuadroTexto"/>
          <p:cNvSpPr/>
          <p:nvPr/>
        </p:nvSpPr>
        <p:spPr>
          <a:xfrm>
            <a:off x="1571760" y="1265400"/>
            <a:ext cx="7072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rporaciones municipales del medievo español que fueron llevados a América (institución castell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canismo de representación de las elites locales frente a la burocracia real y medio por el que los vecinos velaban por sus asuntos administrativos y polític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componían de dos alcaldes; de entre 6 y 12 regidores; procurador; mayordomo; escribano público; alguacil mayor; alférez real; fiel ejecutor; 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flicto entre Cabildos y Encomend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bildo de la Ciudad de México (15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CuadroTexto"/>
          <p:cNvSpPr/>
          <p:nvPr/>
        </p:nvSpPr>
        <p:spPr>
          <a:xfrm>
            <a:off x="642960" y="3786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bildo de Españoles y Cabildo de Indi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CuadroTexto"/>
          <p:cNvSpPr/>
          <p:nvPr/>
        </p:nvSpPr>
        <p:spPr>
          <a:xfrm>
            <a:off x="1571760" y="407196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fuertes con autoridad y cabeza en su cabil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mbos institución jerárquica, con funciones políticas y sociales particula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2428920" y="4714920"/>
            <a:ext cx="5643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Indios: Mantenía la estructura prehispánica: deberes diferenciales entre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ipilti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acehuales.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Los gobernadores indígenas aprobados por la autoridad hispánica porque era el nexo entre la sociedad india y española. Importante autonom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bildo de Españoles: reclamaba autonomía del poder real por considerarse los verdaderos conquistadores y pobladores. Tan fuerte la idea que el Cabildo de la Cd. de México era la cabeza visible de la Nueva España y representaba a todos los cabildos que la integra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4T22:11:13Z</dcterms:created>
  <dc:creator>npm.piaac</dc:creator>
  <dc:description/>
  <dc:language>en-US</dc:language>
  <cp:lastModifiedBy>npm.piaac</cp:lastModifiedBy>
  <dcterms:modified xsi:type="dcterms:W3CDTF">2009-08-18T18:01:20Z</dcterms:modified>
  <cp:revision>179</cp:revision>
  <dc:subject/>
  <dc:title>México</dc:title>
</cp:coreProperties>
</file>