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A353-4EA1-455D-95E0-C4CA8116D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65F4-0B9E-4131-A95E-BBB1D65B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6BC5-4F45-485E-A77A-75F078925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6991-BCC1-4954-B417-52E4FFD85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3EE0-FF6D-46B0-821C-7739B097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3656-D2A4-453E-BA03-39D6683C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2065-E79D-4FEE-9131-34A85F4D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4EF7-79CC-4334-8F7C-6C582DF1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8BE7-D42F-4620-94D9-8CDCF0EE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1B4B-D1F2-4385-A5E8-DE05A667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98C2-60AB-4BC5-86DC-7EC23ACD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8938-BC99-4874-BBCC-B575A811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9832-34C8-4CCD-8172-C6FA2E5A8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conomía de Transición……Argen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 situación cambia a partir de 17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Se crea el Virreynato de la Pl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s reformas borbónicas de 177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Se reconocen  para comercio Trece puertos españoles y 22 en Amér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ntre ellos Buenos Aires y Valparaí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Así Buenos Aires está más cercano a Potosí que Lima, esto hace que se desplace el eje comercial del Alto Perú a Buenos Aires y este puerto se convierta en la salida natural del interior Argenti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Se genera así una disputa de poder Capital- Provincias que durará 80 añ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Por otro lado la penetración inglesa y portuguesa en Brasil tras el descubrimiento de minerales en el sur, también obliga a poblar y fortalecer las ciudades del Río de la Pl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l período de la Conquista en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 Conquista comprende el período entre 1541 y 1598. año de la insurrección indígena que destruyó las ciudades fundadas por los españoles al sur del  Bío-Bío. Emprendida por Pedro de valdivia con 150 sold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De esta forma durante La Colonia los límites de Chile fueron desde Copiapó por el norte hasta Concepción por el S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Fueron destruidas Imperial, Villarrica, Angol, Valdivia, Osorno y Cañe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 principal actividad económica fueron los lavaderos de oro ubicados cerca de Valparaíso (Marga Marga), Concepción (Quilacoya) y otros próximos a Imperial, Villarrica y Valdiv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n los primeros años de la conquista (hasta 1560) se extraen 2.000 kilos de oro al año y posteriormente la producción disminuye a 500 kilos anu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n los lavaderos trabajaron fundamentalmente indígenas bajo el sistema de encomien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n la medida que se agotaba el oro surgió la actividad agropecuaria: vino, charqui, sebo, cordobanes, manzanas y made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l destino de estos productos eran: Lima y Potos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A partir del desastre de Curalaba, los españoles crean un ejército regular alrededor de dos mil hombres financiados desde Lima  (real situad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De esta forma y sin evitar permanentes enfrentamientos con los araucanos, Chile sesenta años de su descubrimiento, puede iniciar el período Coloni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La Colonia en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s instituciones Coloniales fuer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 Casa de Contratación  que regulaba el comercio marítim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l Consejo de Indias: regulaba asuntos eclesiásticos, civiles, militares y comerci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 real Audiencia que era el más alto Tribunal  de Justi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s Autoridades Coloniales era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l Virre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l Capitán Gen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Gobernadores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Corregido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Formación de la Ra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spañoles que llegaron a Chile fueron castellanos, extremeños, vascos y andaluces. (rama patern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Indígenas que fueron rápidamente absorbidos por la nueva cultura picunches y huilliches. (rama matern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La colonia  en Chile 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56944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 economía chilena se desarrolló en dos líneas comunes a todas las coloni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 exportación de produc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l abastecimiento interno y al igual que en el caso argentino  a Potos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Durante el siglo XVII se exportó oro, plata  y productos agropecuarios como trigo,  cueros, sebo, charqui éstos últimos al Per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l comercio con Lima estaba en manos de mercaderes limeñ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De Lima se importaba azúcar, cacao, tabaco, y manufacturas españolas y europeas; papel, géneros, muebles, armas, cerrajería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Durante la Colonia y como resultado de la disminución de la explotación minera, de la disminución de las encomiendas y de la profesionalización de la guerra, se desarrolla la explotación agropecuaria, en la cual la unidad económica que se  consolida es la hacien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Chile está concentrado en el valle Central que se empieza a poblar no por nuevas ciudades sino por las haciendas, propiedad de quienes recibieron las mercedes de tierras y se convirtieron en territorios que se autoabastecían de lo básico y podían comerciar sólo si se encontraban cercanas a las ciudades o a los puertos permitid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l descenso de la población indígena hizo que se les permitiera vivir en reducciones y en 1683 se acaba la esclavitu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La Colonia en Chile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A partir de 1739 se abre la ruta del cabo de Hornos y se abre el comercio de cada colonia con España, favoreciendo a Valparaíso como puerto principal en C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uego reforma de 1778 que permite nuevos puertos en Chile, Coquimbo Talcahuano y también España estimula el comerc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Disminuyeron algunos impuestos, bajaron los fletes y los seguros. Esto aumento desmesuradamente el comercio y produjo una baja de precios generalizada que llevó a la quiebra a muchos comercia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Por último se autoriza el comercio directo con puertos extranjeros ( no españole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sta política tenía como objetivo estimular la industria española y no favorecer a las colon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n este siglo se desarrolla en Chile la producción de trigo en particular en el valle Central y Concepción por su cercanía a los puer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Además se exportó madera (alerce) de Valdivia y Chiloé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n la ganadería adquirió relativa importancia la exportación de charqui, sebo y ques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 minería era una actividad dispersa, continuó la exportación de oro y plata, yacimientos en Copiapó, Huasco, Alhué y San José de Maip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La Colonia en Chile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 industria  estaba destinada al consumo local, textil para vestuario, artesanía o cobre para utensilios de casa, cuero para calzado y artículos para montar, sebo para luz herramientas para la faena agrícola con hierro. Además debía competir con las otras colonias que producían mas o menos lo mism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n Obras Públicas se destaca el camino a Valparaíso, El Palacio de la  Moneda (casa de gobierno), la Catedral, los tajamares del Mapocho y el Puente de Cal y Ca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n la población se produce el descenso de la población indígena que lleva a eliminar la Encomienda en 1789 y el aumento de la población mesti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Al término de la Colonia la población estimada era de 800.000 personas, Santiago tenía 30.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Dedicadas básicamente a la agricultura, siendo reemplazado el trabajo semi- esclavo de los indios por un trabajo pobremente remunerado a peones e inquilin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A fines de la Colonia las medidas económicas liberadoras obligaron también a iniciar la construcción de un Estado con capacidad de realizar ciertas funciones económicas y por lo tanto de recibir ingresos y administrarl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l Estado ( a cargo de un Gobernador), se buscó tres formas de ingr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1.- El Monopolio o Estanco de productos: tabaco, azogue y pólvo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2.- Impuestos que fueron elevados, alcába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3.- Prestamos o donativos solicitados a los adinerados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La Colonia en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stos recursos administrados por una Tesorería General tenían como destino: la mantención del Ejército (40) y administración civil e inversión (60%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Administrativamente se crean las Intendencias, dos Santiago y Concepción y tres Instituciones nuev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 Casa de Moneda (1750) encargada de acuñar monedas para el comercio exteri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l Real Tribunal del Consulado, órgano en que estaban representados los comerciantes una especie de cámara de Comercio Act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l Real Tribunal de Minería encargado de dictar justicia en el sector y también propender al fomento económico de la minerí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7T15:17:42Z</dcterms:created>
  <dc:creator>.</dc:creator>
  <dc:description/>
  <dc:language>en-US</dc:language>
  <cp:lastModifiedBy>.</cp:lastModifiedBy>
  <dcterms:modified xsi:type="dcterms:W3CDTF">2009-08-17T15:20:41Z</dcterms:modified>
  <cp:revision>1</cp:revision>
  <dc:subject/>
  <dc:title>Economía de Transición……Argentina</dc:title>
</cp:coreProperties>
</file>