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7AB-4209-49F3-932A-1926D64F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6DC-D134-40B2-97D6-24727800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EED-CF9F-4828-90D1-FD076638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D0B-38FC-4E17-8BC4-94FDEFC5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48D-6055-490B-8FE4-9D827A4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ACF-8031-4D89-AB31-8C9D706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F08-22DB-485A-8F97-7727A40D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9EE-E479-4E5E-A54E-0C302678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223-AAE9-4D99-9553-A95E4473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2D6-1599-4A8D-8FC2-91A62F9E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9D4-43EC-4A60-9CC4-B2B44AA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E94-0BB1-455F-B353-8887F39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25C1-2D5C-484E-AD55-75D34E36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conomía de Transición……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situación cambia a partir de 17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el Virreynat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formas borbónicas de 17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reconocen  para comercio Trece puertos españoles y 22 en 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tre ellos Buenos Aires y Valparaí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sí Buenos Aires está más cercano a Potosí que Lima, esto hace que se desplace el eje comercial del Alto Perú a Buenos Aires y este puerto se convierta en la salida natural del interior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genera así una disputa de poder Capital- Provincias que durará 80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o lado la penetración inglesa y portuguesa en Brasil tras el descubrimiento de minerales en el sur, también obliga a poblar y fortalecer las ciudades del Rí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período de la Conquist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comprende el período entre 1541 y 1598. año de la insurrección indígena que destruyó las ciudades fundadas por los españoles al sur del  Bío-Bío. Emprendida por Pedro de valdivia con 150 sold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durante La Colonia los límites de Chile fueron desde Copiapó por el norte hasta Concepción por el S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ueron destruidas Imperial, Villarrica, Angol, Valdivia, Osorno y Cañ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principal actividad económica fueron los lavaderos de oro ubicados cerca de Valparaíso (Marga Marga), Concepción (Quilacoya) y otros próximos a Imperial, Villarrica y Valdi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primeros años de la conquista (hasta 1560) se extraen 2.000 kilos de oro al año y posteriormente la producción disminuye a 500 kilo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lavaderos trabajaron fundamentalmente indígenas bajo el sistema de encom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medida que se agotaba el oro surgió la actividad agropecuaria: vino, charqui, sebo, cordobanes, manzanas y mad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tino de estos productos eran: Lima y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l desastre de Curalaba, los españoles crean un ejército regular alrededor de dos mil hombres financiados desde Lima  (real situad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y sin evitar permanentes enfrentamientos con los araucanos, Chile sesenta años de su descubrimiento, puede iniciar el período Colon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instituciones Coloniales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Contratación  que regulaba el comercio marí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nsejo de Indias: regulaba asuntos eclesiásticos, civiles, militares y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real Audiencia que era el más alto Tribunal  de Justi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Autoridades Coloniales er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Virr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apitá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Gobernadore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pañoles que llegaron a Chile fueron castellanos, extremeños, vascos y andaluces. (rama p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dígenas que fueron rápidamente absorbidos por la nueva cultura picunches y huilliches. (rama m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 en Chile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conomía chilena se desarrolló en dos líneas comunes a todas las colon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xportación de produ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abastecimiento interno y al igual que en el caso argentino  a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el siglo XVII se exportó oro, plata  y productos agropecuarios como trigo,  cueros, sebo, charqui éstos últimos al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mercio con Lima estaba en manos de mercaderes lime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Lima se importaba azúcar, cacao, tabaco, y manufacturas españolas y europeas; papel, géneros, muebles, armas, cerrajerí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la Colonia y como resultado de la disminución de la explotación minera, de la disminución de las encomiendas y de la profesionalización de la guerra, se desarrolla la explotación agropecuaria, en la cual la unidad económica que se  consolida es la hac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hile está concentrado en el valle Central que se empieza a poblar no por nuevas ciudades sino por las haciendas, propiedad de quienes recibieron las mercedes de tierras y se convirtieron en territorios que se autoabastecían de lo básico y podían comerciar sólo si se encontraban cercanas a las ciudades o a los puertos permit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censo de la población indígena hizo que se les permitiera vivir en reducciones y en 1683 se acaba la esclavitu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 1739 se abre la ruta del cabo de Hornos y se abre el comercio de cada colonia con España, favoreciendo a Valparaíso como puerto principal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uego reforma de 1778 que permite nuevos puertos en Chile, Coquimbo Talcahuano y también España estimula el comer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isminuyeron algunos impuestos, bajaron los fletes y los seguros. Esto aumento desmesuradamente el comercio y produjo una baja de precios generalizada que llevó a la quiebra a muchos comerci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último se autoriza el comercio directo con puertos extranjeros ( no españo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a política tenía como objetivo estimular la industria española y no favorecer a las colon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siglo se desarrolla en Chile la producción de trigo en particular en el valle Central y Concepción por su cercanía a los puer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emás se exportó madera (alerce) de Valdivia y Chilo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ganadería adquirió relativa importancia la exportación de charqui, sebo y qu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minería era una actividad dispersa, continuó la exportación de oro y plata, yacimientos en Copiapó, Huasco, Alhué y San José de Maip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industria  estaba destinada al consumo local, textil para vestuario, artesanía o cobre para utensilios de casa, cuero para calzado y artículos para montar, sebo para luz herramientas para la faena agrícola con hierro. Además debía competir con las otras colonias que producían mas o menos lo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Obras Públicas se destaca el camino a Valparaíso, El Palacio de la  Moneda (casa de gobierno), la Catedral, los tajamares del Mapocho y el Puente de Cal y Ca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población se produce el descenso de la población indígena que lleva a eliminar la Encomienda en 1789 y el aumento de la población mest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l término de la Colonia la población estimada era de 800.000 personas, Santiago tenía 30.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dicadas básicamente a la agricultura, siendo reemplazado el trabajo semi- esclavo de los indios por un trabajo pobremente remunerado a peones e inquili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fines de la Colonia las medidas económicas liberadoras obligaron también a iniciar la construcción de un Estado con capacidad de realizar ciertas funciones económicas y por lo tanto de recibir ingresos y administr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Estado ( a cargo de un Gobernador), se buscó tres formas de 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El Monopolio o Estanco de productos: tabaco, azogue y pólv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Impuestos que fueron elevados, alcába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3.- Prestamos o donativos solicitados a los adinerado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os recursos administrados por una Tesorería General tenían como destino: la mantención del Ejército (40) y administración civil e inversión (6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ministrativamente se crean las Intendencias, dos Santiago y Concepción y tres Instituciones nue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Moneda (1750) encargada de acuñar monedas para 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l Consulado, órgano en que estaban representados los comerciantes una especie de cámara de Comercio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 Minería encargado de dictar justicia en el sector y también propender al fomento económico de la min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17:42Z</dcterms:created>
  <dc:creator>.</dc:creator>
  <dc:description/>
  <dc:language>en-US</dc:language>
  <cp:lastModifiedBy>.</cp:lastModifiedBy>
  <dcterms:modified xsi:type="dcterms:W3CDTF">2009-08-17T15:20:41Z</dcterms:modified>
  <cp:revision>1</cp:revision>
  <dc:subject/>
  <dc:title>Economía de Transición……Argentina</dc:title>
</cp:coreProperties>
</file>