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89F-D50D-4E7F-BB49-D874AF2D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F08-CFD5-4406-AC30-55F219AC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95C-131E-4A1F-AFE2-D5DBCC5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98D-B363-4831-A741-BE3770D3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2E7-7552-4DFB-9564-FCEC4BD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4CA-06E6-4811-AC47-61231772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BA9-D9B6-4A16-8F6A-0FB5BB2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EFA-A814-4BCA-B1EC-BCD0DF5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1CC-884D-4A43-8B7E-494F1A2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E2B-12AC-41FF-A721-C100067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84C-0669-4F52-84CD-C16C8F5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655-AF62-4CF7-A834-334E031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15C8-AAF6-49F1-8050-148E1E450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conomía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economías de las potenci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Eran básicamente agrícolas, comercio limitado a productos exóticos o materias pr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Tenían medios de transporte muy precarios por lo que se privilegiaban los productos  de gran valor o de poco p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onquistadores buscaron los productos tradicionales de la época, oro, plata, recursos naturales. Estos últimos sólo en las zonas cercanas a las vías marít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uestros países se convirtieron en  exportadores de minerales, cuya propiedad estaba muy concentrada al igual que el comercio esto generó una fuerte concentración del ingreso y un estímulo a importar los productos manufacturados y no a ampliar la base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de sus inicios el comercio marítimo se centraliza desde Sevilla con dos ru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Hasta Veracruz para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Hasta Portobelo (Panamá) y luego en mula por Panamá hacia el Pacífico para e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sta definición es muy importante para el desarrollo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os comienz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tierras argentinas muy aptas para el cultivo de cereales y la ganadería, no cumplían ninguna de las condiciones del momento (ubicación y productos exportab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ereales y los derivados de la ganadería fueron básicamente productos de consumo interno, recién a fines del siglo XVIII se inicia el desarrollo de esta zo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conquista de estos territorios se produce por la búsqueda de minerales, los grupos provienen de Perú, Chile y Paraguay: Tucumán, Jujuy, Salta y la Rioja; santiago del Estero, Mendoza, San Juan y San Luis; Santa Fé, Buenos Aires y Corr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u precaria economía estaba orientada hacia el Ato Perú y no hacia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Buenos Aires  fue un centro de tránsito de esclavos y de contrabando hasta 17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ubo cuatro centros de desarrollo de economías regionales, Noroeste, Centro, Cuyo y el Lito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 Argentin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Nor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Formado por Salta, Jujuy, Santiago, Tucumán y Catama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habitaban 130.000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cultivaba el algodón, arroz, trigo, algo de frutales y la v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ganadería en la zona cordillerana (75% del territo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producción estaba organizada en grandes haciendas con régimen de encomiendas. Su producción ganadera y agrícola estaba orientada hacia el mineral de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desarrollaba en Salta la feria de mulas más grande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ucumán se especializó en algunas artesanías y en la construcción de carr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atamarca proveía de granos y v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sta fue la zona más potente de la Argentina colonial, por su  cercanía a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.Argentina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 Cu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Mendoza, San Luis y la Rio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mediados del siglo XVIII habitada por 70.000 personas. (80% indíge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conomía primaria, de subsistencia. Basada en haciendas y régimen de Encomien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an Juan y Mendoza producen vinos que intercambiaba con las otras provincias,  en Mendoza además hay explotación ganadera mirando a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Región del C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o por Córdoba y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s por 50.000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Región fundamentalmente ganadera para consumo interno y exportación de sebo a brasil y ganado al Alto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También tuvo producción textil primari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Colonia…… Argentin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Lit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Corrientes, Santa Fé, Buenos Aires y Entre Rí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 por 50.000 personas (50 y 5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región más atrasada del país, con una economía agrícola y ganadera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comienzos del s. XVII  Buenos Aires estaba habitado por 1.000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arrolla un comercio semiclandestino con Brasil y el Ri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cia 1730 se intensificó la exportación de cu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e período se caracteriza por la inexistencia de una economía 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istían economías regionales  con un alto grado de autosuficiencia en torno a los centros min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población cambia pero  no crece: alrededor de 300.000 habitantes en 17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razón es la inexistencia de productos de exportación: relación producto/exportaciones muy ba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gresos superiores tenían encomenderos, propietarios, comerciantes, el resto (la mayoría) ingres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1:08Z</dcterms:created>
  <dc:creator>.</dc:creator>
  <dc:description/>
  <dc:language>en-US</dc:language>
  <cp:lastModifiedBy>.</cp:lastModifiedBy>
  <dcterms:modified xsi:type="dcterms:W3CDTF">2009-08-17T15:15:11Z</dcterms:modified>
  <cp:revision>1</cp:revision>
  <dc:subject/>
  <dc:title>Conquista de América</dc:title>
</cp:coreProperties>
</file>