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F1A6-DCB9-4F93-8F58-3D1391B39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439B-8EB2-4F60-BA8C-674638B5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3F84-1891-4702-80C9-BBFE7C03E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D27D-4A82-446A-9466-0E6E9DB4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A20D-F012-4BA1-BECA-535D54CB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B18F-B38D-489E-96DA-B425AB9C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8464-1132-4AD1-81C2-DC8EBFAA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CFC2-60A8-45A9-B690-9EEF068E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81A9-35DD-4D47-B7B8-FE9A5027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F428-B2DA-4353-9DF5-D980E8A5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A214-A2A4-4DEB-9BD4-EB2017A3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D542-D027-4C4F-AE0B-0C6FFEC7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E184-190E-403D-9838-68469B820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onquista de Am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Conquista de América estuvo influida por la expansión turca del siglo XV que  interrumpió las tradicionales rutas de comercio con el Oriente, en particular el Mediterráneo y  el paso por Asia Men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Portugal  abre una nueva ruta en torno a Africa y se desplaza el centro del comercio: del mediterráneo al Océano Atlántico, perdiendo influencia las provincias italianas. Así el descubrimiento de América es clave en la expansión comercial europ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Por otra parte el Renacimiento tiene poderosa influencia en el desarrollo económico, el avance del progreso técnico en la agricultura, las manufacturas y el transporte, transforman la producción y los mercados, permitiendo el aumento de productividad y la acumulación y con ésta el desarrol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desarrollo económico consiste en  la capacidad de una sociedad de producir, asimilar y difundir el progreso técnico en el conjunto de la socie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aparición del progreso técnico cambia completamente las relaciones comerciales conocidas hasta ese momen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s relaciones económicas de los europeos tenían dos formas, el comercio o el pilla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onquista de Am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Conquista de América estuvo influida por la expansión turca del siglo XV que  interrumpió las tradicionales rutas de comercio con el Oriente, en particular el Mediterráneo y  el paso por Asia Men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Portugal  abre una nueva ruta en torno a Africa y se desplaza el centro del comercio: del mediterráneo al Océano Atlántico, perdiendo influencia las provincias italianas. Así el descubrimiento de América es clave en la expansión comercial europ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Por otra parte el Renacimiento tiene poderosa influencia en el desarrollo económico, el avance del progreso técnico en la agricultura, las manufacturas y el transporte, transforman la producción y los mercados, permitiendo el aumento de productividad y la acumulación y con ésta el desarrol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desarrollo económico consiste en  la capacidad de una sociedad de producir, asimilar y difundir el progreso técnico en el conjunto de la socie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aparición del progreso técnico cambia completamente las relaciones comerciales conocidas hasta ese momen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s relaciones económicas de los europeos tenían dos formas, el comercio o el pilla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Economía Colon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Las economías de las potencia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1.- Eran básicamente agrícolas, comercio limitado a productos exóticos o materias prim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2.- Tenían medios de transporte muy precarios por lo que se privilegiaban los productos  de gran valor o de poco pe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Los conquistadores buscaron los productos tradicionales de la época, oro, plata, recursos naturales. Estos últimos sólo en las zonas cercanas a las vías marítim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Nuestros países se convirtieron en  exportadores de minerales, cuya propiedad estaba muy concentrada al igual que el comercio esto generó una fuerte concentración del ingreso y un estímulo a importar los productos manufacturados y no a ampliar la base económ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Desde sus inicios el comercio marítimo se centraliza desde Sevilla con dos rut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1.- Hasta Veracruz para Méx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2.- Hasta Portobelo (Panamá) y luego en mula por Panamá hacia el Pacífico para el Per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Esta definición es muy importante para el desarrollo argenti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Los comienzos en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Las tierras argentinas muy aptas para el cultivo de cereales y la ganadería, no cumplían ninguna de las condiciones del momento (ubicación y productos exportabl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Los cereales y los derivados de la ganadería fueron básicamente productos de consumo interno, recién a fines del siglo XVIII se inicia el desarrollo de esta zo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La conquista de estos territorios se produce por la búsqueda de minerales, los grupos provienen de Perú, Chile y Paraguay: Tucumán, Jujuy, Salta y la Rioja; santiago del Estero, Mendoza, San Juan y San Luis; Santa Fé, Buenos Aires y Corrien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Su precaria economía estaba orientada hacia el Ato Perú y no hacia la Pl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Buenos Aires  fue un centro de tránsito de esclavos y de contrabando hasta 173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Hubo cuatro centros de desarrollo de economías regionales, Noroeste, Centro, Cuyo y el Litor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La Colonia…… Argentina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Región del Noroe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Formado por Salta, Jujuy, Santiago, Tucumán y Catamar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La habitaban 130.000 perso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Se cultivaba el algodón, arroz, trigo, algo de frutales y la v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La ganadería en la zona cordillerana (75% del territo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La producción estaba organizada en grandes haciendas con régimen de encomiendas. Su producción ganadera y agrícola estaba orientada hacia el mineral de Potos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Se desarrollaba en Salta la feria de mulas más grande del m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Tucumán se especializó en algunas artesanías y en la construcción de carre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Catamarca proveía de granos y vi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Esta fue la zona más potente de la Argentina colonial, por su  cercanía a Potos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La Colonia…….Argentina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Región de Cuy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Formada por Mendoza, San Luis y la Rioj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A mediados del siglo XVIII habitada por 70.000 personas. (80% indígena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Economía primaria, de subsistencia. Basada en haciendas y régimen de Encomien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San Juan y Mendoza producen vinos que intercambiaba con las otras provincias,  en Mendoza además hay explotación ganadera mirando a Ch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Región del Cen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Formado por Córdoba y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Habitadas por 50.000 person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Región fundamentalmente ganadera para consumo interno y exportación de sebo a brasil y ganado al Alto Per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También tuvo producción textil primaria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La Colonia…… Argentina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Región del Lito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Formada por Corrientes, Santa Fé, Buenos Aires y Entre Rí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Habitada por 50.000 personas (50 y 50 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La región más atrasada del país, con una economía agrícola y ganadera de subsist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A comienzos del s. XVII  Buenos Aires estaba habitado por 1.000 habita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Desarrolla un comercio semiclandestino con Brasil y el Rio de la Pl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Hacia 1730 se intensificó la exportación de cue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ste período se caracteriza por la inexistencia de una economía na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xistían economías regionales  con un alto grado de autosuficiencia en torno a los centros mine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La población cambia pero  no crece: alrededor de 300.000 habitantes en 175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La razón es la inexistencia de productos de exportación: relación producto/exportaciones muy baj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gresos superiores tenían encomenderos, propietarios, comerciantes, el resto (la mayoría) ingresos de subsist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15:11:08Z</dcterms:created>
  <dc:creator>.</dc:creator>
  <dc:description/>
  <dc:language>en-US</dc:language>
  <cp:lastModifiedBy>.</cp:lastModifiedBy>
  <dcterms:modified xsi:type="dcterms:W3CDTF">2009-08-17T15:15:11Z</dcterms:modified>
  <cp:revision>1</cp:revision>
  <dc:subject/>
  <dc:title>Conquista de América</dc:title>
</cp:coreProperties>
</file>