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B6D8E-7AE1-4B3A-9CD2-B3E4F715E8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460C7-E435-4EE1-9711-EC6C5E60EB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11083-53B9-45EB-B463-E6A6045D1D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91ACA-CD9F-475C-AD88-EB8CFA153C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C780-7DB5-42D4-8A2B-F6DCB605E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56C0F-3A33-4A7B-AE64-E392F24E83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E4A5B-2EEC-44AE-B7F4-A98D7BEE04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2F0DF6-EE38-46B4-8639-3A293E634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60809-41EB-4E76-BC36-EC5AD962C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3CB6A7-37E1-4439-BE1C-9EEA5F8E5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1FE71A-C922-4E61-93A2-06CE1606E5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5E2CB-0BB5-4DA6-B97C-BFEC7B765B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948B3B-0ECF-4899-BC19-BDB34FEAB3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8229600" cy="4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333399"/>
                </a:solidFill>
                <a:latin typeface="Arial"/>
              </a:rPr>
              <a:t>Conquista de Amér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907920"/>
            <a:ext cx="8229600" cy="554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Conquista de América estuvo influida por la expansión turca del siglo XV que  interrumpió las tradicionales rutas de comercio con el Oriente, en particular el Mediterráneo y  el paso por Asia Menor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tugal  abre una nueva ruta en torno a Africa y se desplaza el centro del comercio: del mediterráneo al Océano Atlántico, perdiendo influencia las provincias italianas. Así el descubrimiento de América es clave en la expansión comercial europe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Por otra parte el Renacimiento tiene poderosa influencia en el desarrollo económico, el avance del progreso técnico en la agricultura, las manufacturas y el transporte, transforman la producción y los mercados, permitiendo el aumento de productividad y la acumulación y con ésta el desarroll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El desarrollo económico consiste en  la capacidad de una sociedad de producir, asimilar y difundir el progreso técnico en el conjunto de la sociedad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 aparición del progreso técnico cambia completamente las relaciones comerciales conocidas hasta ese momento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333399"/>
                </a:solidFill>
                <a:latin typeface="Arial"/>
              </a:rPr>
              <a:t>Las relaciones económicas de los europeos tenían dos formas, el comercio o el pillaj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59920"/>
            <a:ext cx="822960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Economía Colonia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832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economías de las potencias: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Eran básicamente agrícolas, comercio limitado a productos exóticos o materias pr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Tenían medios de transporte muy precarios por lo que se privilegiaban los productos  de gran valor o de poco pes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onquistadores buscaron los productos tradicionales de la época, oro, plata, recursos naturales. Estos últimos sólo en las zonas cercanas a las vías marítim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Nuestros países se convirtieron en  exportadores de minerales, cuya propiedad estaba muy concentrada al igual que el comercio esto generó una fuerte concentración del ingreso y un estímulo a importar los productos manufacturados y no a ampliar la base económic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de sus inicios el comercio marítimo se centraliza desde Sevilla con dos rut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1.- Hasta Veracruz para Méxic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2.- Hasta Portobelo (Panamá) y luego en mula por Panamá hacia el Pacífico para el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sta definición es muy importante para el desarrollo argentin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os comienzos en Argentin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95280" y="907560"/>
            <a:ext cx="8229600" cy="510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s tierras argentinas muy aptas para el cultivo de cereales y la ganadería, no cumplían ninguna de las condiciones del momento (ubicación y productos exportable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os cereales y los derivados de la ganadería fueron básicamente productos de consumo interno, recién a fines del siglo XVIII se inicia el desarrollo de esta zon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conquista de estos territorios se produce por la búsqueda de minerales, los grupos provienen de Perú, Chile y Paraguay: Tucumán, Jujuy, Salta y la Rioja; santiago del Estero, Mendoza, San Juan y San Luis; Santa Fé, Buenos Aires y Corrientes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u precaria economía estaba orientada hacia el Ato Perú y no hacia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Buenos Aires  fue un centro de tránsito de esclavos y de contrabando hasta 173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ubo cuatro centros de desarrollo de economías regionales, Noroeste, Centro, Cuyo y el Litoral.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 Argentina (1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95280" y="836640"/>
            <a:ext cx="8229600" cy="547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Noroest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Formado por Salta, Jujuy, Santiago, Tucumán y Catamarca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habitaban 130.000 person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cultivaba el algodón, arroz, trigo, algo de frutales y la vid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ganadería en la zona cordillerana (75% del territorio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La producción estaba organizada en grandes haciendas con régimen de encomiendas. Su producción ganadera y agrícola estaba orientada hacia el mineral de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Se desarrollaba en Salta la feria de mulas más grande del mund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Tucumán se especializó en algunas artesanías y en la construcción de carreta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Catamarca proveía de granos y vino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Esta fue la zona más potente de la Argentina colonial, por su  cercanía a Potosí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3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400" spc="-1" strike="noStrike">
                <a:solidFill>
                  <a:srgbClr val="333399"/>
                </a:solidFill>
                <a:latin typeface="Arial"/>
              </a:rPr>
              <a:t>La Colonia…….Argentina (2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836280"/>
            <a:ext cx="8229600" cy="528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 Cuyo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Mendoza, San Luis y la Rio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mediados del siglo XVIII habitada por 70.000 personas. (80% indígenas)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Economía primaria, de subsistencia. Basada en haciendas y régimen de Encomiend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San Juan y Mendoza producen vinos que intercambiaba con las otras provincias,  en Mendoza además hay explotación ganadera mirando a Chil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 </a:t>
            </a:r>
            <a:r>
              <a:rPr b="1" lang="es-CL" sz="1800" spc="-1" strike="noStrike">
                <a:solidFill>
                  <a:srgbClr val="333399"/>
                </a:solidFill>
                <a:latin typeface="Arial"/>
              </a:rPr>
              <a:t>Región del Centro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o por Córdoba y San Lui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s por 50.000 persona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Región fundamentalmente ganadera para consumo interno y exportación de sebo a brasil y ganado al Alto Perú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También tuvo producción textil primaria. 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400" spc="-1" strike="noStrike">
                <a:solidFill>
                  <a:srgbClr val="333399"/>
                </a:solidFill>
                <a:latin typeface="Arial"/>
              </a:rPr>
              <a:t>La Colonia…… Argentina (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836640"/>
            <a:ext cx="8229600" cy="561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2000" spc="-1" strike="noStrike">
                <a:solidFill>
                  <a:srgbClr val="333399"/>
                </a:solidFill>
                <a:latin typeface="Arial"/>
              </a:rPr>
              <a:t>Región del Litoral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Formada por Corrientes, Santa Fé, Buenos Aires y Entre Rí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bitada por 50.000 personas (50 y 50 %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La región más atrasada del país, con una economía agrícola y ganadera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A comienzos del s. XVII  Buenos Aires estaba habitado por 1.000 habitante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Desarrolla un comercio semiclandestino con Brasil y el Rio de la Plat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333399"/>
                </a:solidFill>
                <a:latin typeface="Arial"/>
              </a:rPr>
              <a:t>Hacia 1730 se intensificó la exportación de cu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99"/>
                </a:solidFill>
                <a:latin typeface="Arial"/>
              </a:rPr>
              <a:t>________________________________________________________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ste período se caracteriza por la inexistencia de una economía nacional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Existían economías regionales  con un alto grado de autosuficiencia en torno a los centros mineros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población cambia pero  no crece: alrededor de 300.000 habitantes en 1750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La razón es la inexistencia de productos de exportación: relación producto/exportaciones muy baj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33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99"/>
                </a:solidFill>
                <a:latin typeface="Arial"/>
              </a:rPr>
              <a:t>Ingresos superiores tenían encomenderos, propietarios, comerciantes, el resto (la mayoría) ingresos de subsistencia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8-17T15:11:08Z</dcterms:created>
  <dc:creator>.</dc:creator>
  <dc:description/>
  <dc:language>en-US</dc:language>
  <cp:lastModifiedBy>.</cp:lastModifiedBy>
  <dcterms:modified xsi:type="dcterms:W3CDTF">2009-08-17T15:15:11Z</dcterms:modified>
  <cp:revision>1</cp:revision>
  <dc:subject/>
  <dc:title>Conquista de América</dc:title>
</cp:coreProperties>
</file>