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48E2B-AE3F-49C8-BDE8-8D3A62F97C8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4B7E3-2456-439E-A479-8A150AB7038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1BE6-DBC1-43E6-AAC1-F72C6FB43F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D29FE-B31A-4EF9-9EFC-1737EC15A9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233A-7FB6-4034-B6A5-781D700E59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6F3AA-ADEF-4776-B384-7AAE3E5CDCE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3327E-215B-458B-BC8F-A940FEF5FF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82A3-78E8-4503-9D35-6987F1B715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6E86A-9E5F-4025-A443-1C8F4F1D90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4380-F886-47C2-9D7D-D8A899D494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C9CD-A73A-4EB6-85F8-0344F1434BD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89230-0017-48AD-A514-2CE640034F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D964-3253-43C9-995B-03FE35DFB33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74A1-66BB-4BD5-93CB-555CD8F51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5330-3E86-4347-BF10-36F56BF85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5D5-3FF4-46E6-B8A8-DE18457AF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B7C2-8F8A-49C5-B543-6369F48DC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26377-BF94-409A-B5F3-FC7B06466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8CC8-6C72-4DB4-938A-FDA88D203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36F6-BE80-473E-88DF-37C78D1F3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BC6B-02D4-4D8F-A6DE-EB9841068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AF8-5711-4032-9790-0E3C60218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1A1B-0970-4971-8979-1010D760F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13D7-2C74-47E9-983B-8B8CC39DA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369F2-266D-44F5-92EE-367AF1C81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B1CF1-1F63-44C1-A10E-F898D744C6C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es.wikipedia.org/wiki/Archivo:Tenoch2A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Tuna_(fruta)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9/90/Seal_of_the_Government_of_Mexico.svg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s-MX" sz="4400" spc="-1" strike="noStrike">
                <a:solidFill>
                  <a:srgbClr val="0000ff"/>
                </a:solidFill>
                <a:latin typeface="Calibri"/>
              </a:rPr>
              <a:t>El mundo azte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ff"/>
                </a:solidFill>
                <a:latin typeface="Calibri"/>
              </a:rPr>
              <a:t>Mexicas-Aztecas…economía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68360" y="1125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Economía prosp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Mano de obra abundante por control de otros puebl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Cobro de tributos: abundancia de materias primas y productos (</a:t>
            </a:r>
            <a:r>
              <a:rPr b="0" i="1" lang="es-MX" sz="2000" spc="-1" strike="noStrike">
                <a:solidFill>
                  <a:srgbClr val="0000ff"/>
                </a:solidFill>
                <a:latin typeface="Calibri"/>
              </a:rPr>
              <a:t>pipilti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Especialización de la fuerza de trabajo por género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hombres: agricultura y formas de producción artesan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mujeres: hogar (transformación de maíz en masa para tortilla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Tributos: gobernante, culto religioso, administración públic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- Apropiación de la producción de otras naciones de meso Améric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- Fijado de acuerdo a especialización económica y geográfica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Agricultura de temporal, uso de abono, sistemas de regadío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Chinampas: jardines flotantes o anclad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Comercio a base de trueque con cacao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Propiedad comunal de los </a:t>
            </a:r>
            <a:r>
              <a:rPr b="0" i="1" lang="es-MX" sz="2000" spc="-1" strike="noStrike">
                <a:solidFill>
                  <a:srgbClr val="0000ff"/>
                </a:solidFill>
                <a:latin typeface="Calibri"/>
              </a:rPr>
              <a:t>calpulli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ff"/>
                </a:solidFill>
                <a:latin typeface="Calibri"/>
              </a:rPr>
              <a:t>La Gran Tenochtitlán:</a:t>
            </a:r>
            <a:r>
              <a:rPr b="0" lang="es-ES" sz="1800" spc="-1" strike="noStrike">
                <a:solidFill>
                  <a:srgbClr val="0000ff"/>
                </a:solidFill>
                <a:latin typeface="Calibri"/>
              </a:rPr>
              <a:t>construida a partir de un islote situados en el centro de una laguna parte del lago de Texcoco de una profundidad de 2 mts aproximadamente que en aquella época cubrían la mayor parte del Valle de México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4 Imagen" descr="http://upload.wikimedia.org/wikipedia/commons/thumb/0/01/Tenoch2A.jpg/400px-Tenoch2A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4360" y="1197000"/>
            <a:ext cx="7775280" cy="518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000ff"/>
                </a:solidFill>
                <a:latin typeface="Calibri"/>
              </a:rPr>
              <a:t>Mexicas-Aztecas…</a:t>
            </a:r>
            <a:br>
              <a:rPr sz="2400"/>
            </a:br>
            <a:r>
              <a:rPr b="1" lang="es-MX" sz="2400" spc="-1" strike="noStrike">
                <a:solidFill>
                  <a:srgbClr val="0000ff"/>
                </a:solidFill>
                <a:latin typeface="Calibri"/>
              </a:rPr>
              <a:t>lo que facilitó la conquis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196640"/>
            <a:ext cx="8229600" cy="53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Dominación y extracción de tributo: generó rivalidades, conflictos bélicos continuo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Tlaxcaltecas enemigos dominados de los azteca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Reformas al inicio del siglo.XVI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Concentración de poder en el </a:t>
            </a:r>
            <a:r>
              <a:rPr b="0" i="1" lang="es-MX" sz="2000" spc="-1" strike="noStrike">
                <a:solidFill>
                  <a:srgbClr val="0000ff"/>
                </a:solidFill>
                <a:latin typeface="Calibri"/>
              </a:rPr>
              <a:t>huey tatloani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Concentración de privilegios y riquezas en los nobl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Se afectó a los </a:t>
            </a:r>
            <a:r>
              <a:rPr b="0" i="1" lang="es-MX" sz="2000" spc="-1" strike="noStrike">
                <a:solidFill>
                  <a:srgbClr val="0000ff"/>
                </a:solidFill>
                <a:latin typeface="Calibri"/>
              </a:rPr>
              <a:t>calpull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Mito fundacional: finales de siglo XV se desecha de los registros todo pasado no glorioso (Tlacaélel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0464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ff"/>
                </a:solidFill>
                <a:latin typeface="Calibri"/>
              </a:rPr>
              <a:t>Meso Amér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142640"/>
            <a:ext cx="822960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Asentamientos humanos en México y parte de Centroamérica desde hace 20.000 años. (18.000 A.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Separación de Árido América (Colorado, California, Arizona, Nuevo México, Texas, norte de México) de Meso América (centro sur México, Guatemala, El Salvador, Nicaragua, Honduras y Costa Rica). Persistencia de formas de recolección y caz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Desarrollo de culturas agrícolas y fin del sedentarismo da lugar al surgimiento de Meso América alrededor del 2500 A.C (aunque los primeros cultivos pudieron darse en algún punto entre el 8000-3000 A.C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Cultivos más antiguos: calabaza, frijol, maíz, nopal, jitomate, aguacate, chile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Meso América existió por alrededor de 4000 año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Compartían un conjunto de prácticas culturales: subsistencia a base de maíz, tecnología neolítica, numeración vigesimal, importancia en la cuenta del tiemp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Documents and Settings\SZ-240F.VALUED-DE600807\Mis documentos\Clo-Clo\Curso_economía_comparada\Clase_1\mapa_america_central.gif"/>
          <p:cNvPicPr/>
          <p:nvPr/>
        </p:nvPicPr>
        <p:blipFill>
          <a:blip r:embed="rId1"/>
          <a:stretch/>
        </p:blipFill>
        <p:spPr>
          <a:xfrm>
            <a:off x="468360" y="260280"/>
            <a:ext cx="8064360" cy="619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ff"/>
                </a:solidFill>
                <a:latin typeface="Calibri"/>
              </a:rPr>
              <a:t>Meso América…..evolució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99680" y="692280"/>
            <a:ext cx="8186760" cy="59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ff"/>
                </a:solidFill>
                <a:latin typeface="Calibri"/>
              </a:rPr>
              <a:t>Período preclásico (1200 a.C – 400 d.C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Proceso de sedentarización y práctica de agricultura consolida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Complementaban con pesca, recolección y caz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Pequeñas aldeas de casas de barro con población reducid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Indicios de escritura y uso del calendari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Olme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ff"/>
                </a:solidFill>
                <a:latin typeface="Calibri"/>
              </a:rPr>
              <a:t>Período clásico (400 d.C – 200 d.C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Aldeas y comunidades se ordenaron por jerarquías alrededor de un centro urban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Obras hidráulicas que permitieron una alta eficiencia en la agricultu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Teotihuacán, mayas y zapotecas (relaciones entre ellos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Manejo del calendario: avance religioso y cultural. Origen de una sociedad jerárquica. Vinculación calendario agrícola y religios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ff"/>
                </a:solidFill>
                <a:latin typeface="Calibri"/>
              </a:rPr>
              <a:t>Período posclásico (200 d.C – 1521)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sociedades guerreras, migraciones (norte-sur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dominio y sujeción política de territorio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comercio intens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nexo religión y polít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fuentes escrit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Imperio mexic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ff"/>
                </a:solidFill>
                <a:latin typeface="Calibri"/>
              </a:rPr>
              <a:t>Mexicas-Aztecas…mito fundaciona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México-Tenochtitlán </a:t>
            </a:r>
            <a:r>
              <a:rPr b="0" i="1" lang="es-MX" sz="2000" spc="-1" strike="noStrike">
                <a:solidFill>
                  <a:srgbClr val="0000ff"/>
                </a:solidFill>
                <a:latin typeface="Calibri"/>
              </a:rPr>
              <a:t>1325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-1521 (</a:t>
            </a:r>
            <a:r>
              <a:rPr b="0" i="1" lang="es-MX" sz="2000" spc="-1" strike="noStrike">
                <a:solidFill>
                  <a:srgbClr val="0000ff"/>
                </a:solidFill>
                <a:latin typeface="Calibri"/>
              </a:rPr>
              <a:t>lugar de pencas de nopal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Migrantes nahuas de Árido América que arribaron al Lago de Texcoco, expulsados en más de una ocasión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Mito fundacional : Según la mitología mexica Huitzilopochtli  ordenó que sólo fundarían su reino donde estuviera "un águila parada sobre un nopal devorando una serpiente “ 13 de marzo de 1325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Nomb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s-MX" sz="1600" spc="-1" strike="noStrike">
                <a:solidFill>
                  <a:srgbClr val="0000ff"/>
                </a:solidFill>
                <a:latin typeface="Calibri"/>
              </a:rPr>
              <a:t>Tenochtitlan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 (&lt; 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Te-nōch-ti-tlān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): de las palabras 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te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tl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) 'piedra', y 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nōch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(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tli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) (</a:t>
            </a:r>
            <a:r>
              <a:rPr b="0" lang="es-MX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tuna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), que integradas a 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-ti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 (estativo) y 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-tlān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 'lugar en el que abunda..' se construye la palabra 'tunal'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s-MX" sz="1600" spc="-1" strike="noStrike">
                <a:solidFill>
                  <a:srgbClr val="0000ff"/>
                </a:solidFill>
                <a:latin typeface="Calibri"/>
              </a:rPr>
              <a:t>México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 (&lt; náhuatl 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Mēxihco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):  "los aztecas arribaron al lago de la Luna, donde al centro del mismo había una isla cuyo nombre era México, de 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Metztli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, luna; 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xictli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, ombligo, y 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co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, lugar: El centro del lago de la Luna.“ La luna era la que regía el mundo del ser human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Aztecas cuando llegaron de Aztlán cuando se establecen mexicas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Estados de México, Veracruz, Puebla, Oaxaca, parte de Chiapas, Hidalgo y parte de Guatemala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200-500 mil habitantes a la llegada de los español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Calibri"/>
              </a:rPr>
              <a:t>Escudo nacio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Archivo:Seal of the Government of Mexico.sv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643040" y="1000080"/>
            <a:ext cx="5533920" cy="547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ff"/>
                </a:solidFill>
                <a:latin typeface="Calibri"/>
              </a:rPr>
              <a:t>Mexicas-Aztecas…forma de gobiern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692280"/>
            <a:ext cx="822960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ff"/>
                </a:solidFill>
                <a:latin typeface="Calibri"/>
              </a:rPr>
              <a:t>Tipo de Gobierno: una mezcla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Gobernada por un Huey Tlatoani (el que habla), especie de monarca elegido de entre 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y por los nobles 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(pillis). 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Supremo sacerdote pero no encarnación de un Dios. Cargo 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vitalicio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Para decisiones importantes consejo de asesores elegido  entre los nobl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Resultado: aristocracia teocrática con funcionamiento de monarquía parlamentaria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Funcionarios, por ejemplo: jueces encargados de vigilar el cumplimiento de normas; guardias de los depósitos de armas.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Cargos públicos: elección democrática entre los nobles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Triple Alianza:  Tenochtitlán, Texcoco y Tlacopán (cada ciudad preeminencia sobre una zona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Pueblos dominados: 38 provincias tributari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nunca se impuso religión ni idiom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seguían gobernados por grupos locales aunque sin independenc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sólo en puntos estratégicos control milita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tributaban a las tres capitales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Sacrificios humanos 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los dioses dieron su sangre para crear al hombr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el Sol se alimentaba de sangre human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- sin ellos el mundo  se acabaría.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ff"/>
                </a:solidFill>
                <a:latin typeface="Calibri"/>
              </a:rPr>
              <a:t>Mexicas-Aztecas…socieda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10920" y="1052640"/>
            <a:ext cx="810396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Estructura de clase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Religión: Politeis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- </a:t>
            </a:r>
            <a:r>
              <a:rPr b="0" i="1" lang="es-MX" sz="2000" spc="-1" strike="noStrike">
                <a:solidFill>
                  <a:srgbClr val="0000ff"/>
                </a:solidFill>
                <a:latin typeface="Calibri"/>
              </a:rPr>
              <a:t>Pillis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: nobles, militares, sacerdotes y grandes comerciantes (</a:t>
            </a:r>
            <a:r>
              <a:rPr b="0" i="1" lang="es-MX" sz="2000" spc="-1" strike="noStrike">
                <a:solidFill>
                  <a:srgbClr val="0000ff"/>
                </a:solidFill>
                <a:latin typeface="Calibri"/>
              </a:rPr>
              <a:t>pochtecas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Función estatal y vivían del tribut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- Clases baja: artesanos, militares y comerciantes de bajo estrato, campesinos (</a:t>
            </a:r>
            <a:r>
              <a:rPr b="0" i="1" lang="es-MX" sz="2000" spc="-1" strike="noStrike">
                <a:solidFill>
                  <a:srgbClr val="0000ff"/>
                </a:solidFill>
                <a:latin typeface="Calibri"/>
              </a:rPr>
              <a:t>macehuales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i="1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Macehuales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: cultiva tierras , entregan producción para sostén del estado y trabajan en 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obras públ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i="1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Artesanos o comerciantes: entregaban sólo una parte de su producción y no 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1600" spc="-1" strike="noStrike">
                <a:solidFill>
                  <a:srgbClr val="0000ff"/>
                </a:solidFill>
                <a:latin typeface="Calibri"/>
              </a:rPr>
              <a:t>trabajaban en obras pública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Sociedad unida gracias a la cohesión religiosa, mecanismos de tributación, comercio y transpor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3360"/>
            <a:ext cx="82296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00ff"/>
                </a:solidFill>
                <a:latin typeface="Calibri"/>
              </a:rPr>
              <a:t>Mexicas-Aztecas…sociedad 2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85640" y="1125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ff"/>
                </a:solidFill>
                <a:latin typeface="Calibri"/>
              </a:rPr>
              <a:t>Calpullis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: barrios organizados por grupos étnicos o por oficio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Hijos reciben de herencia la profesión del pad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ff"/>
                </a:solidFill>
                <a:latin typeface="Calibri"/>
              </a:rPr>
              <a:t>Pochtecas 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podían acceder a una situación privilegiada por la importancia del comercio y el espionaje que realizaba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Educación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Calibri"/>
              </a:rPr>
              <a:t>Calmécac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: Escuela para hijos de la clase alta: gobierno, judicatura, guerra y altos cargos religiosos. Enseñados por sabios </a:t>
            </a:r>
            <a:r>
              <a:rPr b="1" lang="es-MX" sz="2000" spc="-1" strike="noStrike">
                <a:solidFill>
                  <a:srgbClr val="0000ff"/>
                </a:solidFill>
                <a:latin typeface="Calibri"/>
              </a:rPr>
              <a:t>tlamatinime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, a base de una férrea disciplina corporal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Calibri"/>
              </a:rPr>
              <a:t>Telpochcalli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: Para hijos de los macehuales, oficios, guerra y trabajo público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Calibri"/>
              </a:rPr>
              <a:t>	</a:t>
            </a:r>
            <a:r>
              <a:rPr b="1" lang="es-MX" sz="2000" spc="-1" strike="noStrike">
                <a:solidFill>
                  <a:srgbClr val="0000ff"/>
                </a:solidFill>
                <a:latin typeface="Calibri"/>
              </a:rPr>
              <a:t>Cuicacalli</a:t>
            </a:r>
            <a:r>
              <a:rPr b="0" lang="es-MX" sz="2000" spc="-1" strike="noStrike">
                <a:solidFill>
                  <a:srgbClr val="0000ff"/>
                </a:solidFill>
                <a:latin typeface="Calibri"/>
              </a:rPr>
              <a:t>: Escuela dedicada al canto y al desarrollo musical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0T02:40:08Z</dcterms:created>
  <dc:creator> </dc:creator>
  <dc:description/>
  <dc:language>en-US</dc:language>
  <cp:lastModifiedBy>CASA</cp:lastModifiedBy>
  <dcterms:modified xsi:type="dcterms:W3CDTF">2009-08-08T19:05:53Z</dcterms:modified>
  <cp:revision>78</cp:revision>
  <dc:subject/>
  <dc:title>La economía azteca</dc:title>
</cp:coreProperties>
</file>