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01D8-76B5-4183-B060-1693CF8A436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98C2-94B3-45B8-A663-6900AF625B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DAF-955C-441E-8351-6DF4A402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D25-73F1-4C2F-9D7F-6EADAB7A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A75-69A2-4215-AAB5-A18D0213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F1D-D691-4872-8217-4171F9D0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30F-A3EC-43E9-B1D2-AC29B073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7F4-C6F5-45FD-B0A1-AB39A7E0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701-2B87-4327-AFE6-E46E6114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EAC-B44D-4E76-B244-17A5F199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2EE-5FDA-4579-A740-1B2C325A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7AF-6312-4D52-A723-EBA42B68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951-4379-438C-9E02-FAC19C3A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68B-B60C-405F-BB72-3D469B4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968E-32EE-4DB3-8240-5D6FC678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Curso: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Economía Comparada</a:t>
            </a: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Argentina – México – Chile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ntonio Lara B.</a:t>
            </a:r>
            <a:br>
              <a:rPr sz="2400"/>
            </a:b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Claudia Escalera M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br>
              <a:rPr sz="4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avera 2009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gund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ro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42920" y="2081160"/>
            <a:ext cx="8786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272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América Siglo X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 su llegada  los españoles encuentran en Chile y Argentina un conjunto de poblaciones distintas, sin rasgos comunes, independientes y con distinto desarrollo cultu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ólo en Perú y México encontraron grandes imperios que abarcaban extensos territorios, tenían una misma tradición cultural y una fuerte autoridad cent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base económica se sucede: caza, pesca, recolección y agricultura; la organización política y social  se comp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caza no requiere establecerse son  pueblos nómades, igual la pesca y la recole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agricultura  es un proceso más complejo, los pueblos se vuelven sedentarios hacen aldeas,.la sociedad crece y se diversif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e pueden distinguir dos períodos; pre-agrícola y agrí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l primero corresponde lo que socio políticamente se llaman bandas, pequeñas agrupaciones de dos a tres familias con una especialización primaria, los hombres dedicados a la caza las mujeres a la recolección. Socialmente iguali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actividad de la agricultura obliga a juntarse, surgen las tribus, con división del trabajo hay que arar, sembrar cosechar, proteger los campos alguien debe dirigir empiezan a surgir los dirigentes y los dirigidos se requieren jef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Argentina</a:t>
            </a:r>
            <a:r>
              <a:rPr b="0" lang="es-CL" sz="2800" spc="-1" strike="noStrike">
                <a:solidFill>
                  <a:srgbClr val="333399"/>
                </a:solidFill>
                <a:latin typeface="Arial"/>
              </a:rPr>
              <a:t>: los humildes orí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Cerca de 300.000 son los indígenas que habitan este territo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Buenos Aires  es fundada en 1580 por  Juan de Ga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País de pampas  y llanuras aptas para la agricultura y la ganad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usencia de minerí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con numerosos grupos indígenas, (bandas y trb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l Noroeste del país los mas evolucionados en la actual  Salta, Jujuy y la Rioja, los Querandíes: cazadores y pescadores, pueblo nómada (bandas) y los Diaguitas el pueblo mas desarrollado expertos alfareros, viven en aldeas hábiles agricultores construían terrazas su dieta era zapallo, papas y maí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Criaban guanacos, llamas y vicuñas hacían tejidos, tenían adornos de cobre y plata, religión se defendían construyendo pucaras. Fueron conquistados por los incas y cambiaron sus dioses animalísticos por los solares de los Incas y su dialecto por el quechua. Eran profundamente espiritu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Tribus casi en desarrollo hacia civi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l noreste los Guaraníes  en Corrientes y Misiones, vivían de la agricultura, maíz, zapallo, viven en rucas, alfareros elementales y viven desnudos. (trib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Matacos y Guaycurúes  alternaban caza y pesca en la agricultura trabajaban las mujeres. (Band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En la Patagonia, tehuelches onas y yaganes pueblos cazadores y pescadores se cubrían con pieles de animales vivían dispersos entre sí, escaso desarrol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e territorio no tiene  el tipo de riquezas buscado por los conquist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2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Chile: Fértil Provi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n Chile habitaban aprox. 1.000.000 de indígenas de distintas etn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Cohabitan  bandas y tribus en prácticamente todo el territo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n el norte los Changos, pueblo dedicado a la caza y luego a la pes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Como tribu destacan los atacameños influenciados por la cultura del Alto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La agrupación mas avanzada fueron los diaguitas, agricultores cultivaban maíz, porotos y zapallo. Domesticaron la llama y el guanaco. Este pueblo estaba camino a constituir una civilización, con la influencia de los In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l valle Central estaba dominado por las tribus  Picunches, agricultores construyeron canales cultivaron además ají, quinoa, papas: Fueron conquistados y absorbidos por los In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n el área Sur existían Bandas nómadas como los Pehuenches, que vivían en pequeños grupos, sin estímulos para desarrollarse y dedicados a la caza: pumas, guanacos y huem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Desde Aconcagua a  Chiloé se hablaba la misma lengua Mapuche y se llaman a sí mismos de igual forma. Sin embargo existieron los picunches al norte del río Itata; araucanos entre el Itata y el río Toltén; y los huilliches entre éste y Chilo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Pueblos agrícolas con escasos instrumentos, vivían en rucas sin constituir aldeas con la familia nuclear, La geografía fue un obstáculo para su unif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n el extremo sur sólo había bandas cercanas a la cos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6:54:43Z</dcterms:created>
  <dc:creator>Vivi</dc:creator>
  <dc:description/>
  <dc:language>en-US</dc:language>
  <cp:lastModifiedBy>Vivi</cp:lastModifiedBy>
  <dcterms:modified xsi:type="dcterms:W3CDTF">2009-08-05T17:54:15Z</dcterms:modified>
  <cp:revision>3</cp:revision>
  <dc:subject/>
  <dc:title>Curso:                  Economía Comparada           Argentina – México – Chile                                  Antonio Lara B.                                                      Claudia Escalera M.  primavera 2009 Segunda Clase</dc:title>
</cp:coreProperties>
</file>