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0D8E-AC77-4F67-84B9-A3ADD1BD3BC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B5CE-DFD3-4D69-AC0C-9E9714D367F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0D0-1CA5-4F02-9839-F1BD05B5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186-8297-4812-8ED4-1D1011F5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E21-B266-4E2B-B2B6-E00012CA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EA7-1E16-4FA6-97B7-D60FE2FF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1E8-B277-4AAC-9E7F-36A8E33E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5F1-F40F-4457-9CBC-37D1BB18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B61-6B14-4080-9803-59BCDC74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08D-D82B-409C-B01B-DF0A7FBF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808-8368-4D25-A8D6-0F58634B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FCD-E5FC-4331-ABFD-B2814265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FE1-8A28-429D-BBEE-EAD2AC2F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E76-4D16-43C5-BA2F-436FF281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088F-5F31-4B24-93D5-28E83B29B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Curso: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Economía Comparada</a:t>
            </a:r>
            <a:br>
              <a:rPr sz="4000"/>
            </a:b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          Argentina – México – Chile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Antonio Lara B.</a:t>
            </a:r>
            <a:br>
              <a:rPr sz="2400"/>
            </a:b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Claudia Escalera M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800"/>
            </a:br>
            <a:br>
              <a:rPr sz="4000"/>
            </a:b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imavera 2009</a:t>
            </a:r>
            <a:br>
              <a:rPr sz="2000"/>
            </a:b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Segund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ro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42920" y="2081160"/>
            <a:ext cx="8786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7272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América Siglo X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A su llegada  los españoles encuentran en Chile y Argentina un conjunto de poblaciones distintas, sin rasgos comunes, independientes y con distinto desarrollo cultu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Sólo en Perú y México encontraron grandes imperios que abarcaban extensos territorios, tenían una misma tradición cultural y una fuerte autoridad cent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 base económica se sucede: caza, pesca, recolección y agricultura; la organización política y social  se comp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 caza no requiere establecerse son  pueblos nómades, igual la pesca y la recole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 agricultura  es un proceso más complejo, los pueblos se vuelven sedentarios hacen aldeas,.la sociedad crece y se diversif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Se pueden distinguir dos períodos; pre-agrícola y agríc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Al primero corresponde lo que socio políticamente se llaman bandas, pequeñas agrupaciones de dos a tres familias con una especialización primaria, los hombres dedicados a la caza las mujeres a la recolección. Socialmente igualita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 actividad de la agricultura obliga a juntarse, surgen las tribus, con división del trabajo hay que arar, sembrar cosechar, proteger los campos alguien debe dirigir empiezan a surgir los dirigentes y los dirigidos se requieren jef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Argentina</a:t>
            </a:r>
            <a:r>
              <a:rPr b="0" lang="es-CL" sz="2800" spc="-1" strike="noStrike">
                <a:solidFill>
                  <a:srgbClr val="333399"/>
                </a:solidFill>
                <a:latin typeface="Arial"/>
              </a:rPr>
              <a:t>: los humildes orí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Cerca de 300.000 son los indígenas que habitan este territo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Buenos Aires  es fundada en 1580 por  Juan de Ga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País de pampas  y llanuras aptas para la agricultura y la ganad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Ausencia de minerí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con numerosos grupos indígenas, (bandas y trb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Al Noroeste del país los mas evolucionados en la actual  Salta, Jujuy y la Rioja, los Querandíes: cazadores y pescadores, pueblo nómada (bandas) y los Diaguitas el pueblo mas desarrollado expertos alfareros, viven en aldeas hábiles agricultores construían terrazas su dieta era zapallo, papas y maí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Criaban guanacos, llamas y vicuñas hacían tejidos, tenían adornos de cobre y plata, religión se defendían construyendo pucaras. Fueron conquistados por los incas y cambiaron sus dioses animalísticos por los solares de los Incas y su dialecto por el quechua. Eran profundamente espiritua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Tribus casi en desarrollo hacia civiliz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Al noreste los Guaraníes  en Corrientes y Misiones, vivían de la agricultura, maíz, zapallo, viven en rucas, alfareros elementales y viven desnudos. (trib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Matacos y Guaycurúes  alternaban caza y pesca en la agricultura trabajaban las mujeres. (Band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En la Patagonia, tehuelches onas y yaganes pueblos cazadores y pescadores se cubrían con pieles de animales vivían dispersos entre sí, escaso desarroll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te territorio no tiene  el tipo de riquezas buscado por los conquista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2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20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Chile: Fértil Provi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En Chile habitaban aprox. 1.000.000 de indígenas de distintas etn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Cohabitan  bandas y tribus en prácticamente todo el territo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En el norte los Changos, pueblo dedicado a la caza y luego a la pes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Como tribu destacan los atacameños influenciados por la cultura del Alto Per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La agrupación mas avanzada fueron los diaguitas, agricultores cultivaban maíz, porotos y zapallo. Domesticaron la llama y el guanaco. Este pueblo estaba camino a constituir una civilización, con la influencia de los In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El valle Central estaba dominado por las tribus  Picunches, agricultores construyeron canales cultivaron además ají, quinoa, papas: Fueron conquistados y absorbidos por los In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En el área Sur existían Bandas nómadas como los Pehuenches, que vivían en pequeños grupos, sin estímulos para desarrollarse y dedicados a la caza: pumas, guanacos y huem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Desde Aconcagua a  Chiloé se hablaba la misma lengua Mapuche y se llaman a sí mismos de igual forma. Sin embargo existieron los picunches al norte del río Itata; araucanos entre el Itata y el río Toltén; y los huilliches entre éste y Chilo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Pueblos agrícolas con escasos instrumentos, vivían en rucas sin constituir aldeas con la familia nuclear, La geografía fue un obstáculo para su unifi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"/>
              </a:rPr>
              <a:t>En el extremo sur sólo había bandas cercanas a la cos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2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6:54:43Z</dcterms:created>
  <dc:creator>Vivi</dc:creator>
  <dc:description/>
  <dc:language>en-US</dc:language>
  <cp:lastModifiedBy>Vivi</cp:lastModifiedBy>
  <dcterms:modified xsi:type="dcterms:W3CDTF">2009-08-05T17:54:15Z</dcterms:modified>
  <cp:revision>3</cp:revision>
  <dc:subject/>
  <dc:title>Curso:                  Economía Comparada           Argentina – México – Chile                                  Antonio Lara B.                                                      Claudia Escalera M.  primavera 2009 Segunda Clase</dc:title>
</cp:coreProperties>
</file>