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840-7233-4437-A4E5-37863D14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C1D-30F8-4FE0-9E06-5E73A2A4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A72-795F-48FD-8722-EDE1D624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8A6-87C6-45B8-8E91-E07484A8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413-B346-4AF3-BA40-75CF5858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AD3-B533-4218-9000-4604162B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292-CEF6-45B0-A1A5-12216951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A9A-D390-43F2-9F2D-C1ACDF8D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42B-75AB-44F4-8267-B061800B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894-A33B-4E3C-A597-1FF8E9F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BF9-1536-4F48-9FE6-804F76F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628-8CED-4E65-84ED-862018D6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0A45-837A-487C-9FE8-9F3EC546C8B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Curso: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Economía Comparada</a:t>
            </a: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Argentina – México – Chile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ntonio Lara B.</a:t>
            </a:r>
            <a:br>
              <a:rPr sz="2400"/>
            </a:b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Claudia Escalera M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br>
              <a:rPr sz="4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avera 2009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er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04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orqué estas Economí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uvieron el mismo colonizador (Españ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e estudia una de las dos civilizaciones pre-hispánicas de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n país está cercano al centro y los otros dos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hile y México tienen afinidades culturales y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xisten diferencias en la partida. Pero en la actualidad están ce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mos elegido un país grande, uno mediano  y uno pequ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General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: el alumno al final del curso habrá adquirido los                           conocimientos   acerca de las estrategias de desarrollo de las economías de Argentina, México y Chile desde su descubrimiento hasta nuestros días, los elementos estructurales más relevantes,  las políticas económicas implementadas con sus éxitos y fracasos, utilizando como hilo conductor  y el rol del Estado en cad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particular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: tener la capacidad de a través del conocimiento de la perspectiva histórica del desarrollo económico de estas economías, de descubrir sus posibilidades y obstáculos en su desarrollo económico presente y futuro e incorporar estos elementos en el diseño y la implementación de las políticas púb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.-   Antes de la Llegada del Conquistador (….-1519, 1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incipales etnias exist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-  Características económicas del territorio y ocupaciones de sus habi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-  Desarrollos comparados de los pueblos prim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I.- 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Conquista y  el Período Colonial  (1521, 1600-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economía Colon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respuesta e incorporación de las etnias originales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 interés del Conquist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Formación de la R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II.-  La Independencia y Formación del Estado  (1810-1830,1870, 19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3-1 1810-18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ausas de la Indepen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imer período de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Hacia la formación de la República, diferentes experiencias y result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ambios geo-políticos: Chile (Guerra del Pacífico, Patagonia);  Argentina                            (Patagonia, migraciones); México ( invasiones extranjeras, pérdida de territo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3-2 1880-1910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hile: consolid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México: Formación del Estado e integración del mercado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rgentina: consolid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V.-  Balance 1810-1910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Políticas de Estado, la participación del Estado en la econom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Resultados económico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Divis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.-   De la Cuestión Social a la Gran Depresión de 1929 (1910-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volución Mexicana y la revolución  institucio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hile, la Cuest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gentina, la Cuest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os tres países frente a la Gran Depresión de   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depresión en el mundo. Causas y 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fectos en  nuestr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.-  El Crecimiento hacia Adentro.  (1929-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 nueva teoría del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talecimiento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inamismo de los s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incipale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agotamiento d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I.-  Balance 1910-19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olíticas de Estado, la participación del Estado en la economí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sultad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ivis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sarrollo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Hitos del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forma Agraria y Nacionalización del Cobre en Ch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Peronismo en Argentin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forma Agraria y Expropiación Petrolera en Méx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III.-  El Modelo de  Apertura al Exterior (1973-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ambio de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incipales Reformas, la función del Estado de productor a, en el mejor de los casos, regulador. Privatiza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risis de los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solidación y Cr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X.-    En la Búsqueda de la Equidad. (1990-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 que cambia y lo que se ma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s Políticas Sociales.(Educación, Salud, Protección Social, Pobreza y vivie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impulso a la Infra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s Tratados de Libre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.- Balance 1973-2009 y desafíos pendiente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olíticas de Estado, la participación del Estado en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Resultados 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Divi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Desarroll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Monografías:       30 %   (dos monografías, 15% cada una comparando dos paí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troles cortos: 40%     (quince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ueba final: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sistencia:           50%    (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aracterístic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052640"/>
          <a:ext cx="4038480" cy="2157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blación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mill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  40.914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 16.928.8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   103.263.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43280" y="1052640"/>
          <a:ext cx="4038840" cy="21142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PGB)(m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ll US$)   </a:t>
                      </a:r>
                      <a:r>
                        <a:rPr b="1" lang="es-ES_tradnl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Cáp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326        9.8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170     10.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 1.088     10.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500280"/>
          <a:ext cx="4038480" cy="2216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perficie   K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2.780.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  755.83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</a:t>
                      </a: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964 .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648320" y="3500280"/>
          <a:ext cx="4038480" cy="32245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cha independ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 Mayo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  Julio   18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 Septiembre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Febrero      18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 Septiembre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7 Septiembre 1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6:57:32Z</dcterms:created>
  <dc:creator>Vivi</dc:creator>
  <dc:description/>
  <dc:language>en-US</dc:language>
  <cp:lastModifiedBy>Vivi</cp:lastModifiedBy>
  <dcterms:modified xsi:type="dcterms:W3CDTF">2009-08-05T17:10:10Z</dcterms:modified>
  <cp:revision>2</cp:revision>
  <dc:subject/>
  <dc:title>Curso:                  Economía Comparada           Argentina – México – Chile                                  Antonio Lara B.                                                      Claudia Escalera M.  primavera 2009 Primera Clase</dc:title>
</cp:coreProperties>
</file>