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0A2-399D-443B-A13F-C85407C3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165-3D77-460B-84CD-AF02F4F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C65-FE22-4EDC-8B4A-4F443978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BA3-BF59-4BB4-89DA-3319F886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074-1AE9-446A-8CF4-5862CC5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F46-B065-4530-88FC-84F5C80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199-A672-4052-A1ED-EC2536A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30C-7435-4C45-A0E2-8F50988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329-EBAC-4017-BC85-CC42E51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2C8-3C5F-4F4C-9677-59C5F20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7C7-A37A-4051-ABC1-D4BEE7F6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E98-C25C-4EA1-B3A3-2C0E589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FDD9-F9E8-4A96-94E3-9CBA548E274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er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4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orqué estas Economí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uvieron el mismo colonizador (Españ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e estudia una de las dos civilizaciones pre-hispánicas de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n país está cercano al centro y los otros dos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hile y México tienen afinidades culturales y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xisten diferencias en la partida. Pero en la actualidad están ce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mos elegido un país grande, uno mediano  y uno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General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el alumno al final del curso habrá adquirido los                           conocimientos   acerca de las estrategias de desarrollo de las economías de Argentina, México y Chile desde su descubrimiento hasta nuestros días, los elementos estructurales más relevantes,  las políticas económicas implementadas con sus éxitos y fracasos, utilizando como hilo conductor  y el rol del Estado en cad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particular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tener la capacidad de a través del conocimiento de la perspectiva histórica del desarrollo económico de estas economías, de descubrir sus posibilidades y obstáculos en su desarrollo económico presente y futuro e incorporar estos elementos en el diseño y la implementación de las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.-   Antes de la Llegada del Conquistador (….-1519, 1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ncipales etnias exist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Características económicas del territorio y ocupaciones de sus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Desarrollos comparados de los pueblos prim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.- 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Conquista y  el Período Colonial  (1521, 1600-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economía Colon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respuesta e incorporación de las etnias originales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 interés del Conquist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I.-  La Independencia y Formación del Estado  (1810-1830,1870, 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1 1810-1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usas de la Indepen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mer período de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Hacia la formación de la República, diferentes experiencias y result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mbios geo-políticos: Chile (Guerra del Pacífico, Patagonia);  Argentina                            (Patagonia, migraciones); México ( invasiones extranjeras, pérdida de territo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2 1880-1910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hile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éxico: Formación del Estado e integración del mercado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rgentina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V.-  Balance 1810-1910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Políticas de Estado, la participación del Estado en la econom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Resultados económico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Divis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.-   De la Cuestión Social a la Gran Depresión de 1929 (1910-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volución Mexicana y la revolución  instituci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hile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gentina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os tres países frente a la Gran Depresión de   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depresión en el mundo. Causas y 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fectos en  nues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.-  El Crecimiento hacia Adentro.  (1929-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 nueva teoría del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cimiento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namismo de l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agotamiento d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I.-  Balance 1910-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itos del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Nacionalización del Cobre en Ch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Peronismo en Argentin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Expropiación Petrolera en Méx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III.-  El Modelo de  Apertura al Exterior (197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mbio de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formas, la función del Estado de productor a, en el mejor de los casos, regulador. Privatiz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isis de lo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solidación y Cr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X.-    En la Búsqueda de la Equidad. (1990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 que cambia y lo que se ma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Políticas Sociales.(Educación, Salud, Protección Social, Pobreza y vivie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impulso a la Infra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Tratados de Libr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.- Balance 1973-2009 y desafíos pendient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Monografías:       30 %   (dos monografías, 15% cada una comparando dos paí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troles cortos: 40%     (quince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ueba final: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sistencia:           50%    (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aracterístic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052640"/>
          <a:ext cx="4038480" cy="2157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blación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ll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40.91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16.928.8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  103.263.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3280" y="1052640"/>
          <a:ext cx="4038840" cy="2114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PGB)(m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ll US$)   </a:t>
                      </a:r>
                      <a:r>
                        <a:rPr b="1" lang="es-ES_tradnl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á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326        9.8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170     10.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1.088     10.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500280"/>
          <a:ext cx="4038480" cy="2216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perficie   K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2.780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 755.83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</a:t>
                      </a: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964 .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48320" y="3500280"/>
          <a:ext cx="4038480" cy="3224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cha independ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 Mayo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  Julio   1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Febrero      18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 Septiembre 1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7:32Z</dcterms:created>
  <dc:creator>Vivi</dc:creator>
  <dc:description/>
  <dc:language>en-US</dc:language>
  <cp:lastModifiedBy>Vivi</cp:lastModifiedBy>
  <dcterms:modified xsi:type="dcterms:W3CDTF">2009-08-05T17:10:10Z</dcterms:modified>
  <cp:revision>2</cp:revision>
  <dc:subject/>
  <dc:title>Curso:                  Economía Comparada           Argentina – México – Chile                                  Antonio Lara B.                                                      Claudia Escalera M.  primavera 2009 Primera Clase</dc:title>
</cp:coreProperties>
</file>