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EAE-AA20-4D31-B3C5-C143C81B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D72-9436-4293-BC66-341402B3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2A9-56BF-4853-AF9A-C2847A23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A4E-6249-4C70-822D-8DD22671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774-1C5F-4FFE-A47A-28C428CB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FB4-AC47-4C6A-A53E-DD3A1F73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5D5-CC4A-419A-AF60-2E352094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614-D5BC-4570-8429-D8B087B0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D49-04E3-450B-8D6B-63786676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E32-4EE9-4FCA-92EC-32FAE73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89F-D535-42B6-9CD7-CE434E70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A86-4B73-4410-8F04-53CD89F5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9FF1-A7FE-4E12-B7F2-0731354CFDE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Curso: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Economía Comparada</a:t>
            </a: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Argentina – México – Chile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ntonio Lara B.</a:t>
            </a:r>
            <a:br>
              <a:rPr sz="2400"/>
            </a:b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Claudia Escalera M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br>
              <a:rPr sz="4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avera 2009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er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04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orqué estas Economí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uvieron el mismo colonizador (Españ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e estudia una de las dos civilizaciones pre-hispánicas de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Un país está cercano al centro y los otros dos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hile y México tienen afinidades culturales y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xisten diferencias en la partida. Pero en la actualidad están ce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mos elegido un país grande, uno mediano  y uno pequ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General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: el alumno al final del curso habrá adquirido los                           conocimientos   acerca de las estrategias de desarrollo de las economías de Argentina, México y Chile desde su descubrimiento hasta nuestros días, los elementos estructurales más relevantes,  las políticas económicas implementadas con sus éxitos y fracasos, utilizando como hilo conductor  y el rol del Estado en cada ec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jetivo particular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: tener la capacidad de a través del conocimiento de la perspectiva histórica del desarrollo económico de estas economías, de descubrir sus posibilidades y obstáculos en su desarrollo económico presente y futuro e incorporar estos elementos en el diseño y la implementación de las políticas públ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.-   Antes de la Llegada del Conquistador (….-1519, 1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s-ES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incipales etnias exist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-  Características económicas del territorio y ocupaciones de sus habit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-  Desarrollos comparados de los pueblos prim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I.- 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Conquista y  el Período Colonial  (1521, 1600-18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economía Colon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respuesta e incorporación de las etnias originales.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l interés del Conquist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Formación de la R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II.-  La Independencia y Formación del Estado  (1810-1830,1870, 19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3-1 1810-18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ausas de la Indepen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Primer período de Aut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Hacia la formación de la República, diferentes experiencias y result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ambios geo-políticos: Chile (Guerra del Pacífico, Patagonia);  Argentina                            (Patagonia, migraciones); México ( invasiones extranjeras, pérdida de territor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3-2 1880-1910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hile: consolidación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México: Formación del Estado e integración del mercado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rgentina: consolidación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V.-  Balance 1810-1910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Políticas de Estado, la participación del Estado en la econom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Resultados económico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-   Divis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.-   De la Cuestión Social a la Gran Depresión de 1929 (1910-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volución Mexicana y la revolución  institucion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hile, la Cuest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gentina, la Cuest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os tres países frente a la Gran Depresión de   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-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depresión en el mundo. Causas y 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fectos en  nuestr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I.-  El Crecimiento hacia Adentro.  (1929-19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 nueva teoría del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talecimiento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inamismo de los s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incipale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agotamiento d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II.-  Balance 1910-19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olíticas de Estado, la participación del Estado en la economí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sultad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ivis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sarrollo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Hitos del perí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forma Agraria y Nacionalización del Cobre en Chi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Peronismo en Argentin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Reforma Agraria y Expropiación Petrolera en Méx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III.-  El Modelo de  Apertura al Exterior (1973-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ambio de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incipales Reformas, la función del Estado de productor a, en el mejor de los casos, regulador. Privatiza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risis de los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solidación y Cre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X.-    En la Búsqueda de la Equidad. (1990-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 que cambia y lo que se ma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s Políticas Sociales.(Educación, Salud, Protección Social, Pobreza y vivie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impulso a la Infra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os Tratados de Libre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X.- Balance 1973-2009 y desafíos pendiente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recimiento económico y distribución del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olíticas de Estado, la participación del Estado en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Resultados 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Divi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Desarroll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valuación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Monografías:       30 %   (dos monografías, 15% cada una comparando dos paí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troles cortos: 40%     (quince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ueba final: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sistencia:           50%    (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aracterístic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052640"/>
          <a:ext cx="4038480" cy="2157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blación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mill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  40.914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 16.928.8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   103.263.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43280" y="1052640"/>
          <a:ext cx="4038840" cy="21142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PGB)(m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ll US$)   </a:t>
                      </a:r>
                      <a:r>
                        <a:rPr b="1" lang="es-ES_tradnl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er Cáp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326        9.8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170     10.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 1.088     10.2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500280"/>
          <a:ext cx="4038480" cy="2216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perficie   K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2.780.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       755.83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 </a:t>
                      </a:r>
                      <a:r>
                        <a:rPr b="0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964 .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648320" y="3500280"/>
          <a:ext cx="4038480" cy="32245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echa independ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gentina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 Mayo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9  Julio   18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le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 Septiembre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Febrero      18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éxico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 Septiembre 18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s-ES_tradn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7 Septiembre 1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6:57:32Z</dcterms:created>
  <dc:creator>Vivi</dc:creator>
  <dc:description/>
  <dc:language>en-US</dc:language>
  <cp:lastModifiedBy>Vivi</cp:lastModifiedBy>
  <dcterms:modified xsi:type="dcterms:W3CDTF">2009-08-05T17:10:10Z</dcterms:modified>
  <cp:revision>2</cp:revision>
  <dc:subject/>
  <dc:title>Curso:                  Economía Comparada           Argentina – México – Chile                                  Antonio Lara B.                                                      Claudia Escalera M.  primavera 2009 Primera Clase</dc:title>
</cp:coreProperties>
</file>