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617F-E54A-4D56-B4E4-6A64F73A0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8B19-BD64-48E6-B1B5-455BC5D1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2F93-CED0-4D2E-BA61-CA9AB89FC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A653-3BFF-4149-8060-8CCA7091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0FC1-D416-4895-BBDF-FAD951D9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1D98-AA08-463C-99A1-43E041E3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EDBC-2AD7-4C43-A3A2-236106C9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4317-23CB-4011-A502-F35339AE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9F21-13E2-40BC-8F8E-0E09F967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64CC-31FE-4038-94A3-28DD2667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2D56-D128-454E-9707-E3E26F3C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BDE5-215B-4837-BDFE-C3872689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5832-D027-447C-88F5-F29A343C4CC8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Curso: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0" lang="es-ES_tradnl" sz="4000" spc="-1" strike="noStrike">
                <a:solidFill>
                  <a:srgbClr val="333399"/>
                </a:solidFill>
                <a:latin typeface="Arial"/>
              </a:rPr>
              <a:t>Economía Comparada</a:t>
            </a:r>
            <a:br>
              <a:rPr sz="4000"/>
            </a:br>
            <a:r>
              <a:rPr b="0" lang="es-ES_tradnl" sz="4000" spc="-1" strike="noStrike">
                <a:solidFill>
                  <a:srgbClr val="333399"/>
                </a:solidFill>
                <a:latin typeface="Arial"/>
              </a:rPr>
              <a:t>          Argentina – México – Chile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333399"/>
                </a:solidFill>
                <a:latin typeface="Arial"/>
              </a:rPr>
              <a:t>                                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Antonio Lara B.</a:t>
            </a:r>
            <a:br>
              <a:rPr sz="2400"/>
            </a:b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                                                    Claudia Escalera M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.</a:t>
            </a:r>
            <a:br>
              <a:rPr sz="2800"/>
            </a:br>
            <a:br>
              <a:rPr sz="4000"/>
            </a:b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primavera 2009</a:t>
            </a:r>
            <a:br>
              <a:rPr sz="2000"/>
            </a:b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Primera C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040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Porqué estas Economí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5280" y="1197000"/>
            <a:ext cx="842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uvieron el mismo colonizador (Españ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Se estudia una de las dos civilizaciones pre-hispánicas de Amé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Un país está cercano al centro y los otros dos 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Chile y México tienen afinidades culturales y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xisten diferencias en la partida. Pero en la actualidad están cer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Hemos elegido un país grande, uno mediano  y uno peque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Objetivo General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: el alumno al final del curso habrá adquirido los                           conocimientos   acerca de las estrategias de desarrollo de las economías de Argentina, México y Chile desde su descubrimiento hasta nuestros días, los elementos estructurales más relevantes,  las políticas económicas implementadas con sus éxitos y fracasos, utilizando como hilo conductor  y el rol del Estado en cada econom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Objetivo particular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: tener la capacidad de a través del conocimiento de la perspectiva histórica del desarrollo económico de estas economías, de descubrir sus posibilidades y obstáculos en su desarrollo económico presente y futuro e incorporar estos elementos en el diseño y la implementación de las políticas públ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549360"/>
            <a:ext cx="828036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I.-   Antes de la Llegada del Conquistador (….-1519, 15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es-ES" sz="1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Principales etnias existe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-  Características económicas del territorio y ocupaciones de sus habita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-  Desarrollos comparados de los pueblos primitiv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II.-  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a Conquista y  el Período Colonial  (1521, 1600-18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La economía Colon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La respuesta e incorporación de las etnias originales.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El interés del Conquistad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Formación de la Ra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III.-  La Independencia y Formación del Estado  (1810-1830,1870, 19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3-1 1810-18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Causas de la Independ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Primer período de Autonom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Hacia la formación de la República, diferentes experiencias y resultad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Cambios geo-políticos: Chile (Guerra del Pacífico, Patagonia);  Argentina                            (Patagonia, migraciones); México ( invasiones extranjeras, pérdida de territor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3-2 1880-1910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Chile: consolidación económ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México: Formación del Estado e integración del mercado</a:t>
            </a: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Argentina: consolidación económ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IV.-  Balance 1810-1910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recimiento económico y distribución del ingr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-   Políticas de Estado, la participación del Estado en la economí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-   Resultados económico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-   Divis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V.-   De la Cuestión Social a la Gran Depresión de 1929 (1910-19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-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Revolución Mexicana y la revolución  institucion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-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hile, la Cuest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-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Argentina, la Cuest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-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stos tres países frente a la Gran Depresión de    19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-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a depresión en el mundo. Causas y Consecu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fectos en  nuestros paí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VI.-  El Crecimiento hacia Adentro.  (1929-197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La nueva teoría del desarrol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Fortalecimiento del Es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Dinamismo de los se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Principales resul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El agotamiento del mod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VII.-  Balance 1910-197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Crecimiento económico y distribución del ingr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Políticas de Estado, la participación del Estado en la economí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Resultados económ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Divis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Desarrollo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Hitos del perí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Reforma Agraria y Nacionalización del Cobre en Chi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el Peronismo en Argentina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Reforma Agraria y Expropiación Petrolera en Méxi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VIII.-  El Modelo de  Apertura al Exterior (1973-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Cambio de mod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Principales Reformas, la función del Estado de productor a, en el mejor de los casos, regulador. Privatizacion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Crisis de los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Consolidación y Crec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IX.-    En la Búsqueda de la Equidad. (1990-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Lo que cambia y lo que se manti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Las Políticas Sociales.(Educación, Salud, Protección Social, Pobreza y vivien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El impulso a la Infraestru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Los Tratados de Libre Comer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X.- Balance 1973-2009 y desafíos pendientes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Crecimiento económico y distribución del ingr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olíticas de Estado, la participación del Estado en la economí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Resultados económ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División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Desarrollo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Monografías:       30 %   (dos monografías, 15% cada una comparando dos paí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Controles cortos: 40%     (quincen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Prueba final:       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Asistencia:           50%    (mínim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aracterísticas Ge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052640"/>
          <a:ext cx="4038480" cy="21571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oblación    </a:t>
                      </a: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millon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rgentina      40.914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hile             16.928.8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éxico        103.263.3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643280" y="1052640"/>
          <a:ext cx="4038840" cy="2114280"/>
        </p:xfrm>
        <a:graphic>
          <a:graphicData uri="http://schemas.openxmlformats.org/drawingml/2006/table">
            <a:tbl>
              <a:tblPr/>
              <a:tblGrid>
                <a:gridCol w="4038840"/>
              </a:tblGrid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PGB)(m</a:t>
                      </a: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ill US$)   </a:t>
                      </a:r>
                      <a:r>
                        <a:rPr b="1" lang="es-ES_tradnl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er Cáp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rgentina    326        9.8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hile            170     10.1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éxico      1.088     10.2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57200" y="3500280"/>
          <a:ext cx="4038480" cy="22161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uperficie   Km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rgentina    2.780.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hile              755.83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éxico     </a:t>
                      </a:r>
                      <a:r>
                        <a:rPr b="0" lang="es-ES_trad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964 .3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648320" y="3500280"/>
          <a:ext cx="4038480" cy="32245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echa independ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rgentina      </a:t>
                      </a: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5 Mayo 18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                       </a:t>
                      </a: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  Julio   18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hile       </a:t>
                      </a: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8 Septiembre 18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2 Febrero      18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éxico    </a:t>
                      </a: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6 Septiembre 18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7 Septiembre 18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16:57:32Z</dcterms:created>
  <dc:creator>Vivi</dc:creator>
  <dc:description/>
  <dc:language>en-US</dc:language>
  <cp:lastModifiedBy>Vivi</cp:lastModifiedBy>
  <dcterms:modified xsi:type="dcterms:W3CDTF">2009-08-05T17:10:10Z</dcterms:modified>
  <cp:revision>2</cp:revision>
  <dc:subject/>
  <dc:title>Curso:                  Economía Comparada           Argentina – México – Chile                                  Antonio Lara B.                                                      Claudia Escalera M.  primavera 2009 Primera Clase</dc:title>
</cp:coreProperties>
</file>